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27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3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2DC0-AE87-4B09-88B6-53DE4AE3FA1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BED1-4D73-4C8E-AA5F-DE2A95C88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729A-3C57-4EF2-89E8-25E4249E23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FC94-4ECB-401E-B060-84B78DC41D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7761-4BB2-4381-B7D6-6FCEB249D9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362-CD73-43BF-9A9E-9A4FA7B8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91A-CFE7-43EE-9383-4783CEB2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824-2643-43E4-9BA1-9A55C9CE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8F8-52E1-4E2C-8CB0-ACF9512B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3DB-5A6B-42F4-8639-AEE28A92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74D-1842-4AD2-919A-1C971F0E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E2A-926E-4A96-B7F8-BA3938BD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CC8-6699-4EC9-8B2C-58296124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85A3-0306-4C9E-9514-DFB98A1F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80E-A541-4862-ACEF-16D8382F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A11-0D0E-4BEE-BB2E-04C1CA9B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25A-A992-48B7-AD51-9FD9E788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24F5-897E-435B-A8E0-8B5B5296F9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1557360"/>
            <a:ext cx="799308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GAalenBold"/>
              </a:rPr>
              <a:t>Дни Министерства образования и науки                    Челябинской области в Снежинском городском округ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4920" y="6021360"/>
            <a:ext cx="9109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440px-Coat_of_arms_of_Chelyabinsk_Oblast"/>
          <p:cNvPicPr/>
          <p:nvPr/>
        </p:nvPicPr>
        <p:blipFill>
          <a:blip r:embed="rId1"/>
          <a:stretch/>
        </p:blipFill>
        <p:spPr>
          <a:xfrm>
            <a:off x="119160" y="11592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oat_of_Arms_of_Snezhinsk_(Chelyabinsk_oblast)"/>
          <p:cNvPicPr/>
          <p:nvPr/>
        </p:nvPicPr>
        <p:blipFill>
          <a:blip r:embed="rId2"/>
          <a:stretch/>
        </p:blipFill>
        <p:spPr>
          <a:xfrm>
            <a:off x="8029440" y="260280"/>
            <a:ext cx="82404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-3240" y="6359400"/>
            <a:ext cx="914400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Black"/>
              </a:rPr>
              <a:t>18 октября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10"/>
          <p:cNvGraphicFramePr/>
          <p:nvPr/>
        </p:nvGraphicFramePr>
        <p:xfrm>
          <a:off x="-684360" y="1633680"/>
          <a:ext cx="6910560" cy="374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4360" y="1633680"/>
                    <a:ext cx="69105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8"/>
          <p:cNvGraphicFramePr/>
          <p:nvPr/>
        </p:nvGraphicFramePr>
        <p:xfrm>
          <a:off x="3795840" y="3051000"/>
          <a:ext cx="6824520" cy="3691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95840" y="3051000"/>
                    <a:ext cx="682452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Соотношение частей ФОТ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в школах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1224000" y="1341360"/>
            <a:ext cx="284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GAalenBold"/>
              </a:rPr>
              <a:t>I квартал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5689440" y="2708280"/>
            <a:ext cx="284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GAalenBold"/>
              </a:rPr>
              <a:t>Сентябрь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Средняя заработная плата работников    дошкольных образовательных учреждений  в сентябре 2011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73280"/>
          <a:ext cx="8229600" cy="3268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87640"/>
                <a:gridCol w="2027160"/>
              </a:tblGrid>
              <a:tr h="14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ические ра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П+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6 054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6 265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28 675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8 735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Изменение средней заработной платы работников МДОУ</a:t>
            </a:r>
            <a:r>
              <a:rPr b="1" lang="en-US" sz="2400" spc="-1" strike="noStrike">
                <a:solidFill>
                  <a:srgbClr val="cc0000"/>
                </a:solidFill>
                <a:latin typeface="AGAalenBold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      г. Снежи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9"/>
          <p:cNvGrpSpPr/>
          <p:nvPr/>
        </p:nvGrpSpPr>
        <p:grpSpPr>
          <a:xfrm>
            <a:off x="179280" y="907920"/>
            <a:ext cx="8569440" cy="4953240"/>
            <a:chOff x="179280" y="907920"/>
            <a:chExt cx="8569440" cy="4953240"/>
          </a:xfrm>
        </p:grpSpPr>
        <p:graphicFrame>
          <p:nvGraphicFramePr>
            <p:cNvPr id="106" name="Object 3"/>
            <p:cNvGraphicFramePr/>
            <p:nvPr/>
          </p:nvGraphicFramePr>
          <p:xfrm>
            <a:off x="1042920" y="907920"/>
            <a:ext cx="7705800" cy="495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42920" y="907920"/>
                      <a:ext cx="7705800" cy="495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 Box 4"/>
            <p:cNvSpPr/>
            <p:nvPr/>
          </p:nvSpPr>
          <p:spPr>
            <a:xfrm>
              <a:off x="179280" y="5084640"/>
              <a:ext cx="14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1403280" y="4545000"/>
              <a:ext cx="7192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2197080" y="4402080"/>
              <a:ext cx="719280" cy="61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ент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3274920" y="4545000"/>
              <a:ext cx="7192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4068720" y="4402080"/>
              <a:ext cx="719280" cy="61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ент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5076720" y="4545000"/>
              <a:ext cx="7192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5870520" y="4402080"/>
              <a:ext cx="719280" cy="61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ент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6946920" y="4545000"/>
              <a:ext cx="7192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7740720" y="4402080"/>
              <a:ext cx="718920" cy="61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ент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0"/>
          <p:cNvGrpSpPr/>
          <p:nvPr/>
        </p:nvGrpSpPr>
        <p:grpSpPr>
          <a:xfrm>
            <a:off x="34920" y="5624640"/>
            <a:ext cx="8353440" cy="520560"/>
            <a:chOff x="34920" y="5624640"/>
            <a:chExt cx="8353440" cy="520560"/>
          </a:xfrm>
        </p:grpSpPr>
        <p:sp>
          <p:nvSpPr>
            <p:cNvPr id="118" name="Text Box 5"/>
            <p:cNvSpPr/>
            <p:nvPr/>
          </p:nvSpPr>
          <p:spPr>
            <a:xfrm>
              <a:off x="34920" y="5646600"/>
              <a:ext cx="14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 Black"/>
                </a:rPr>
                <a:t>ро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6"/>
            <p:cNvSpPr/>
            <p:nvPr/>
          </p:nvSpPr>
          <p:spPr>
            <a:xfrm>
              <a:off x="1474920" y="5624640"/>
              <a:ext cx="14032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 Black"/>
                </a:rPr>
                <a:t>13,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3313080" y="5624640"/>
              <a:ext cx="14032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 Black"/>
                </a:rPr>
                <a:t>43,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5113440" y="5624640"/>
              <a:ext cx="14032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 Black"/>
                </a:rPr>
                <a:t>35,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9"/>
            <p:cNvSpPr/>
            <p:nvPr/>
          </p:nvSpPr>
          <p:spPr>
            <a:xfrm>
              <a:off x="6985080" y="5624640"/>
              <a:ext cx="14032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 Black"/>
                </a:rPr>
                <a:t>23,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1187280" y="5661000"/>
              <a:ext cx="144720" cy="360360"/>
            </a:xfrm>
            <a:prstGeom prst="upArrow">
              <a:avLst>
                <a:gd name="adj1" fmla="val 50000"/>
                <a:gd name="adj2" fmla="val 6225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Соотношение частей ФОТ в МДОУ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224000" y="1341360"/>
            <a:ext cx="284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GAalenBold"/>
              </a:rPr>
              <a:t>I квартал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689440" y="2637000"/>
            <a:ext cx="284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GAalenBold"/>
              </a:rPr>
              <a:t>Сентябрь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-828720" y="1379520"/>
          <a:ext cx="6715080" cy="370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28720" y="1379520"/>
                    <a:ext cx="671508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8"/>
          <p:cNvGraphicFramePr/>
          <p:nvPr/>
        </p:nvGraphicFramePr>
        <p:xfrm>
          <a:off x="3708360" y="3003480"/>
          <a:ext cx="6912000" cy="3738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3003480"/>
                    <a:ext cx="691200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0920" y="1557360"/>
            <a:ext cx="799308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66"/>
                </a:solidFill>
                <a:latin typeface="AGAalenBold"/>
              </a:rPr>
              <a:t>Дни Министерства образования и науки                    Челябинской области в Снежинском городском округ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4920" y="6021360"/>
            <a:ext cx="9109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440px-Coat_of_arms_of_Chelyabinsk_Oblast"/>
          <p:cNvPicPr/>
          <p:nvPr/>
        </p:nvPicPr>
        <p:blipFill>
          <a:blip r:embed="rId1"/>
          <a:stretch/>
        </p:blipFill>
        <p:spPr>
          <a:xfrm>
            <a:off x="119160" y="11592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oat_of_Arms_of_Snezhinsk_(Chelyabinsk_oblast)"/>
          <p:cNvPicPr/>
          <p:nvPr/>
        </p:nvPicPr>
        <p:blipFill>
          <a:blip r:embed="rId2"/>
          <a:stretch/>
        </p:blipFill>
        <p:spPr>
          <a:xfrm>
            <a:off x="8029440" y="260280"/>
            <a:ext cx="82404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-3240" y="6359400"/>
            <a:ext cx="914400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Black"/>
              </a:rPr>
              <a:t>18 октября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93080" cy="34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ru-RU" sz="4200" spc="-1" strike="noStrike">
                <a:solidFill>
                  <a:srgbClr val="000066"/>
                </a:solidFill>
                <a:latin typeface="AGAalenBold"/>
              </a:rPr>
              <a:t>Дни Министерства образования и науки                    Челябинской области в Снежинском городском округ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74840" y="398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Начальник Управления образования г. Снежинска                   Б.М.Бекк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4920" y="6021360"/>
            <a:ext cx="9109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440px-Coat_of_arms_of_Chelyabinsk_Oblast"/>
          <p:cNvPicPr/>
          <p:nvPr/>
        </p:nvPicPr>
        <p:blipFill>
          <a:blip r:embed="rId2"/>
          <a:stretch/>
        </p:blipFill>
        <p:spPr>
          <a:xfrm>
            <a:off x="119160" y="11592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Coat_of_Arms_of_Snezhinsk_(Chelyabinsk_oblast)"/>
          <p:cNvPicPr/>
          <p:nvPr/>
        </p:nvPicPr>
        <p:blipFill>
          <a:blip r:embed="rId3"/>
          <a:stretch/>
        </p:blipFill>
        <p:spPr>
          <a:xfrm>
            <a:off x="8029440" y="260280"/>
            <a:ext cx="824040" cy="100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-3240" y="6359400"/>
            <a:ext cx="914400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Black"/>
              </a:rPr>
              <a:t>18 октября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19120" y="6188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иобретение оборудования (учебно-лабораторного, учебно-производственного, спортивного, компьютерного, медицинского и для школьных столовых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полнение фондов школьных библиоте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азвитие школьной инфраструктуры (текущий ремонт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вышение квалификации, профессиональная переподготовка учителей и руководителе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рганизация дистанционного обучения для обучающих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существление мер, направленных на энергосбережение в системе общего образова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иобретение транспортных средств для подвоза школь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GAalenBold"/>
              </a:rPr>
              <a:t>Расходы по модернизации общего образования   в 2011 году, тыс.ру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36"/>
          <p:cNvGrpSpPr/>
          <p:nvPr/>
        </p:nvGrpSpPr>
        <p:grpSpPr>
          <a:xfrm>
            <a:off x="971640" y="1700280"/>
            <a:ext cx="7699320" cy="3816360"/>
            <a:chOff x="971640" y="1700280"/>
            <a:chExt cx="7699320" cy="3816360"/>
          </a:xfrm>
        </p:grpSpPr>
        <p:graphicFrame>
          <p:nvGraphicFramePr>
            <p:cNvPr id="62" name="Object 7"/>
            <p:cNvGraphicFramePr/>
            <p:nvPr/>
          </p:nvGraphicFramePr>
          <p:xfrm>
            <a:off x="971640" y="2413080"/>
            <a:ext cx="7480080" cy="31035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3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2413080"/>
                      <a:ext cx="7480080" cy="310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Rectangle 32"/>
            <p:cNvSpPr/>
            <p:nvPr/>
          </p:nvSpPr>
          <p:spPr>
            <a:xfrm>
              <a:off x="1116000" y="3716280"/>
              <a:ext cx="187344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риобретение оборудова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3"/>
            <p:cNvSpPr/>
            <p:nvPr/>
          </p:nvSpPr>
          <p:spPr>
            <a:xfrm>
              <a:off x="2641680" y="1700280"/>
              <a:ext cx="2232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Развитие школьной инфраструктур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4"/>
            <p:cNvSpPr/>
            <p:nvPr/>
          </p:nvSpPr>
          <p:spPr>
            <a:xfrm>
              <a:off x="4572000" y="4149720"/>
              <a:ext cx="188748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овышение квалификац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5"/>
            <p:cNvSpPr/>
            <p:nvPr/>
          </p:nvSpPr>
          <p:spPr>
            <a:xfrm>
              <a:off x="6443640" y="4221000"/>
              <a:ext cx="22273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Энергосбережен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760320" y="244440"/>
          <a:ext cx="7772400" cy="67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244440"/>
                    <a:ext cx="7772400" cy="67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19120" y="54936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ичество обучающихся в общеобразовательных учреждениях, отвечающих современным требованиям, предъявляемым к условиям образовательного процесса –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я учителей , получивших в установленном порядке первую, высшую квалификационную категорию и подтвердивших соответствие занимаемой должности –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я школьников, получающих начальное общее образование в соответствии с ФГОСами –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я учителей и руководителей, прошедших повышение квалификации в соответствии с ФГОСами –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я выпускников, получивших аттестат о среднем образовании –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я обучающихся в общеобразовательных учреждениях, которым оказана поддержка в рамках программы поддержки одаренных детей и талантливой молодежи –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дельный вес общеобразовательных учреждений, в которых созданы от 81% до 100% условий для реализации федеральных требований в части охраны здоровья обучающихся –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Заработная плата учителей школ г. Снежинска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в сентябре 2011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484280"/>
          <a:ext cx="8229600" cy="3888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87640"/>
                <a:gridCol w="2027160"/>
              </a:tblGrid>
              <a:tr h="213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пл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ней нагрузки на учителя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ставк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             максимальной заработной платы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учетом установленной нагруз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753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21 0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   </a:t>
                      </a: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8 011                 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 </a:t>
                      </a: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- 24 46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,17-1,8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   </a:t>
                      </a: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24 329                         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 </a:t>
                      </a: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- 39 0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Средняя заработная плата работников общеобразовательных учреждений г. Снежинска               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в сентябре 2011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859040"/>
          <a:ext cx="8229600" cy="3370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87640"/>
                <a:gridCol w="2027160"/>
              </a:tblGrid>
              <a:tr h="13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едагогические  ра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П+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3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21 014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7 044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29 523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   </a:t>
                      </a:r>
                      <a:r>
                        <a:rPr b="1" lang="ru-RU" sz="29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7 334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Изменение средней заработной платы работников школ</a:t>
            </a:r>
            <a:r>
              <a:rPr b="1" lang="en-US" sz="2400" spc="-1" strike="noStrike">
                <a:solidFill>
                  <a:srgbClr val="cc0000"/>
                </a:solidFill>
                <a:latin typeface="AGAalenBold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GAalenBold"/>
              </a:rPr>
              <a:t>  г. Снежи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55"/>
          <p:cNvGrpSpPr/>
          <p:nvPr/>
        </p:nvGrpSpPr>
        <p:grpSpPr>
          <a:xfrm>
            <a:off x="34920" y="5589720"/>
            <a:ext cx="8353440" cy="555480"/>
            <a:chOff x="34920" y="5589720"/>
            <a:chExt cx="8353440" cy="555480"/>
          </a:xfrm>
        </p:grpSpPr>
        <p:sp>
          <p:nvSpPr>
            <p:cNvPr id="77" name="Text Box 26"/>
            <p:cNvSpPr/>
            <p:nvPr/>
          </p:nvSpPr>
          <p:spPr>
            <a:xfrm>
              <a:off x="34920" y="5635800"/>
              <a:ext cx="14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 Black"/>
                </a:rPr>
                <a:t>ро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7"/>
            <p:cNvSpPr/>
            <p:nvPr/>
          </p:nvSpPr>
          <p:spPr>
            <a:xfrm>
              <a:off x="1474920" y="5624640"/>
              <a:ext cx="14032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 Black"/>
                </a:rPr>
                <a:t>11,2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8"/>
            <p:cNvSpPr/>
            <p:nvPr/>
          </p:nvSpPr>
          <p:spPr>
            <a:xfrm>
              <a:off x="3313080" y="5624640"/>
              <a:ext cx="14032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 Black"/>
                </a:rPr>
                <a:t>35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9"/>
            <p:cNvSpPr/>
            <p:nvPr/>
          </p:nvSpPr>
          <p:spPr>
            <a:xfrm>
              <a:off x="5113440" y="5624640"/>
              <a:ext cx="14032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 Black"/>
                </a:rPr>
                <a:t>23,1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30"/>
            <p:cNvSpPr/>
            <p:nvPr/>
          </p:nvSpPr>
          <p:spPr>
            <a:xfrm>
              <a:off x="6985080" y="5624640"/>
              <a:ext cx="14032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 Black"/>
                </a:rPr>
                <a:t>12,5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131"/>
            <p:cNvSpPr/>
            <p:nvPr/>
          </p:nvSpPr>
          <p:spPr>
            <a:xfrm>
              <a:off x="1187280" y="5589720"/>
              <a:ext cx="144720" cy="431640"/>
            </a:xfrm>
            <a:prstGeom prst="upArrow">
              <a:avLst>
                <a:gd name="adj1" fmla="val 50000"/>
                <a:gd name="adj2" fmla="val 7456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54"/>
          <p:cNvGrpSpPr/>
          <p:nvPr/>
        </p:nvGrpSpPr>
        <p:grpSpPr>
          <a:xfrm>
            <a:off x="179280" y="907920"/>
            <a:ext cx="8569440" cy="4953240"/>
            <a:chOff x="179280" y="907920"/>
            <a:chExt cx="8569440" cy="4953240"/>
          </a:xfrm>
        </p:grpSpPr>
        <p:graphicFrame>
          <p:nvGraphicFramePr>
            <p:cNvPr id="84" name="Object 21"/>
            <p:cNvGraphicFramePr/>
            <p:nvPr/>
          </p:nvGraphicFramePr>
          <p:xfrm>
            <a:off x="1042920" y="907920"/>
            <a:ext cx="7705800" cy="495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2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42920" y="907920"/>
                      <a:ext cx="7705800" cy="495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25"/>
            <p:cNvSpPr/>
            <p:nvPr/>
          </p:nvSpPr>
          <p:spPr>
            <a:xfrm>
              <a:off x="179280" y="5084640"/>
              <a:ext cx="14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80"/>
            <p:cNvSpPr/>
            <p:nvPr/>
          </p:nvSpPr>
          <p:spPr>
            <a:xfrm>
              <a:off x="1403280" y="4365720"/>
              <a:ext cx="7192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в.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81"/>
            <p:cNvSpPr/>
            <p:nvPr/>
          </p:nvSpPr>
          <p:spPr>
            <a:xfrm>
              <a:off x="2197080" y="4402080"/>
              <a:ext cx="719280" cy="61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ент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83"/>
            <p:cNvSpPr/>
            <p:nvPr/>
          </p:nvSpPr>
          <p:spPr>
            <a:xfrm>
              <a:off x="4068720" y="4402080"/>
              <a:ext cx="719280" cy="61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ент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85"/>
            <p:cNvSpPr/>
            <p:nvPr/>
          </p:nvSpPr>
          <p:spPr>
            <a:xfrm>
              <a:off x="5870520" y="4402080"/>
              <a:ext cx="719280" cy="61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ент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87"/>
            <p:cNvSpPr/>
            <p:nvPr/>
          </p:nvSpPr>
          <p:spPr>
            <a:xfrm>
              <a:off x="7740720" y="4402080"/>
              <a:ext cx="718920" cy="61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ент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51"/>
            <p:cNvSpPr/>
            <p:nvPr/>
          </p:nvSpPr>
          <p:spPr>
            <a:xfrm>
              <a:off x="3276720" y="4292640"/>
              <a:ext cx="7189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в.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52"/>
            <p:cNvSpPr/>
            <p:nvPr/>
          </p:nvSpPr>
          <p:spPr>
            <a:xfrm>
              <a:off x="5076720" y="4292640"/>
              <a:ext cx="7192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в.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53"/>
            <p:cNvSpPr/>
            <p:nvPr/>
          </p:nvSpPr>
          <p:spPr>
            <a:xfrm>
              <a:off x="6877080" y="4365720"/>
              <a:ext cx="7192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в.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4:46:30Z</dcterms:created>
  <dc:creator>Семенова</dc:creator>
  <dc:description/>
  <dc:language>en-US</dc:language>
  <cp:lastModifiedBy>Yava</cp:lastModifiedBy>
  <dcterms:modified xsi:type="dcterms:W3CDTF">2011-10-18T08:16:41Z</dcterms:modified>
  <cp:revision>88</cp:revision>
  <dc:subject/>
  <dc:title>Итоги освоения финансовых средств, направленных на реализацию проекта «Образование»</dc:title>
</cp:coreProperties>
</file>