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170-044B-46CD-BFD0-B9B28657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4CF-AE91-4470-BE37-A6A1BBB4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BC1-3B95-49A2-BC30-CEC2A9D6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37F-E94B-41E5-B524-25821AA1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32C-EA05-4D74-9C62-BF2835CD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1A5-21E4-4DDB-BA8F-68A812E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758-A4E1-48E7-B4F6-5B7F3F1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F81-A834-4781-A8E5-A6828BCA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41C-702A-4C60-BBEA-05DA391C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5DE-6744-492A-9372-FD50B00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768-F2D7-4AC4-BF81-8C7A1AD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911-29F4-4E38-8766-B7663D4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bcbcbc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088-71EF-4C6F-B0B7-E504E61C34D2}" type="slidenum">
              <a:rPr b="0" lang="ru-RU" sz="1200" spc="-1" strike="noStrike" u="sng">
                <a:solidFill>
                  <a:srgbClr val="bcbcbc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225360" y="2968560"/>
            <a:ext cx="8778960" cy="262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351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609480"/>
            <a:ext cx="4419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униципальное образовательное учреждение дополнительного образования детей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Дворец творчества детей и молодёжи имени В.М. Комарова»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Снежинск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4" name="Picture 4" descr="bØ"/>
          <p:cNvPicPr/>
          <p:nvPr/>
        </p:nvPicPr>
        <p:blipFill>
          <a:blip r:embed="rId2"/>
          <a:stretch/>
        </p:blipFill>
        <p:spPr>
          <a:xfrm>
            <a:off x="4243320" y="5730840"/>
            <a:ext cx="1492200" cy="706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4419360" cy="29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04920" y="331920"/>
            <a:ext cx="84582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Финансовые услов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Стоимость для одного иногороднего участника выставки в сутки (не включая расходы на проезд участников к городу проведения мероприятия) составляют: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живание в гостинице – 800,00 рублей в сутки на 1 человека (2-х местный номер)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асходы на организованное двухразовое питание – 250,00 рублей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асходы на организацию культурной программы 150,00 рублей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рганизационные расходы - 500,00 рублей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Суммарные расходы на одного участника мероприятия с учётом проживания (3 ночи) – 3550,00 рубле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6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365120" cy="6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5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394840" cy="22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304920" y="518832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Сайт муниципального методического центра г.Снежинска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www.mmc.vega-int.ru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Наш электронный адрес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dm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_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nz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@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il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Факс: 8 (351 46) 32013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Телефон директора 8 (351 46) 32838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5181480" cy="346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457200" y="342900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дачи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явление и поддержка одаренной и талантливой молодёжи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звитие исследовательской компетенции и профессиональных интересов молодых исследователей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крепление творческих связей общеобразовательных учреждений, учреждений дополнительного образования с ВУЗами, научно-исследовательскими коллективами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80880" y="2286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Цель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Создание условий для развития научно-исследовательской,     рационализаторской, изобретательской и познавательной деятельности школьников, вовлечение в сферу инженерного творчества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крепление творческих связей городов, расположенных на территории присутствия предприятий Госроскорпорации «Росатом» в организации научно-исследовательской работы со школьниками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80880" y="16920"/>
            <a:ext cx="84582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та проведения выставки: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0-11 декабря 2011 год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астники: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лодые исследователи в возрасте от 11 до 17 лет - школьники образовательных учреждений городов, расположенных на территории присутствия предприятий Госроскорпорации «Росатом» - лауреаты, дипломанты научно-технических муниципальных конкурсов, конференций, выставок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457200" y="3905280"/>
            <a:ext cx="3552840" cy="26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Ø"/>
          <p:cNvPicPr/>
          <p:nvPr/>
        </p:nvPicPr>
        <p:blipFill>
          <a:blip r:embed="rId2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4920" y="145440"/>
            <a:ext cx="8610480" cy="62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Garamond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словия и порядок участия в мероприяти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 выставку принимаются научно-исследовательские работы, прошедшие конкурсный отбор на муниципальном уровне, по направлениям: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стественные нау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атематик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изик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женерные нау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хника и инженерное дело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ычислительная техника и программное обеспечение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ки о природе и человеке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уки об окружающей среде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5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162800" y="30492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монстрация выставочного проекта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7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391320" y="1143000"/>
            <a:ext cx="84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астнику предоставляется: стенд,  стол,  технические средств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80880" y="1752480"/>
            <a:ext cx="4953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язательными элементами демонстрации являются: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учная статья,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ннотация,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лан исследований,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невник регистрации данных,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бот, содержащих программный продукт – компьютер с демонстрационной программой.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328920" cy="430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3049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и оценки исследовательских работ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астник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тавки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28600" y="182880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ктуальность тем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мпозиция работ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основанность исследовательск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тодов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28600" y="3718080"/>
            <a:ext cx="8915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ика перехода от концепции к выводам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ровень проработанности решения проблем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изна полученных результатов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чество оформления и защиты работ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фессионализм участника при обсуждении работы с экспертами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4551" r="0" b="0"/>
          <a:stretch/>
        </p:blipFill>
        <p:spPr>
          <a:xfrm>
            <a:off x="5715000" y="304920"/>
            <a:ext cx="3152880" cy="359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Группа 29"/>
          <p:cNvGrpSpPr/>
          <p:nvPr/>
        </p:nvGrpSpPr>
        <p:grpSpPr>
          <a:xfrm>
            <a:off x="6172200" y="533520"/>
            <a:ext cx="2438280" cy="3352680"/>
            <a:chOff x="6172200" y="533520"/>
            <a:chExt cx="2438280" cy="3352680"/>
          </a:xfrm>
        </p:grpSpPr>
        <p:pic>
          <p:nvPicPr>
            <p:cNvPr id="66" name="Picture 19" descr=""/>
            <p:cNvPicPr/>
            <p:nvPr/>
          </p:nvPicPr>
          <p:blipFill>
            <a:blip r:embed="rId1"/>
            <a:stretch/>
          </p:blipFill>
          <p:spPr>
            <a:xfrm>
              <a:off x="6172200" y="533520"/>
              <a:ext cx="24382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0"/>
            <p:cNvSpPr/>
            <p:nvPr/>
          </p:nvSpPr>
          <p:spPr>
            <a:xfrm>
              <a:off x="6172200" y="2438640"/>
              <a:ext cx="2438280" cy="144756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Александр Кириллович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Музыря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РФЯЦ ВНИИТФ НИО-4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меститель начальника отделения по НИР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старший научный сотрудник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кандидат технических наук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68" name="Группа 30"/>
          <p:cNvGrpSpPr/>
          <p:nvPr/>
        </p:nvGrpSpPr>
        <p:grpSpPr>
          <a:xfrm>
            <a:off x="228600" y="533520"/>
            <a:ext cx="2514600" cy="3317760"/>
            <a:chOff x="228600" y="533520"/>
            <a:chExt cx="2514600" cy="3317760"/>
          </a:xfrm>
        </p:grpSpPr>
        <p:pic>
          <p:nvPicPr>
            <p:cNvPr id="69" name="Picture 46" descr="H:\Рисунок1.jpg"/>
            <p:cNvPicPr/>
            <p:nvPr/>
          </p:nvPicPr>
          <p:blipFill>
            <a:blip r:embed="rId2"/>
            <a:stretch/>
          </p:blipFill>
          <p:spPr>
            <a:xfrm>
              <a:off x="228600" y="533520"/>
              <a:ext cx="2490480" cy="19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4"/>
            <p:cNvSpPr/>
            <p:nvPr/>
          </p:nvSpPr>
          <p:spPr>
            <a:xfrm>
              <a:off x="228600" y="2286000"/>
              <a:ext cx="2514600" cy="1565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Валентин Фёдорович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Куропатенко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РФЯЦ ВНИИТФ НТО-1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главный научный сотрудник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Доктор ф.м.н., профессор, Лауреат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государственной премии СССР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служенный деятель науки РФ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pic>
        <p:nvPicPr>
          <p:cNvPr id="71" name="Picture 34" descr="100_1583"/>
          <p:cNvPicPr/>
          <p:nvPr/>
        </p:nvPicPr>
        <p:blipFill>
          <a:blip r:embed="rId3"/>
          <a:stretch/>
        </p:blipFill>
        <p:spPr>
          <a:xfrm>
            <a:off x="6172200" y="4038480"/>
            <a:ext cx="2514600" cy="2605320"/>
          </a:xfrm>
          <a:prstGeom prst="rect">
            <a:avLst/>
          </a:prstGeom>
          <a:ln w="0">
            <a:noFill/>
          </a:ln>
        </p:spPr>
      </p:pic>
      <p:grpSp>
        <p:nvGrpSpPr>
          <p:cNvPr id="72" name="Группа 28"/>
          <p:cNvGrpSpPr/>
          <p:nvPr/>
        </p:nvGrpSpPr>
        <p:grpSpPr>
          <a:xfrm>
            <a:off x="228600" y="4038480"/>
            <a:ext cx="2514600" cy="2590920"/>
            <a:chOff x="228600" y="4038480"/>
            <a:chExt cx="2514600" cy="2590920"/>
          </a:xfrm>
        </p:grpSpPr>
        <p:pic>
          <p:nvPicPr>
            <p:cNvPr id="73" name="Picture 53" descr=""/>
            <p:cNvPicPr/>
            <p:nvPr/>
          </p:nvPicPr>
          <p:blipFill>
            <a:blip r:embed="rId4"/>
            <a:stretch/>
          </p:blipFill>
          <p:spPr>
            <a:xfrm>
              <a:off x="228600" y="4038480"/>
              <a:ext cx="2486160" cy="20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54"/>
            <p:cNvSpPr/>
            <p:nvPr/>
          </p:nvSpPr>
          <p:spPr>
            <a:xfrm>
              <a:off x="228600" y="5638680"/>
              <a:ext cx="2514600" cy="99072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Владимир Михайлович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Дерябин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Начальник 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ФГУЗ ЦМСЧ-15 ФМБА России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служенный врач РФ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5" name="Группа 18"/>
          <p:cNvGrpSpPr/>
          <p:nvPr/>
        </p:nvGrpSpPr>
        <p:grpSpPr>
          <a:xfrm>
            <a:off x="3124080" y="533520"/>
            <a:ext cx="2590920" cy="3352680"/>
            <a:chOff x="3124080" y="533520"/>
            <a:chExt cx="2590920" cy="3352680"/>
          </a:xfrm>
        </p:grpSpPr>
        <p:pic>
          <p:nvPicPr>
            <p:cNvPr id="76" name="Picture 62" descr=""/>
            <p:cNvPicPr/>
            <p:nvPr/>
          </p:nvPicPr>
          <p:blipFill>
            <a:blip r:embed="rId5"/>
            <a:stretch/>
          </p:blipFill>
          <p:spPr>
            <a:xfrm>
              <a:off x="3124080" y="533520"/>
              <a:ext cx="25909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3"/>
            <p:cNvSpPr/>
            <p:nvPr/>
          </p:nvSpPr>
          <p:spPr>
            <a:xfrm>
              <a:off x="3124080" y="2819520"/>
              <a:ext cx="2590920" cy="10666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Олег Павлович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Карпов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меститель Главы Снежинского 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городского округа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депутат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8" name="Группа 17"/>
          <p:cNvGrpSpPr/>
          <p:nvPr/>
        </p:nvGrpSpPr>
        <p:grpSpPr>
          <a:xfrm>
            <a:off x="3200400" y="4038480"/>
            <a:ext cx="2514600" cy="2590920"/>
            <a:chOff x="3200400" y="4038480"/>
            <a:chExt cx="2514600" cy="2590920"/>
          </a:xfrm>
        </p:grpSpPr>
        <p:pic>
          <p:nvPicPr>
            <p:cNvPr id="79" name="Picture 70" descr="IMG_4811"/>
            <p:cNvPicPr/>
            <p:nvPr/>
          </p:nvPicPr>
          <p:blipFill>
            <a:blip r:embed="rId6">
              <a:lum bright="18000"/>
            </a:blip>
            <a:stretch/>
          </p:blipFill>
          <p:spPr>
            <a:xfrm>
              <a:off x="3200400" y="4038480"/>
              <a:ext cx="2514600" cy="24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1"/>
            <p:cNvSpPr/>
            <p:nvPr/>
          </p:nvSpPr>
          <p:spPr>
            <a:xfrm>
              <a:off x="3200400" y="5486400"/>
              <a:ext cx="2514600" cy="114300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Марина Юрьевна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Тышкевич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Зам.руководителя Снежинского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физико-технического института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НИЯУ МИФИ, 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к.э.н., доцент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81" name="TextBox 21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кспертный совет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172200" y="5715000"/>
            <a:ext cx="2514600" cy="9144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5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51516"/>
                </a:solidFill>
                <a:latin typeface="Arial"/>
              </a:rPr>
              <a:t>Александр Борисович 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51516"/>
                </a:solidFill>
                <a:latin typeface="Arial"/>
              </a:rPr>
              <a:t>Горелов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6"/>
                </a:solidFill>
                <a:latin typeface="Arial"/>
              </a:rPr>
              <a:t>начальник отдела по экологии 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6"/>
                </a:solidFill>
                <a:latin typeface="Arial"/>
              </a:rPr>
              <a:t>Администрации г.Снежинска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2"/>
          <p:cNvSpPr/>
          <p:nvPr/>
        </p:nvSpPr>
        <p:spPr>
          <a:xfrm>
            <a:off x="709200" y="22860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грамма и график работы выстав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84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365120" cy="650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5"/>
          <p:cNvSpPr/>
          <p:nvPr/>
        </p:nvSpPr>
        <p:spPr>
          <a:xfrm>
            <a:off x="4724280" y="1219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380880" y="609480"/>
            <a:ext cx="4800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9 декабря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езд участников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селение в гостинице,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формление демонстрационных стендов, подготовка к защите научно-исследовательских работ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10 декабря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0.00 – Торжественное открытие Выставки (театральный зал Дворца творчества)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0.30 – 17.00 – работы Выставки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3.00 – 14.00 – обед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7.00 – полдник, свободное время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8.00 – 19.30 – культурная программа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87" name="Picture 17" descr="H:\от Морозовой\фото ЧГК\DSC_5299.JPG"/>
          <p:cNvPicPr/>
          <p:nvPr/>
        </p:nvPicPr>
        <p:blipFill>
          <a:blip r:embed="rId2"/>
          <a:stretch/>
        </p:blipFill>
        <p:spPr>
          <a:xfrm>
            <a:off x="5218200" y="4191120"/>
            <a:ext cx="347184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380880" y="609480"/>
            <a:ext cx="52578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11 декабря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0.00 – 13.00 – работа Выставки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3.00 – 14.00 – обед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4.00 – 15.30 – экскурсии по городу, свободное время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7.00 – Торжественное закрытие Выставки, Церемония награждения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12 декабря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ъезд делегаций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327960" y="30492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грамма и график работы выстав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1" name="Picture 23" descr="100_003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486400" y="838080"/>
            <a:ext cx="3263760" cy="289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100_0159"/>
          <p:cNvPicPr/>
          <p:nvPr/>
        </p:nvPicPr>
        <p:blipFill>
          <a:blip r:embed="rId3"/>
          <a:stretch/>
        </p:blipFill>
        <p:spPr>
          <a:xfrm>
            <a:off x="548640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Ø"/>
          <p:cNvPicPr/>
          <p:nvPr/>
        </p:nvPicPr>
        <p:blipFill>
          <a:blip r:embed="rId4"/>
          <a:stretch/>
        </p:blipFill>
        <p:spPr>
          <a:xfrm>
            <a:off x="7523280" y="171360"/>
            <a:ext cx="1365120" cy="6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он</dc:creator>
  <dc:description/>
  <dc:language>en-US</dc:language>
  <cp:lastModifiedBy>Юдина Н.Г.</cp:lastModifiedBy>
  <dcterms:modified xsi:type="dcterms:W3CDTF">2011-10-15T08:01:08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