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FF9-FDFE-4787-B40B-2560ABB5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BE4B-2195-4162-A40A-6C8C32E4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EFC-1CE8-4D03-B3DA-6E292239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629-6AA5-4F89-8C5E-7011ECE82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594-0ADD-4733-9F60-CC70591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B372-7DA4-4BBF-B5EE-DF1BF98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DA62-4769-4F54-8CAF-CED4EA0A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C0D-B073-46D3-90A8-1D30DC1B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1C8-C68A-4990-97D9-D5E03EF3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171-172F-40DC-993A-8BCF3D1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72B-E6E5-4C36-AF8D-2BD6045A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900-816A-416F-B087-BFFB364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33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33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33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33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33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33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2648-D2AD-4C68-8FA1-480AB3B89086}" type="slidenum">
              <a:rPr b="0" lang="ru-RU" sz="1400" spc="-1" strike="noStrike">
                <a:solidFill>
                  <a:srgbClr val="9933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6000c"/>
                </a:solidFill>
                <a:latin typeface="Times New Roman"/>
                <a:ea typeface="Times New Roman"/>
              </a:rPr>
              <a:t>Об основных направлениях деятельности ГМО </a:t>
            </a:r>
            <a:br>
              <a:rPr sz="4800"/>
            </a:br>
            <a:r>
              <a:rPr b="1" lang="ru-RU" sz="4800" spc="-1" strike="noStrike">
                <a:solidFill>
                  <a:srgbClr val="06000c"/>
                </a:solidFill>
                <a:latin typeface="Times New Roman"/>
                <a:ea typeface="Times New Roman"/>
              </a:rPr>
              <a:t>в 2011-2012 учебном году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8. Активизировать деятельность ГМО по развитию профессиональных компетенций педагога и актуальным проблемам образования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6000c"/>
                </a:solidFill>
                <a:latin typeface="Arial"/>
              </a:rPr>
              <a:t>Городская методическая тема </a:t>
            </a:r>
            <a:br>
              <a:rPr sz="2500"/>
            </a:br>
            <a:r>
              <a:rPr b="1" i="1" lang="ru-RU" sz="2900" spc="-1" strike="noStrike">
                <a:solidFill>
                  <a:srgbClr val="06000c"/>
                </a:solidFill>
                <a:latin typeface="Arial"/>
              </a:rPr>
              <a:t>«Формирование профессиональной компетентности учителя как основа развития творческого потенциала обучающегося».</a:t>
            </a:r>
            <a:br>
              <a:rPr sz="2900"/>
            </a:br>
            <a:endParaRPr b="0" lang="en-US" sz="29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81952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000c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 этап (2011-2012 учебный год)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корректирующий и обобщающий: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обобщение и оценка результатов работы над темой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корректировка результатов и методическая помощь  ОУ и педагогам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методическое сопровождение профессиональных конкурсов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Направления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деятельности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0008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00c"/>
                </a:solidFill>
                <a:latin typeface="Arial"/>
              </a:rPr>
              <a:t>Внедрение ФГОС НОО – изучение трудностей и проблем внедрения;</a:t>
            </a:r>
            <a:endParaRPr b="0" lang="en-US" sz="2800" spc="-1" strike="noStrike">
              <a:solidFill>
                <a:srgbClr val="9933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00c"/>
                </a:solidFill>
                <a:latin typeface="Arial"/>
              </a:rPr>
              <a:t>Изучение ФГОС основной школы – организация деятельности  рабочих групп в каждом ГМО;</a:t>
            </a:r>
            <a:endParaRPr b="0" lang="en-US" sz="2800" spc="-1" strike="noStrike">
              <a:solidFill>
                <a:srgbClr val="9933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6000c"/>
                </a:solidFill>
                <a:latin typeface="Arial"/>
              </a:rPr>
              <a:t>Методическое</a:t>
            </a:r>
            <a:r>
              <a:rPr b="0" lang="ru-RU" sz="2800" spc="-1" strike="noStrike">
                <a:solidFill>
                  <a:srgbClr val="06000c"/>
                </a:solidFill>
                <a:latin typeface="Arial"/>
              </a:rPr>
              <a:t> сопровождение подготовки  обучающихся к ЕГЭ и ГИА;</a:t>
            </a:r>
            <a:endParaRPr b="0" lang="en-US" sz="2800" spc="-1" strike="noStrike">
              <a:solidFill>
                <a:srgbClr val="9933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00c"/>
                </a:solidFill>
                <a:latin typeface="Arial"/>
              </a:rPr>
              <a:t>Участие в организации и проведении школьного и муниципального этапов олимпиад;</a:t>
            </a:r>
            <a:endParaRPr b="0" lang="en-US" sz="2800" spc="-1" strike="noStrike">
              <a:solidFill>
                <a:srgbClr val="9933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6000c"/>
                </a:solidFill>
                <a:latin typeface="Arial"/>
              </a:rPr>
              <a:t>Конкурс творческих работ обучающихся, посвященных 55- летию города Снежинска.</a:t>
            </a:r>
            <a:endParaRPr b="0" lang="en-US" sz="2800" spc="-1" strike="noStrike">
              <a:solidFill>
                <a:srgbClr val="9933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9933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Подготовка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участие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конкурсах</a:t>
            </a: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посвященных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55-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летию</a:t>
            </a: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Снежинска</a:t>
            </a: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в первом городском фестивале методических разработок педагогов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школьных сайтов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профессиональных конкурсах. 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Цель методической работы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560" y="12949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Обеспечение системно -деятельностного подхода к методическому сопровождению общего и дополнительного образования в городе в свете идей национальной образовательной инициативы «Наша новая школа», федерального государственного образовательного стандарта начального и основного общего образования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Задачи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деятельности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6000c"/>
                </a:solidFill>
                <a:latin typeface="Arial"/>
              </a:rPr>
              <a:t>ГМО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6000c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. Обеспечить изучение педагогами проекта закона РФ «Об образовании», других актуальных нормативно-правовых документов, в том числе, методических писем ГОУ ДПО ЧИППКРО, касающихся повышения профессиональной и правовой компетентностей педагого</a:t>
            </a:r>
            <a:r>
              <a:rPr b="0" lang="ru-RU" sz="3100" spc="-1" strike="noStrike">
                <a:solidFill>
                  <a:srgbClr val="06000c"/>
                </a:solidFill>
                <a:latin typeface="Arial"/>
              </a:rPr>
              <a:t>в.</a:t>
            </a:r>
            <a:endParaRPr b="0" lang="en-US" sz="31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2. Обеспечить содержательное и организационное методическое сопровождение: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введения ФГОС начального общего образования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изучения ФГОС основного общего образования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устойчивого доступа к информации, связанной с изучением и реализацией ФГОС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0880" y="45720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3. Осуществлять методическое сопровождение нового порядка аттестации педагогических работников через изучение на заседаниях ГМО: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Приказа МОиН РФ от 24.03.2010 г № 209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Разъяснений по применению  Порядка аттестации педкадров в ОУ;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Административного регламента МОиН Челябинской области(письмо от17.06.2011 №24/3588)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600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066680"/>
            <a:ext cx="830592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4. Представлять  и распространять педагогический опыт через систему сетевого взаимодействия (городской образовательный портал, сеть творческих учителей ), размещать опыт работы в печатных изданиях, в  сборниках, информационных бюллетенях и др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571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5. Стимулировать мотивацию педагогов на активное использование информационно-коммуникационных технологий и технологий деятельностного типа, способствующих формированию у учащихся ключевых компетенций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6. Осуществлять методическое сопровождение работы по воспитанию у детей и подростков патриотизма, гражданственности, нравственности, формированию навыков здорового образа жизни, выстраивая систему методической работы с классными руководителями, педагогами-организаторами, социальными педагогами.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33520" y="99072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6000c"/>
                </a:solidFill>
                <a:latin typeface="Arial"/>
              </a:rPr>
              <a:t>7. Осуществлять методическое сопровождение введения в образовательных учреждениях третьего часа физической культуры и организации внеурочной деятельности обучающихся, направленной на сохранение и укрепление их здоровья</a:t>
            </a:r>
            <a:endParaRPr b="0" lang="en-US" sz="3200" spc="-1" strike="noStrike">
              <a:solidFill>
                <a:srgbClr val="99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окарь</cp:lastModifiedBy>
  <dcterms:modified xsi:type="dcterms:W3CDTF">2011-09-13T09:11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