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B22-9E1C-44CD-B61E-706338FD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C8C-3113-481E-86EF-89CBD940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E19-01EF-4F59-93EF-FC7EEB0B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DAF-0FC7-45B0-94B0-C78C9BC8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D85-3A9A-4E43-8BAB-7200E8D9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0EC-3DAC-4C86-B178-17C3A55D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359-C6CD-4537-B3AD-E6DD5EDB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0E7-D8C0-4C8F-9F7C-775D0482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786-5F32-4469-B2F8-524C32C8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3AC-DC49-4949-B7B4-30036F7B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F55-6387-40F7-9C89-5AD37460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9E8-267D-4FD8-B97F-0574C32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7BC0-63D9-4650-9BAE-068E24EC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специального (коррекционного) образования и психолого-медико-педагогического сопровождения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детей с особыми образовательными потребностями</a:t>
            </a:r>
            <a:br>
              <a:rPr sz="42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плякова Елена Рифовна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ведующая ПМПК У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авления образования Курчатовского района Администрации г. Челябинска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.п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 социальной защите инвалидов в РФ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№ 181-ФЗ от 24.11.1995 г. (в ред. от 27.05.2000 г. № 78-Д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стоящий Федеральный закон определяет государственную политику в области социальной защиты инвалидов в Российской Федерации, целью которой является обеспечение инвалидам равных с другими гражданами возможностей в реализации гражданских, экономических, политических и других прав и свобод, предусмотренных Конституцией Российской Федерации, а также в соответствии с общепризнанными принципами и нормами международного права и международными договорам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. Общи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онятие "инвалид", основания определения группы инвали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вали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лицо, которое имеет нарушение здоровья со стойким расстройством функций организма, обусловленное заболеваниями, последствиями травм или дефектами, приводящее к ограничению жизнедеятельности и вызывающее необходимость его социальной защ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граничение жизнедея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полная или частичная утрата лицом способности или возможности осуществлять самообслуживание, самостоятельно передвигаться, ориентироваться, общаться, контролировать свое поведение, обучаться и заниматься трудовой дея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.   Общие положения                                        (ст.ст. 1  - 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I.  Медико-социальная экспертиза               (ст.ст. 7  - 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II. Реабилитация инвалидов                          (ст.ст. 9  -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V.  Обеспечение жизнедеятельности инвалидов    (ст.ст. 13 - 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V.   Общественные объединения инвалидов         (ст.ст. 33 - 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VI.  Заключительные положения                            (ст.ст. 35 - 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 психиатрической помощи и гарантиях прав граждан при ее оказании» № 3185-1 от 02.07.19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ред. от 21.07.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ссийская Федерация в настоящем Федеральном законе устанавливает правовые, организационные и экономические принципы оказания психиатрической помощи в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и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сихиатрическая помощь и принципы ее о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Психиатрическая помощь включает в себя обследование психического здоровья граждан по основаниям и в порядке, установленным настоящим Законом и другими законами Российской Федерации, диагностику психических расстройств, лечение, уход и медико-социальную реабилитацию лиц, страдающих психическими расстр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обровольность обращения за психиатрической помощ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Психиатрическая помощь оказывается при добровольном обращении лица или с его согласия, за исключением случаев, предусмотренных настоящ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 Несовершеннолетнему в возрасте до 15 лет, а также лицу, признанному в установленном законом порядке недееспособным, психиатрическая помощь оказывается по просьбе или с согласия их законных представителей в порядке, предусмотренном настоящ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Запрещение требования сведений о состоянии психическо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реализации гражданином своих прав и свобод требования предоставления сведений о состоянии его психического здоровья либо обследования его врачом-психиатром допускаются лишь в случаях, установленных законами Российской Федера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 психиатрической помощи и гарантиях прав граждан при ее оказании» № 3185-1 от 02.07.19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ред. от 21.07.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ья 9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Сохранение врачебной тайны при оказании психиатриче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ведения о наличии у гражданина психического расстройства, фактах обращения за психиатрической помощью и лечении в учреждении, оказывающем такую помощь, а также иные сведения о состоянии психического здоровья являются врачебной тайной, охраняемой законом. Для реализации прав и законных интересов лица, страдающего психическим расстройством, по его просьбе либо по просьбе его законного представителя им могут быть предоставлены сведения о состоянии психического здоровья данного лица и об оказанной ему психиатрическ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дел 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иды психиатрической помощи и порядок ее оказ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ья 2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Психиатрическое освидетельств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Психиатрическое освидетельствование проводится для определения: страдает ли обследуемый психическим расстройством, нуждается ли он в психиатрической помощи, а также для решения вопроса о виде так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Психиатрическое освидетельствование, а также профилактические осмотры проводятся по просьбе или с согласия обследуемого; в отношении несовершеннолетнего в возрасте до 15 лет - по просьбе или с согласия его родителей либо иного законного представителя; в отношении лица, признанного в установленном законом порядке недееспособным, - по просьбе или с согласия его законного представи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ья 4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Основания и порядок помещения несовершеннолетних в психоневрологическое учреждение для специально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нованиями для помещения несовершеннолетнего в возрасте до 18 лет, страдающего психическим расстройством, в психоневрологическое учреждение для специального обучения являются заявление его родителей либо иного законного представителя и обязательное заключение комиссии, состоящей из психолога, педагога и врача-психиатра. Заключение должно содержать сведения о необходимости обучения несовершеннолетнего в условиях специальной школы для детей с нарушением интеллектуально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б основах системы профилактики безнадзорности и правонарушений несовершеннолетних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№ 120-ФЗ от 24.06.199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I. ОСНОВНЫЕ НАПРАВЛЕНИЯ ДЕЯТЕЛЬНОСТИ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УЧРЕЖДЕНИЙ СИСТЕМЫ ПРОФИЛАКТИКИ БЕЗНАДЗОР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ПРАВОНАРУШЕНИЙ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ья 14. Органы управления образованием и образовательны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Органы управления образованием в пределах своей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создают Психолого-медико-педагогические комиссии, которые выявляют несовершеннолетних, имеющих отклонения в развитии или поведении, проводят их комплексное обследование и готовят рекомендации по оказанию им психолого-медико-педагогической помощи и определению форм дальнейшего обучения и воспитания несовершеннолет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ья 15. Специальные учебно-воспитательные учреждения открытого и закрытого типа органов управления образ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К специальным учебно-воспитательным учреждениям закрытого типа органов управления образование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специальные (коррекционные) образовательные учреждения закрытого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В специальные (коррекционные) образовательные учреждения закрытого типа помещаются несовершеннолетние, имеющие отклонения в развитии и (или) заболевания, вызывающие необходимость их содержания, воспитания и обучения в таких учреждениях, на основании документов, указанных в пункте 5 настоящей стат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87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документы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ляби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63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кон Челябинской области «Об охране и защите прав детей в Челябинской области. Принят постановлением Законодательного собрания Челябинской области от 29.11.2001 г. № 3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Губернатора Челябинской области № 512 от 16.10.1998 г. «Об утверждении примерного положения о психолого-медико-педагогической консультац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ивно-методическое письмо «О приведении документации ПМПК в соответствие с законодательством РФ и Челябинской области» от 28.10.2002 г. № 05-378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кон Челябинской области «О наделении органов местного самоуправления государственными полномочиями по организации предоставления дошкольного и общего образования по основным общеобразовательным программам в муниципальных образовательных учреждениях, нуждающихся в ППМС помощи» от 23.08.2007 г. № 7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Челябинской области № 309 от 27.09.2007 г. «О воспитании и обучении детей-инвалид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05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Челябинской област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О воспитании и обучении детей-инвалидов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№ 309 от 27.09.200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527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ние и обучение детей-инвалидов на дому, в дошкольных и общеобразовательных учреждениях, а также компенсация затрат родителей на воспитание и обучение детей-инвалидов являются расходными обязательствами Челябин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ние   и   обучение   детей-инвалидов на дому по общеобразовательным программам дошкольного образования, общего образования является одной из мер расширения доступности дошкольного, общего образования, создаёт возможность для воспитания и обучения детей-инвалидов на дому с учётом их психофизиологических и индивидуальных возможностей, социальной адаптации    и интеграции в обществе детей с ограниченными возможностями здоровья, для оказания своевременней консультативно-методической помощи их родителям (законным представителям) по воспитанию и обучению детей с ограниченными возможностям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ожение о компенсации затрат родителей (законных представителей) по воспитанию и обучению детей-инвал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учителя-логопеда МДО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 от 02.06. 199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98 № 124-Ф3 (в ред. от 20.07.2000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О РФ от 22.01.98 № 20-58-07 ИН/20-4 «Об учителях логопедах и педагогах-психологах учреждений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Ф от 03.07.96 № 1063-р «Социальные нормы и нормативы (о наполняемости специальных групп, специальных классов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овое положение о специальном (коррекционном) образовательном учреждении. Положение о дошкольных учреждениях и группах детей с нарушениями речи. Утверждено Постановлением правительства РФ № 288.от 12.03.199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о РФ и Гос. Комитета РФ по высшему образованию № 463/1268 от 31. 08.1995 г. «Об утверждении тарифно-квалификационных характеристик (требований по должностям работников учреждений образования, объемных показателей по отнесению учреждений образования к группам по оплате труда руководител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ГУОиН Челябинской области от 08.12.2000 г. № 487 «Об утверждении примерных положений о логопунктах общеобразовательной школы и дошкольного образовательного учрежд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жение о специальной (коррекционной) группе для детей с нарушениями речи (зрения, интеллекта, ЗПР), логопун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ная инструкция (обязанности) учителя-лого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о зачислении детей в логопедическую групп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ая документация учителя-логопеда М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 учителя-логоп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 фронтальных логопедически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ы-конспекты фронтальных (подгрупповых), индивидуальны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афик работы учителя-логоп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иклограмма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ллегиальные заключения, протоколы обследования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чевые кар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спорт логопедического кабин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рмативно-правовая, рабочая документация учителя-логоп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отека учебно-методических пособ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отека дидактических пособ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учета посещаемости логопедически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профилакт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движен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консульт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пка с печатными материалами по темам консульт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воспит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другими специалис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дивидуальные тетрад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инамика речевого развития ребенка (мониторинг коррекции речевых нарушени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б эффективности раб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довой отчет (с анализом выполненной работы по пунктам годового плана организационно-педагогической деятельности учителя-логопе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96120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: (в т.ч. в соответствии с годовыми задачами учрежд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280" y="1905120"/>
          <a:ext cx="8763120" cy="4762440"/>
        </p:xfrm>
        <a:graphic>
          <a:graphicData uri="http://schemas.openxmlformats.org/drawingml/2006/table">
            <a:tbl>
              <a:tblPr/>
              <a:tblGrid>
                <a:gridCol w="487440"/>
                <a:gridCol w="2459160"/>
                <a:gridCol w="2313000"/>
                <a:gridCol w="1752480"/>
                <a:gridCol w="1751040"/>
              </a:tblGrid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содержание направлени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другими специалис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вал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3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 учителя-логоп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13240"/>
            <a:ext cx="9144000" cy="4871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ерспективном плане отражаются основные направления деятельности учителя-логопеда по разделам в соответствии с этапами коррекционно-педагог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новны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вукопроизно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та над слоговой структурой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навыков звукового и слогового анализа и синтеза, анализ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общих речевых навы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екс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грамматического стр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связн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полнительно в перспективный план могут быть включены направления деятельности по следующим раздел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пространственных, временных и элементарных математических представ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структивный праксис. Художественно-творческ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зическое разви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узыкальное воспит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2480" y="1295280"/>
            <a:ext cx="5791320" cy="68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997360"/>
            <a:ext cx="8001000" cy="838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документы региона (об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ровни нормативно-правового обеспечения специального (коррекционного) образования и психолого-медико-педагогического сопровождения субъектов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2060640"/>
            <a:ext cx="6553440" cy="7617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едер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акты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005360"/>
            <a:ext cx="8686800" cy="838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рмативно-правовые акты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13360"/>
            <a:ext cx="9144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муницип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ормативные документы район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1295280"/>
            <a:ext cx="4952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Международный уровень                  Международные нормативно-правовые ак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77000"/>
            <a:ext cx="9144000" cy="7617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кальные акты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89800"/>
            <a:ext cx="9144000" cy="76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о-тематический план фронтальных логопедических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1390680"/>
          <a:ext cx="8534520" cy="3713040"/>
        </p:xfrm>
        <a:graphic>
          <a:graphicData uri="http://schemas.openxmlformats.org/drawingml/2006/table">
            <a:tbl>
              <a:tblPr/>
              <a:tblGrid>
                <a:gridCol w="1389240"/>
                <a:gridCol w="1384200"/>
                <a:gridCol w="1407960"/>
                <a:gridCol w="1446120"/>
                <a:gridCol w="1508400"/>
                <a:gridCol w="13986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и, бук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звукового анализа и синтез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говая структу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речевые навыки (слуховое внимание, речевое дыхание, развитие голоса, артикуляционная мотор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грамматического стро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вязной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иод и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28600" y="5379480"/>
            <a:ext cx="8915400" cy="1372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необходимо снабдить пояснительной запиской, в которой следу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характеристику речевых нарушений у детей груп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программу коррекционно-развивающего обучения и используемые методические рекоменд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задачи обучения (по периода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зить изменения, внесенные в программный материал, объяснить, чем они обуслов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-11520"/>
            <a:ext cx="9144000" cy="223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ланы-конспекты логопедических (фронтальных, подгрупповых, индивидуальных занятий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составлены по следующему алгоритм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Журнал учета посещаемости логопедических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285200" y="5011920"/>
            <a:ext cx="317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2333520"/>
          <a:ext cx="8664480" cy="2619360"/>
        </p:xfrm>
        <a:graphic>
          <a:graphicData uri="http://schemas.openxmlformats.org/drawingml/2006/table">
            <a:tbl>
              <a:tblPr/>
              <a:tblGrid>
                <a:gridCol w="293040"/>
                <a:gridCol w="556560"/>
                <a:gridCol w="351000"/>
                <a:gridCol w="349560"/>
                <a:gridCol w="351360"/>
                <a:gridCol w="263520"/>
                <a:gridCol w="262800"/>
                <a:gridCol w="263880"/>
                <a:gridCol w="262440"/>
                <a:gridCol w="263880"/>
                <a:gridCol w="273240"/>
                <a:gridCol w="271440"/>
                <a:gridCol w="273600"/>
                <a:gridCol w="271440"/>
                <a:gridCol w="273240"/>
                <a:gridCol w="271440"/>
                <a:gridCol w="273240"/>
                <a:gridCol w="271440"/>
                <a:gridCol w="271800"/>
                <a:gridCol w="305280"/>
                <a:gridCol w="239400"/>
                <a:gridCol w="271440"/>
                <a:gridCol w="389520"/>
                <a:gridCol w="17899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2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43000" y="5273640"/>
            <a:ext cx="5470200" cy="563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- фронтальные занятия, «И» - индивидуальные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8120" y="83520"/>
            <a:ext cx="3429000" cy="64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иклограмма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762120"/>
          <a:ext cx="8076960" cy="792000"/>
        </p:xfrm>
        <a:graphic>
          <a:graphicData uri="http://schemas.openxmlformats.org/drawingml/2006/table">
            <a:tbl>
              <a:tblPr/>
              <a:tblGrid>
                <a:gridCol w="2689200"/>
                <a:gridCol w="2687400"/>
                <a:gridCol w="270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736360" y="1675800"/>
            <a:ext cx="4223880" cy="368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2286000"/>
          <a:ext cx="8643960" cy="3135240"/>
        </p:xfrm>
        <a:graphic>
          <a:graphicData uri="http://schemas.openxmlformats.org/drawingml/2006/table">
            <a:tbl>
              <a:tblPr/>
              <a:tblGrid>
                <a:gridCol w="639720"/>
                <a:gridCol w="612720"/>
                <a:gridCol w="741600"/>
                <a:gridCol w="744480"/>
                <a:gridCol w="479520"/>
                <a:gridCol w="479160"/>
                <a:gridCol w="480960"/>
                <a:gridCol w="479520"/>
                <a:gridCol w="480960"/>
                <a:gridCol w="479520"/>
                <a:gridCol w="1168560"/>
                <a:gridCol w="990360"/>
                <a:gridCol w="866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.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речев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ое логопедическое заклю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роизно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ие      проце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говая 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н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0" y="5835600"/>
            <a:ext cx="9144000" cy="94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 «Рекомендации» указывается куда направлен ребенок и какой вид помощи ему необходим (консультация логопеда МДОУ, ПМПК,  помощь логопеда поликлиники и т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Примечание» указываются наиболее значимые анамнестические сведения, другие данные о ребе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8120" y="227880"/>
            <a:ext cx="3047760" cy="368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914400"/>
          <a:ext cx="8534520" cy="973080"/>
        </p:xfrm>
        <a:graphic>
          <a:graphicData uri="http://schemas.openxmlformats.org/drawingml/2006/table">
            <a:tbl>
              <a:tblPr/>
              <a:tblGrid>
                <a:gridCol w="371160"/>
                <a:gridCol w="516240"/>
                <a:gridCol w="2890800"/>
                <a:gridCol w="1135440"/>
                <a:gridCol w="2064960"/>
                <a:gridCol w="155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консультируемого (возраст, категория (педагог, родитель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или место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2000160"/>
            <a:ext cx="9144000" cy="580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атериалам проведенных консультаций, выступлений оформляется папка с печатными материал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556000"/>
            <a:ext cx="8534520" cy="580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 профилактической работе учителя – логопеда 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ДОУ № ______ за __________ уч. 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3200400"/>
          <a:ext cx="8880480" cy="3417840"/>
        </p:xfrm>
        <a:graphic>
          <a:graphicData uri="http://schemas.openxmlformats.org/drawingml/2006/table">
            <a:tbl>
              <a:tblPr/>
              <a:tblGrid>
                <a:gridCol w="271440"/>
                <a:gridCol w="306360"/>
                <a:gridCol w="311040"/>
                <a:gridCol w="250920"/>
                <a:gridCol w="268200"/>
                <a:gridCol w="311400"/>
                <a:gridCol w="311040"/>
                <a:gridCol w="620640"/>
                <a:gridCol w="398520"/>
                <a:gridCol w="430200"/>
                <a:gridCol w="511200"/>
                <a:gridCol w="412920"/>
                <a:gridCol w="525240"/>
                <a:gridCol w="517680"/>
                <a:gridCol w="519120"/>
                <a:gridCol w="517320"/>
                <a:gridCol w="739800"/>
                <a:gridCol w="649440"/>
                <a:gridCol w="647640"/>
                <a:gridCol w="36036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рас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с нарушением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ечевых нару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нол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к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(к)Г, С(к)К для детей с ЗПР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МП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сультацию (в поликлинику, др.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0"/>
            <a:ext cx="8915400" cy="64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б эффективности работы учителя-логопеда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ДОУ № _______за__________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754200"/>
          <a:ext cx="8686800" cy="4608360"/>
        </p:xfrm>
        <a:graphic>
          <a:graphicData uri="http://schemas.openxmlformats.org/drawingml/2006/table">
            <a:tbl>
              <a:tblPr/>
              <a:tblGrid>
                <a:gridCol w="366840"/>
                <a:gridCol w="326880"/>
                <a:gridCol w="420840"/>
                <a:gridCol w="523800"/>
                <a:gridCol w="315720"/>
                <a:gridCol w="420840"/>
                <a:gridCol w="314280"/>
                <a:gridCol w="420840"/>
                <a:gridCol w="315720"/>
                <a:gridCol w="314280"/>
                <a:gridCol w="316080"/>
                <a:gridCol w="315720"/>
                <a:gridCol w="314640"/>
                <a:gridCol w="314280"/>
                <a:gridCol w="315720"/>
                <a:gridCol w="525600"/>
                <a:gridCol w="216000"/>
                <a:gridCol w="314280"/>
                <a:gridCol w="316080"/>
                <a:gridCol w="315720"/>
                <a:gridCol w="524160"/>
                <a:gridCol w="525240"/>
                <a:gridCol w="633240"/>
              </a:tblGrid>
              <a:tr h="17326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зачисленных в групп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 в течении  уч.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о в течении уч.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детей на конец уч.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выпущенных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дете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енных  на повторное об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овано направи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хорошей реч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значит. улучш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луч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школьному логопе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к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 виды наруш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образоват. школ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(к)ОУ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(к)ОУ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развивающую группу МД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слал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зартр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инолал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заика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зартр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инолал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заика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28600" y="5304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графу «Другие виды нарушений» вносятся дети, имеющие заключение (алалия, ЗРР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638680"/>
            <a:ext cx="8610480" cy="100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 работы по пунктам годового плана организационно-педагогической работы учителя-логоп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аналитической справке отражается уровень и степень реализации основных направлений деятельности учителя-логопеда в соответствии с годовым планом организационно-педагог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52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ятельности учителя-логопеда  М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е)». Принят Гос.Думой  02.06.199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1998 г. №124-ФЗ (в ред. от 20.07.2000 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«Об учителях логопедах и педагогах-психологах учреждений образования» от 22.01.1998 г. № 20-58-07-ИН/20-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Ф «Социальные нормы и нормативы» (о наполняемости специальных групп, специальных классов) от 18.07.1996 г. № 86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от 14.12 2000 №2 «Об организации работы логопункта О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«О специфике деятельности специальных (коррекционных) образовательных учреждени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идов» от 04.09.1997 г. № 4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«Об организации логопедической работы во вспомогательной школе» от20.07.2002 г. №29/2194-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ГУОиН администрации Челябинской обл. «Об утверждении примерных положений о логопунктах общеобразовательной школы и дошкольного общеобразовательного учреждения» от 08.12.2000 г. № 48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ОУ «Об открытии логопедического пункта в МО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о логопедическом пункте М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ОУ «О зачислении на школьный логопункт учащихся, имеющих нарушения в развитии устной и письменной реч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о РФ и Гос. Комитета РФ по высшему образованию № 463/1268 от 31. 08.1995 г. «Об утверждении тарифно-квалификационных характеристик (требований по должностям работников учреждений образования, объемных показателей по отнесению учреждений образования к группам по оплате труда руководителе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 (обязанности) учителя-логоп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4440"/>
            <a:ext cx="9144000" cy="675252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ерная документация учителя-логопеда МО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рмативно-правовая докум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 педагогической деятельности учителя-лого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спективный план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ны подгрупповых, индивидуаль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афик работы учителя – логоп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Циклограмма деятельности учителя – лого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писание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движе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учета посещаемости коррекцион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обследования устной и письменной реч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чет о коррекционно-педагогической работе за учебный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дивидуальная карта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дивидуальные тетради детей по коррекции звукопроиз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чевые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исок детей, зачисленных на логопун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намика коррекционного развития (мониторин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спорт логопедического кабин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талог учебных пособ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ртотека методических, дидакт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9720"/>
            <a:ext cx="9144000" cy="109836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спективном плане отражаются основные направления деятельности учителя-логопеда по разделам в соответствии с этапами коррекцион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484280"/>
          <a:ext cx="8491320" cy="1155600"/>
        </p:xfrm>
        <a:graphic>
          <a:graphicData uri="http://schemas.openxmlformats.org/drawingml/2006/table">
            <a:tbl>
              <a:tblPr/>
              <a:tblGrid>
                <a:gridCol w="2122560"/>
                <a:gridCol w="2122920"/>
                <a:gridCol w="2122920"/>
                <a:gridCol w="2122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коррекционного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 по преодолению нарушений в речевом развит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е понятия, используемые на логопедических занят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оррекционно – воспита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0" y="2851560"/>
            <a:ext cx="8962920" cy="7038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ендарно тематический план фронтальных логопедических занят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пояснительной запи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3645000"/>
          <a:ext cx="8458200" cy="2038320"/>
        </p:xfrm>
        <a:graphic>
          <a:graphicData uri="http://schemas.openxmlformats.org/drawingml/2006/table">
            <a:tbl>
              <a:tblPr/>
              <a:tblGrid>
                <a:gridCol w="1082520"/>
                <a:gridCol w="1095480"/>
                <a:gridCol w="787320"/>
                <a:gridCol w="1238400"/>
                <a:gridCol w="1135080"/>
                <a:gridCol w="1137960"/>
                <a:gridCol w="1136880"/>
                <a:gridCol w="84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тико-фонематические проце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. Связн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ая програ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тировка (по теме, дате прове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5805360"/>
            <a:ext cx="9144000" cy="82404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ояснительной записке указываются: программа (методические рекомендации) на основании которой составлено КТП, период коррекционно-развивающего обучения, цели и задачи коррекционно-развивающе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04120"/>
            <a:ext cx="9144000" cy="3682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движе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907920"/>
          <a:ext cx="8551800" cy="1855800"/>
        </p:xfrm>
        <a:graphic>
          <a:graphicData uri="http://schemas.openxmlformats.org/drawingml/2006/table">
            <a:tbl>
              <a:tblPr/>
              <a:tblGrid>
                <a:gridCol w="339840"/>
                <a:gridCol w="1412640"/>
                <a:gridCol w="927360"/>
                <a:gridCol w="990360"/>
                <a:gridCol w="1981440"/>
                <a:gridCol w="990360"/>
                <a:gridCol w="900360"/>
                <a:gridCol w="1009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ическое заклю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зачисления на логопун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ыпу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3758400"/>
            <a:ext cx="9144000" cy="3682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4495680"/>
          <a:ext cx="8610480" cy="1155600"/>
        </p:xfrm>
        <a:graphic>
          <a:graphicData uri="http://schemas.openxmlformats.org/drawingml/2006/table">
            <a:tbl>
              <a:tblPr/>
              <a:tblGrid>
                <a:gridCol w="228240"/>
                <a:gridCol w="495360"/>
                <a:gridCol w="2476440"/>
                <a:gridCol w="1237680"/>
                <a:gridCol w="2064600"/>
                <a:gridCol w="21081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 консультируем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озраст, категория (педагог, родит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или место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вленная тема консульт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 flipV="1" rot="10800000">
            <a:off x="0" y="5949720"/>
            <a:ext cx="9144000" cy="5806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иа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ных консультаций, выступлений офор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яются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пку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 этой папке хранятся печатные материалы, проведенной консультативной и профилактической 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09880" y="76140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обследования устной и письмен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1447920"/>
          <a:ext cx="8610480" cy="1155600"/>
        </p:xfrm>
        <a:graphic>
          <a:graphicData uri="http://schemas.openxmlformats.org/drawingml/2006/table">
            <a:tbl>
              <a:tblPr/>
              <a:tblGrid>
                <a:gridCol w="314640"/>
                <a:gridCol w="1247760"/>
                <a:gridCol w="1167120"/>
                <a:gridCol w="1751040"/>
                <a:gridCol w="1646280"/>
                <a:gridCol w="1241640"/>
                <a:gridCol w="12420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ая успеваемость по русскому язы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звукопроиз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учителя-логоп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0" y="2742480"/>
            <a:ext cx="9144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Рекомендации» указывается рекомендуемое направление («Зачислен на логопункт», «Поставлен на очередь», направлен на ПМП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4495680"/>
          <a:ext cx="8686800" cy="1428840"/>
        </p:xfrm>
        <a:graphic>
          <a:graphicData uri="http://schemas.openxmlformats.org/drawingml/2006/table">
            <a:tbl>
              <a:tblPr/>
              <a:tblGrid>
                <a:gridCol w="430200"/>
                <a:gridCol w="430200"/>
                <a:gridCol w="428760"/>
                <a:gridCol w="430560"/>
                <a:gridCol w="463680"/>
                <a:gridCol w="429120"/>
                <a:gridCol w="428760"/>
                <a:gridCol w="428760"/>
                <a:gridCol w="428760"/>
                <a:gridCol w="464040"/>
                <a:gridCol w="429120"/>
                <a:gridCol w="428760"/>
                <a:gridCol w="428760"/>
                <a:gridCol w="428760"/>
                <a:gridCol w="464040"/>
                <a:gridCol w="428760"/>
                <a:gridCol w="429120"/>
                <a:gridCol w="428760"/>
                <a:gridCol w="428760"/>
                <a:gridCol w="429120"/>
              </a:tblGrid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клас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обследованны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с нарушениями речев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логопун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288080" y="36270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 за _____________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я - логопеда МДОУ №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1400"/>
            <a:ext cx="9144000" cy="3682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обследования устной и письмен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447920"/>
          <a:ext cx="8610480" cy="1189080"/>
        </p:xfrm>
        <a:graphic>
          <a:graphicData uri="http://schemas.openxmlformats.org/drawingml/2006/table">
            <a:tbl>
              <a:tblPr/>
              <a:tblGrid>
                <a:gridCol w="314280"/>
                <a:gridCol w="1247760"/>
                <a:gridCol w="1168200"/>
                <a:gridCol w="1751040"/>
                <a:gridCol w="1646280"/>
                <a:gridCol w="1241640"/>
                <a:gridCol w="1241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ая успеваемость по русскому язы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звукопроиз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учителя-логоп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0" y="2742480"/>
            <a:ext cx="9144000" cy="4734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Рекомендации» указывается рекомендуемое направление («Зачислен на логопункт», «Поставлен на очередь», направлен на ПМП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4495680"/>
          <a:ext cx="8686800" cy="1428840"/>
        </p:xfrm>
        <a:graphic>
          <a:graphicData uri="http://schemas.openxmlformats.org/drawingml/2006/table">
            <a:tbl>
              <a:tblPr/>
              <a:tblGrid>
                <a:gridCol w="430200"/>
                <a:gridCol w="430200"/>
                <a:gridCol w="428760"/>
                <a:gridCol w="430560"/>
                <a:gridCol w="463680"/>
                <a:gridCol w="429120"/>
                <a:gridCol w="428760"/>
                <a:gridCol w="428760"/>
                <a:gridCol w="428760"/>
                <a:gridCol w="464040"/>
                <a:gridCol w="429120"/>
                <a:gridCol w="428760"/>
                <a:gridCol w="428760"/>
                <a:gridCol w="428760"/>
                <a:gridCol w="464040"/>
                <a:gridCol w="428760"/>
                <a:gridCol w="429120"/>
                <a:gridCol w="428760"/>
                <a:gridCol w="428760"/>
                <a:gridCol w="429120"/>
              </a:tblGrid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клас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обследованны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с нарушениями речев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логопун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3627000"/>
            <a:ext cx="9144000" cy="6426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 за _____________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я - логопеда МОУ №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1209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Международные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нормативно-правовые ак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26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венция о правах ребен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а Генеральной Ассамблеей ООН 20.11. 1989 г. Ратифицирована третьей сессией Верховного Совета СССР 13.06.199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кларация Организации Объединенных Наций о правах умственно-отсталых лиц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озглашена резолюцие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неральной ассамблеи ООН 20.12.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кларация Организации Объединенных Наций о правах инвалид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а на ХХХ сессии ООН 09.12.197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онтологический кодек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 в Страсбурге 21.10.199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аламанкская декларация о принципах, политике и практической деятельности в сфере образования лиц с особыми потребност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а Всемирной конференцией по образованию лиц 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быми потребностями: доступ и качество. Саламанка, Испания, 7-10.06.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ждународная статистическая классификация болезней , травм и причин смерти 10 пересмотра (МКБ 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145440"/>
            <a:ext cx="9144000" cy="11898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 коррекционно-педагогической рабо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пе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 (ФИ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№_____ за 20_____ - 20_____ уч.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с аналитической запиской по основным пунктам годового плана организационно-педагогической работы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066680"/>
          <a:ext cx="8591400" cy="5639040"/>
        </p:xfrm>
        <a:graphic>
          <a:graphicData uri="http://schemas.openxmlformats.org/drawingml/2006/table">
            <a:tbl>
              <a:tblPr/>
              <a:tblGrid>
                <a:gridCol w="1280880"/>
                <a:gridCol w="678240"/>
                <a:gridCol w="678240"/>
                <a:gridCol w="527760"/>
                <a:gridCol w="527760"/>
                <a:gridCol w="527040"/>
                <a:gridCol w="526320"/>
                <a:gridCol w="304560"/>
                <a:gridCol w="887040"/>
                <a:gridCol w="935640"/>
                <a:gridCol w="837000"/>
                <a:gridCol w="880920"/>
              </a:tblGrid>
              <a:tr h="26064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устной ре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письменной реч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м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н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b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к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НС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ОН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ФФ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Фм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3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ислено на логопун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слено с логопедического пун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0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ено на логопедическом пунк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ятельности учителя-дефектолога  МД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е)». Принят Гос.Думой  02.06.199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1998 г. №124-ФЗ (в ред. от 20.07.2000 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70/23-16 от 07.04.1999 «О практике проведения диагностики развития ребенка в системе дошкольного образ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от 22 июля 1997 г. N 990/14-15 «О подготовке детей к школ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инобразования РФ от 14.03.2000 г. N 65/23-16 «О гигиенических требованиях к максимальной нагрузке на детей дошкольного возраста в организованных формах обу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27/2722-6 от 03.04.2003 г. «Об организации работы с обучающимися, имеющими сложный дефек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О РФ от 29.06.1999 г. № 129/23-16 «Об организации в дошкольных образовательных учреждениях групп кратковременного пребывания для детей с отклонениями в развит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О направлении методического письма "Об интегрированном воспитании и обучении детей с отклонениями в развитии в дошкольных образовательных учреждениях". Письмо Минобразования РФ от 16.01.2002 г. N 03-51-5ин/23-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ГУОиН Челябинской области от 14.10.2005г. № 05-3613 «Организация интегрированного обучения и воспитания детей с отклонениями в развитии в образовательных учреждениях Челябинской облас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о специальной (коррекционной) группе для детей с ЗПР,  нарушением зрения (слуха, интеллекта и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 (обязанности) учителя-дефектол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о зачислении детей в специальную (коррекционную) групп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ая документац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ителя-дефектолога М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 фронтальных занят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ланы-конспекты фронтальных (подгрупповых), индивидуальных занят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рафик работы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Циклограмма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Коллегиальные заключения, протоколы обследования ПМП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ндивидуальная карта развития ребен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аспорт кабинета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учета посещаемости занят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профилактической рабо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движения де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консультац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апка с печатными материалами по темам консультац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воспитател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другими специалис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ндивидуальные тетради де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тчет об эффективности работ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одовой отчет (с анализом выполненной работы по пунктам годового плана организационно-педагогической деятельности учителя-дефектолога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96120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: (в т.ч. в соответствии с годовыми задачами учрежд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280" y="1905120"/>
          <a:ext cx="8763120" cy="4762440"/>
        </p:xfrm>
        <a:graphic>
          <a:graphicData uri="http://schemas.openxmlformats.org/drawingml/2006/table">
            <a:tbl>
              <a:tblPr/>
              <a:tblGrid>
                <a:gridCol w="487440"/>
                <a:gridCol w="2459160"/>
                <a:gridCol w="2313000"/>
                <a:gridCol w="1752480"/>
                <a:gridCol w="1751040"/>
              </a:tblGrid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содержание направлени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другими специалис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вал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0" y="211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17000"/>
            <a:ext cx="9144000" cy="1553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перспективном плане отражаются основные направления деятельности учителя-дефектолога по разделам в соответствии с этапами коррекционно-педагогической работы по программам коррекционно-развивающего воспитания и обучения каждой категории детей с нарушениями в развитии (в соответствии с программой воспитания и обучения детей с нарушением зрения, слуха, интеллекта  т.д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42920" y="2133720"/>
          <a:ext cx="7496280" cy="3475080"/>
        </p:xfrm>
        <a:graphic>
          <a:graphicData uri="http://schemas.openxmlformats.org/drawingml/2006/table">
            <a:tbl>
              <a:tblPr/>
              <a:tblGrid>
                <a:gridCol w="1584360"/>
                <a:gridCol w="1549440"/>
                <a:gridCol w="1407960"/>
                <a:gridCol w="1446480"/>
                <a:gridCol w="150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вощи, фрукт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ое обсле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 (формы, методы работы, игры, упражнения, зад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сен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«»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28600" y="5503320"/>
            <a:ext cx="8915400" cy="13726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необходимо снабдить пояснительной запиской, в которой следу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характеристику уровня развития детей груп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программу коррекционно-развивающего обучения и используемые методические рекоменд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задачи обучения (по периодам, раздела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зить изменения, внесенные в программный материал, объяснить, чем они обуслов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24320" y="1773360"/>
            <a:ext cx="5898600" cy="3682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 фронталь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02960"/>
            <a:ext cx="88200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-конспекты занятий (фронтальных, подгрупповых, индивидуальных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составлены по следующему алгоритм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учета посещаемости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285200" y="5011920"/>
            <a:ext cx="317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2333520"/>
          <a:ext cx="8664480" cy="2619360"/>
        </p:xfrm>
        <a:graphic>
          <a:graphicData uri="http://schemas.openxmlformats.org/drawingml/2006/table">
            <a:tbl>
              <a:tblPr/>
              <a:tblGrid>
                <a:gridCol w="293040"/>
                <a:gridCol w="556560"/>
                <a:gridCol w="351000"/>
                <a:gridCol w="349560"/>
                <a:gridCol w="351360"/>
                <a:gridCol w="263520"/>
                <a:gridCol w="262800"/>
                <a:gridCol w="263880"/>
                <a:gridCol w="262440"/>
                <a:gridCol w="263880"/>
                <a:gridCol w="273240"/>
                <a:gridCol w="271440"/>
                <a:gridCol w="273600"/>
                <a:gridCol w="271440"/>
                <a:gridCol w="273240"/>
                <a:gridCol w="271440"/>
                <a:gridCol w="273240"/>
                <a:gridCol w="271440"/>
                <a:gridCol w="271800"/>
                <a:gridCol w="305280"/>
                <a:gridCol w="239400"/>
                <a:gridCol w="271440"/>
                <a:gridCol w="389520"/>
                <a:gridCol w="1789920"/>
              </a:tblGrid>
              <a:tr h="9064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1"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41920" y="5311800"/>
            <a:ext cx="5243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- фронтальные занятия, «И» - индивидуальные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альная карта развит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09080" cy="17272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нкетны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амилия, имя отчество ребенка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машний адрес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та поступления в образовательное учреждение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Коллегиальное заключение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) Медицинский статус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4000" y="2276640"/>
          <a:ext cx="8497800" cy="2122200"/>
        </p:xfrm>
        <a:graphic>
          <a:graphicData uri="http://schemas.openxmlformats.org/drawingml/2006/table">
            <a:tbl>
              <a:tblPr/>
              <a:tblGrid>
                <a:gridCol w="2124000"/>
                <a:gridCol w="2125800"/>
                <a:gridCol w="2124000"/>
                <a:gridCol w="2124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ы ПМ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иат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ат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-ортопед или хир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а-офтальмол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р-вр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395280" y="4869000"/>
            <a:ext cx="87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08640"/>
            <a:ext cx="8893080" cy="3373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) Психолого-педагогический и социальный статус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4869000"/>
          <a:ext cx="8496360" cy="1671480"/>
        </p:xfrm>
        <a:graphic>
          <a:graphicData uri="http://schemas.openxmlformats.org/drawingml/2006/table">
            <a:tbl>
              <a:tblPr/>
              <a:tblGrid>
                <a:gridCol w="2052720"/>
                <a:gridCol w="2195280"/>
                <a:gridCol w="2197080"/>
                <a:gridCol w="2051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ы ПМ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дефект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 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189000"/>
            <a:ext cx="8785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легиальное заключение ПМПк (консилиума) учре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__________________________  № протокола 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1397160"/>
          <a:ext cx="8496000" cy="492912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по итогам диагностического изучения на начало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дефект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готовности к продолжению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лого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психического развития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семьи (уровень психолого-педагогической компетенц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и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делы индивидуальной коррекционно-развивающей программы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дагогическая 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группа: 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гламент работы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916280"/>
          <a:ext cx="8713800" cy="186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055520"/>
                <a:gridCol w="1440000"/>
                <a:gridCol w="2160360"/>
                <a:gridCol w="1152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руемая фун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направления коррекционно-развивающ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(положительная, отрицательная, незначительная, волнообразна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коррекционно-развивающих мероприятий за данный 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0" y="3789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дицинская корр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24000" y="4149720"/>
          <a:ext cx="8640720" cy="2367000"/>
        </p:xfrm>
        <a:graphic>
          <a:graphicData uri="http://schemas.openxmlformats.org/drawingml/2006/table">
            <a:tbl>
              <a:tblPr/>
              <a:tblGrid>
                <a:gridCol w="1307880"/>
                <a:gridCol w="1355760"/>
                <a:gridCol w="1008000"/>
                <a:gridCol w="1008000"/>
                <a:gridCol w="1081080"/>
                <a:gridCol w="2880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ие 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начения, рекомендации врачей учреждения (основ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ла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медицинских мероприятий за данный 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а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иа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т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ист контроля динамики развития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тоги усвоения индивидуальной коррекционно-развивающ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1413000"/>
          <a:ext cx="8785440" cy="4681440"/>
        </p:xfrm>
        <a:graphic>
          <a:graphicData uri="http://schemas.openxmlformats.org/drawingml/2006/table">
            <a:tbl>
              <a:tblPr/>
              <a:tblGrid>
                <a:gridCol w="1756440"/>
                <a:gridCol w="1757880"/>
                <a:gridCol w="1756440"/>
                <a:gridCol w="1757880"/>
                <a:gridCol w="175680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индивидуальной коррекционно-развивающей програм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за первое полугодие (положительная, отрицательная, незначительная, волнообразна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за второе полугодие (положительная, отрицательная, незначительная, волнообразна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коррекционно-развивающей работы за данный 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че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опедиче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семь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ждународные нормативно-правовы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онтологический кодекс. Принят в Страсбурге 21.10.199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4 доку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обязанности психотерапев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нности психотерапевта по отношению к паци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я психотерапевта своим коллегам, другим профессионалам в области здоровья и учебным заведен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е деонтологического код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ламанкская декларация о принципах, политике и практической деятельности в сфере образования лиц с особыми потребност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нает «необходимость и безотлагательность обеспечения образования для детей, молодежи и взрослых с особыми образовательными потребностями в рамках обычной системы образова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ирует право лиц, имеющих особые потребности в области образования, на обучение в обычных школах, «которые должны создать им условия на основе педагогических методов, ориентированных в первую очередь на детей с целью удовлетворения этих потребносте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ывает принять «принцип инклюзивного образования, заключающийся в том, что все дети поступают в обычные школы, если только не имеется серьезных причин, заставляющих поступать иначе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обряет Рамки действий по образованию лиц с особыми потреб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тоги усвоения образовательной  и дополнительной программы ребе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333360"/>
          <a:ext cx="8713800" cy="6375240"/>
        </p:xfrm>
        <a:graphic>
          <a:graphicData uri="http://schemas.openxmlformats.org/drawingml/2006/table">
            <a:tbl>
              <a:tblPr/>
              <a:tblGrid>
                <a:gridCol w="2098440"/>
                <a:gridCol w="2154240"/>
                <a:gridCol w="976320"/>
                <a:gridCol w="1065240"/>
                <a:gridCol w="2419560"/>
              </a:tblGrid>
              <a:tr h="128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образовательной програм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по итогам диагностического изучения на начало учебного года (соответствует возрастным показателям, ниже возрастных нормативов, значительно ниже возрастных норматив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за первое полугодие (положительная, отрицательная, незначительная, волнообразная и др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обучения и воспитания за данный учебн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ое полугод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ое полугод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речи и знакомство с окружающи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е грамо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ЭМ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лик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ир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 тру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бслужи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льное вос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ое вос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ховно-нравственное вос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8120" y="83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иклограмма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762120"/>
          <a:ext cx="8076960" cy="792000"/>
        </p:xfrm>
        <a:graphic>
          <a:graphicData uri="http://schemas.openxmlformats.org/drawingml/2006/table">
            <a:tbl>
              <a:tblPr/>
              <a:tblGrid>
                <a:gridCol w="2689200"/>
                <a:gridCol w="2687400"/>
                <a:gridCol w="270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736360" y="16758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2286000"/>
          <a:ext cx="8643960" cy="3254400"/>
        </p:xfrm>
        <a:graphic>
          <a:graphicData uri="http://schemas.openxmlformats.org/drawingml/2006/table">
            <a:tbl>
              <a:tblPr/>
              <a:tblGrid>
                <a:gridCol w="639720"/>
                <a:gridCol w="612720"/>
                <a:gridCol w="741600"/>
                <a:gridCol w="744480"/>
                <a:gridCol w="479520"/>
                <a:gridCol w="479160"/>
                <a:gridCol w="480960"/>
                <a:gridCol w="479520"/>
                <a:gridCol w="480960"/>
                <a:gridCol w="479520"/>
                <a:gridCol w="1168560"/>
                <a:gridCol w="990360"/>
                <a:gridCol w="8668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.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ое  заклю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осведомленность в окружающ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ыки самообслуж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мелкой и общей мотор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етные оп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сенсорных этал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0" y="58356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 «Рекомендации» указывается куда направлен ребенок и какой вид помощи ему необходим (консультация дефектолога МДОУ, ПМПК,  помощь других специалистов и т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Примечание» указываются наиболее значимые анамнестические сведения, другие данные о ребе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8120" y="260280"/>
            <a:ext cx="304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консуль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914400"/>
          <a:ext cx="8534520" cy="792000"/>
        </p:xfrm>
        <a:graphic>
          <a:graphicData uri="http://schemas.openxmlformats.org/drawingml/2006/table">
            <a:tbl>
              <a:tblPr/>
              <a:tblGrid>
                <a:gridCol w="371520"/>
                <a:gridCol w="515880"/>
                <a:gridCol w="2890800"/>
                <a:gridCol w="1135080"/>
                <a:gridCol w="2065320"/>
                <a:gridCol w="1555920"/>
              </a:tblGrid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консультируемого (возраст, категория (педагог, родитель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или место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95280" y="2046960"/>
            <a:ext cx="8748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атериалам проведенных консультаций, выступлений оформляется папка с печатными материал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708280"/>
            <a:ext cx="9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 учителя-дефект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3573360"/>
          <a:ext cx="8569080" cy="3033720"/>
        </p:xfrm>
        <a:graphic>
          <a:graphicData uri="http://schemas.openxmlformats.org/drawingml/2006/table">
            <a:tbl>
              <a:tblPr/>
              <a:tblGrid>
                <a:gridCol w="430200"/>
                <a:gridCol w="426960"/>
                <a:gridCol w="500040"/>
                <a:gridCol w="500040"/>
                <a:gridCol w="698400"/>
                <a:gridCol w="1170000"/>
                <a:gridCol w="482760"/>
                <a:gridCol w="360360"/>
                <a:gridCol w="568440"/>
                <a:gridCol w="569880"/>
                <a:gridCol w="571320"/>
                <a:gridCol w="779400"/>
                <a:gridCol w="503280"/>
                <a:gridCol w="505080"/>
                <a:gridCol w="502920"/>
              </a:tblGrid>
              <a:tr h="537840">
                <a:tc gridSpan="5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едование по возра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детей с отклоняющимся развит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нару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Ц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е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е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специфические нарушения (РДА, гипердинамический синдром и т.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консуль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450720"/>
            <a:ext cx="891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б эффективности работы учителя-дефектолога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ДОУ № _______ за __________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341360"/>
          <a:ext cx="8209080" cy="3730680"/>
        </p:xfrm>
        <a:graphic>
          <a:graphicData uri="http://schemas.openxmlformats.org/drawingml/2006/table">
            <a:tbl>
              <a:tblPr/>
              <a:tblGrid>
                <a:gridCol w="554040"/>
                <a:gridCol w="496800"/>
                <a:gridCol w="633600"/>
                <a:gridCol w="793800"/>
                <a:gridCol w="690480"/>
                <a:gridCol w="720720"/>
                <a:gridCol w="574560"/>
                <a:gridCol w="716040"/>
                <a:gridCol w="941400"/>
                <a:gridCol w="1008000"/>
                <a:gridCol w="1079640"/>
              </a:tblGrid>
              <a:tr h="1278000"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зачисленных в груп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 в течении  уч.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о в течении уч.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детей на конец уч.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выпущенны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овано направ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хорошей реч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значит. улучш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луч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образоват. шко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(к)ОУ … ви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разви-вающую группу 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04920" y="5685120"/>
            <a:ext cx="86104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 работы по пунктам годового плана организационно-педагогической работы учителя-дефектол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аналитической справке отражается уровень и степень реализации основных направлений деятельности учителя-логопеда в соответствии с годовым планом организационно-педагог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ятельности учителя-дефектолога  М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8560" y="1483920"/>
            <a:ext cx="8785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е)». Принят Гос.Думой  02.06.19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1998 г. №124-ФЗ (в ред. от 20.07.2000 г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оссийской Федерации от 12 марта 1997 г. N 288 «Об утверждении типового положения о специальном (коррекционном) образовательном учреждении для обучающихся, воспитанников с отклонениями в развитии» с изменениями  от 10 марта 200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31 июля 1998 г. N 867 «Об утверждении Типового положения об образовательном учреждении для детей, нуждающихся в психолого-педагогической и медико-социальной помощи» (с изменениями от 23 декабря 2002 г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инобразования РФ от 4 сентября 1997 г. N 48. «О специфике деятельности специальных (коррекционных) образовательных учреждений I-VIII видов» (с изм. и доп. от 26 декабря 2000 г.)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О РФ от 3 ноября 2000 г. № 27/1169-6 «О программах для 5-9 классов специальных (коррекционных)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и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О РФ от 24 января № 01-50-25/32-05 «О защите конституционных прав на образование детей-инвалидов, страдающих умственной отсталостью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О РФ от 22 февраля 1999 г. N 220/11-12 «О недопустимости перегрузок обучающихся начальной школ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руктивно-методическое письмо ГУОиН Челябинской области от 14 октября 2002 года № 05-3613 «Организация интегрированного обучения и воспитания детей с отклонениями в развитии в образовательных учреждениях Челябинской облас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Об утверждении областных базисных учебных планов специальных (коррекционных) образовательных учреждений I-VIII видов Челябинской области». Письмо МОиН Челябинской области № 07-4007 от 31.08.2006 г. «О внесении изменений и дополнений в областные базисные учебные планы специальных (коррекционных) образовательных учреждений, класс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ов Челябинской облас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коррекционно-педагогической рабо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я-дефектолога МОУ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 А.Д. Вильшанск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77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 коррекционно-педагогической работы учителя-дефектол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ление неблагоприятных вариантов развития и определение учебных трудностей ребенка для осуществления специального коррекционное воздействие (учебная и познавательная деяте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индивидуальных и групповых занятий, обеспечивающих усвоение программ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ое изучение уровня умственного развития детей и результатов коррекционного воз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леживание соответствия выбранной программы, форм, методов и приемов обучения реальным достижениям и уровню развит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 сопровождение обучения и воспитания уча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ое наблюдение за развитием ребенка и усвоением знаний в соответствии с обязательным минимумом содержания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ьшанская А.Д. Дефектологическое сопровождение учащихся с задержкой психического развития в условиях системы коррекционно-развивающего обучения//Дефектология. – 2007. № 2. С. 50-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правления деятельност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чителя-дефектолога М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агнос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ульта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ветитель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агностическое и программно-методическое обеспечение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гностическое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аго Н.Я., Семаго М.М.  Диагностический комплект. Исследование особенностей развития познавательной сферы детей дошкольного и младшего школьного возраста .-М.: АРКТИ,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аго Н.Я., Семаго М.М. Проблемные дети  Основы диагностической и коррекционной работы психолога.-М.:АРКТИ,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рамная С.Д., Боровик О.В.     Практический материал для проведения психолого – педагогического обследования детей.- М.: В. Секачев Институт общегуманитарных исследований,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илько А,А, Шипицина Л.М. Психолого – педагогическая диагностика отклонений развития детей младшего школьного возраста.- СПб,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рамная С.Д. Психолого – педагогическая диагностика умственного развития детей .- М.: Владос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енович А.В. Нейропсихологическая диагностика и  коррекция в детском возрасте .- М.:Издательский центр Академия,2002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овская И. Ф. Задержка психического развития ( клинико-нейропсихологическая диагностика).- М, 1993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цинковская Т.Д. Диагностика психического развития детей .- М..- Линка-Пресс, 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тапов В.М  Диагностика развития понятийных форм мышления.- М.: АРКТИ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танова Т.А. Диагностика умственных способностей детей.-М.: Флинта ,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лаева Р. И., Венедиктова Л.В. Диагностика и коррекция нарушения чтения и письма у младших школьников.- СПб:Союз,200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инова Л.Н. Диагностика и коррекция в образовании детей с задержкой психического развития.-М: НЦ ЭНАС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ностика и коррекция задержки психического развития у детей: Пособие для учителей и специалистов коррекционно-развивающего обучения   /Под ред. С. Г. Шевченко. – М.: АРКТИ, 200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65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опыта работы ПМПК Тракторозаводского района (заведующая Н. Н. Никифорова ) и МОУ СОШ № 39 (директор О.В. Забабур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правления деятельност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чителя-дефектолога М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агнос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ульта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ветитель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 направление деятельности учителя-дефектолог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ставляет собой систему коррекционного воздействия на учебно-познавательную деятельность ребенка в динамике образовательного процесса</a:t>
            </a:r>
            <a:br>
              <a:rPr sz="4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коррекционно-развивающей работы учителя-дефектолога МО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 А.Д. Вильшанс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нсорное и сенсомотор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пространственно-времен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ственное развитие (мотивационный, операционный и регуляционный компоненты; формирование соответствующих возрасту общеинтеллектуальных умений, развитие словесных и наглядных форм мыш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ализация ведущей деятельности возра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необходимых для усвоения программного материала умений и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разносторонних представлений о предметах и явлениях окружающей действительности, обогащение словаря, развитие связно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товность к восприятию учеб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мки действий по образованию лиц с особыми потребностями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няты на Всемирной конференцией по образованию лиц с особыми потребностями: доступ и качество. 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ламанка, Испания, 7-10.06.199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Разработаны в качестве общего руководства для планирования действий в области образования лиц с особыми потребностями, опираются на национальный опыт участвующих стран, а также резолюции, рекомендации, стандартные правила обеспечения равных возможностей для инвалидов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Концепция инклюзивной школы. Основной принцип инклюзивной школы - все дети должны обучаться совместно во всех случаях, когда это является возможным. Руководящий принцип - школы должны принимать всех детей, несмотря на их физические, интеллектуальные, социальные, эмоциональные, языковые или другие особенност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Каждый человек с каким-либо умственным или физическим недостатком имеет право выразить свои пожелания в отношении своего образования в той мере, в которой это может быть точно установлен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Родители пользуются неотъемлемым правом на то, чтобы с ними консультировались относительно форм образования, которые в лучшей степени удовлетворяли бы потребностям, обстоятельствам или чаяниям их дете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Обучение следует соответствующим образом адаптировать к потребностям детей, а не подгонять детей к заранее устоявшимся предположениям относительно организации и характера учебного процесс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В рамках инклюзивных школ дети с особыми образовательными потребностями должны получать любую дополнительную помощь, которая может им потребоваться для обеспечения их эффективного образова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Службы поддержки имеют решающее значение для успешного проведения в жизнь политики в области инклюзивного образовани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агностическое и программно-методическое обеспечение деятельности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тодическое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аго Н.Я., Семаго М.М. Проблемные дети: Основы диагностической и коррекционной работы психолога. – М.: АРКТИ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майчук И.И., Ильина М.Н. Помощь психолога ребенку с задержкой психического развития. Научно-практическое руководство. – СПб.: Речь, 200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уфриев А.Ф., Костромина С.Н. Как преодолеть трудности в обучении детей. Психодиагностические таблицы. Психодиагностические методики. Коррекционные упражнения. – 2-е изд., перераб. – М.:  «Ось-89»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агностика и коррекция задержки психического развития у детей: Пособие для учителей и специалистов коррекционно-развивающего обучения / Под ред. С. Г. Шевченко. – М.: АРКТИ, 2001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бботина Л. Ю. Игры для развития и обучения. Дети 5 – 10 лет.- Ярославль: Академия Холдинг,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ынтарный В. В. Играем пальчиками и развиваем речь. – СПб.: Лань, 199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зепина Т. Б. Развитие пространственно-временных ориентиров ребёнка в играх, тренингах, тестах / Серия «Мир вашего ребёнка». – Ростов н / Д: Феник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рёменко Б.Р., Ерёменко А.Б. Минимальные  дисфункции головного мозга .- СПб ,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това О.В. Формирование пространственных представлений у детей с ДЦП.- М.:  Гном и Д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расова О.В., Шамарина Е.В. Развитие мышления младших школьников с ЗПР средствами математики.-М.: Гном и Д,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хомирова Л.Ф. Упражнение на каждый день: Логика для младших школьников.-Ярославль: Академия Холдинг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лодова О. Задания по развитию познавательных способностей.-М.:РОСТ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аденко Н.Н. Как понять ребёнка: дети с гиперактивностью и дефицитом внимания.- М.:  Школа- Пресс1 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ррекционная педагогика в начальном образовании под редакц. Кумариной Г. Ф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.: Академия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кольская И.М., Бардиер Г.Л. Уроки психологии в начальной школе.- С Пб : Речь,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 с задержкой психического развития: особенности речи, письма,чтения./ Под ред. Лубовского.-М.:Школьная Пресса,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амарина Е.В. Обучение детей с ЗПР: организация индивидуальных и групповых занятий в классе коррекционно-развивающего обучения.-М.:Гном и Д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евченко С. Г. Коррекционно-развивающее обучение: организационно-педагогические аспекты.-М.:Владос,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анова О.А. Игровая школа мышления.-М.:ТЦ Сфера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иагностическое и программно-методическое обеспечение деятельности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ррекционно-развивающ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ограммы для общеобразовательных учреждений: Коррекционно-развивающее обучение: Начальные классы (1-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одготовительный класс/ Под ред. Шевченко.-М.: Школьная Пресса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Зак А. З. Совершенствование познавательных умений у детей 5 – 12 лет. – М.: Московский психолого-социальный институт; Воронеж:  НПО «МОДЭК», 1999. 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оноваленко С.В. Развитие познавательной деятельности у детей от 6-9 лет. Практикум. – М.:  Гном и Д, 200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окалова Н. П.  Как помочь слабоуспевающему школьнику. Психодиагностические таблицы: причины и коррекция трудностей при обучении младших школьников русскому языку, чтению и математике. – Изд. 3-е, М.:  «Ось-89», 2003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емаго Н.Я, Семаго ММ. Формирование пространственных представлений. Формирование произвольной регуляции.-М.:АРКТИ,200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еменович А.В. Нейропсихологическая диагностика и  коррекция в детском возрасте.- М.: Издательский центр Академия, 2002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ипова А.А. Диагностика и коррекция внимания Программа для детей 5 -9 лет.- М: ТЦ Сфера, 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ихомирова Л.Ф., Басов Развитие логического мышления .-Ярославль: ТОО Гринго, 199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амоукина Н.В. Игры в школе и дома: психотехнические упражнения, коррекционные программы.-Ярославль: Академия Холдинг, 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алаева Р.И. Лалаева, Серебрякова Н.В., Зорина С.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рушения речи и их коррекция у детей с задержкой психического развития.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.:Владос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авловаТ.А. Развитие пространственного ориентирования у дошкольников и младших школьников.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.: Школьная Пресса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иротюк А.Л. Коррекция обучения и развития школьников.-М.: ТЦ Сфера,200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еменович А.В. Эти невероятные левши.-М.:Генезис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епанова О.А. Профилактика школьных трудностей.-М.: ТЦ Сфера,2003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194040"/>
            <a:ext cx="8462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составления индивидуального коррекционно-образовательного маршрута (ИКО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Имя Отчество 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 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№ 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бучения и воспитания 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МПК 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МПК 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3068640"/>
          <a:ext cx="8136000" cy="2881440"/>
        </p:xfrm>
        <a:graphic>
          <a:graphicData uri="http://schemas.openxmlformats.org/drawingml/2006/table">
            <a:tbl>
              <a:tblPr/>
              <a:tblGrid>
                <a:gridCol w="431640"/>
                <a:gridCol w="2200320"/>
                <a:gridCol w="1400400"/>
                <a:gridCol w="1863720"/>
                <a:gridCol w="1116000"/>
                <a:gridCol w="112392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коррекционного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оррекционного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0920" y="265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коррекционно-развивающий маршру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014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00" y="1742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2421000"/>
          <a:ext cx="8893080" cy="1062000"/>
        </p:xfrm>
        <a:graphic>
          <a:graphicData uri="http://schemas.openxmlformats.org/drawingml/2006/table">
            <a:tbl>
              <a:tblPr/>
              <a:tblGrid>
                <a:gridCol w="1397160"/>
                <a:gridCol w="749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-100800" y="356940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коррекции специалистов МО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3844800"/>
          <a:ext cx="8713800" cy="2827440"/>
        </p:xfrm>
        <a:graphic>
          <a:graphicData uri="http://schemas.openxmlformats.org/drawingml/2006/table">
            <a:tbl>
              <a:tblPr/>
              <a:tblGrid>
                <a:gridCol w="1270080"/>
                <a:gridCol w="2330640"/>
                <a:gridCol w="3638520"/>
                <a:gridCol w="14745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коррекцион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ространственных отношений, формирование навыков взаимодействия в груп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, развитие и формирование высших психических функций (Сиротюк  А.Л. Нейропсихологическое и нейрофизиологическое сопровождение обучения. – М.: ТЦ Сфера, 2003. – 288 с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фонематического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лаева Р.И., Серебрякова Н.В., Зорина С.В. Нарушения речи и их коррекция у детей с задержкой психического развития. М., 2003. – 304 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лизация звукопроиз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.-под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олнение пробелов в знаниях, умениях, навы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програм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.-под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234936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ключение специалистов ПМ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060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едущий специалист  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________ полугодие ________________ учеб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4136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учающегося 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 обучающегося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едагога - психол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ждународные акты в области  охраны прав и законных интересов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 от 02.06. 199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98 № 124-Ф3 (в ред. от 20.07.2000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каз МО РФ «Об утверждении Положения о службе практической психологии в системе МО РФ» № 636 от 22.10.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612 от 26.06.1995 г. «Об утверждении Типового положения об образовательном учреждении для детей, нуждающихся в психолого-педагогической и медико-социальной помощ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ановление Министерства труда и социального развития РФ № 1 от 27.09.1996 г. «Об утверждении Положения о профессиональной ориентации и психологической поддержке населения в РФ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612 от 26.06.1995 г. «Об утверждении Типового положения об образовательном учреждении для детей, нуждающихся в психолого-педагогической и медико-социальной помощ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исьмо Мо РФ № 70/23-16 от 07.04.1999 г. «О практике проведения диагностики развития ребенка в системе дошкольно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исьмо МО РФ от 22.01.98 № 20-58-07 ИН/20-4 «Об учителях логопедах и педагогах-психологах учреждений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структивное письмо МО РФ № 29/1886-6 от 24.12.2001 г. «Об использовании рабочего времени педагога-психолога образовательного учрежд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ерная документация педагога-психолога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по рекомендациям Коноваловой И. Формы учета деятельности и отчетности педагога-психолога образовательного учреждения» //Управление школой. – 2005. - № 16. – С.11-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довой план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фик (расписание) на рабочую нед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урнал учета видов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агнос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вающая и коррекцион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свети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ксперт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тический отчет за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Годовой план работы педагога-психол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79280" y="1341360"/>
          <a:ext cx="8785080" cy="5327280"/>
        </p:xfrm>
        <a:graphic>
          <a:graphicData uri="http://schemas.openxmlformats.org/drawingml/2006/table">
            <a:tbl>
              <a:tblPr/>
              <a:tblGrid>
                <a:gridCol w="933840"/>
                <a:gridCol w="2580840"/>
                <a:gridCol w="1755720"/>
                <a:gridCol w="1757520"/>
                <a:gridCol w="1757160"/>
              </a:tblGrid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вающая и коррекцион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уль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ветитель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о-метод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График (расписание) на рабочую неделю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педагога-психол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9280" y="1197000"/>
          <a:ext cx="8713440" cy="5400360"/>
        </p:xfrm>
        <a:graphic>
          <a:graphicData uri="http://schemas.openxmlformats.org/drawingml/2006/table">
            <a:tbl>
              <a:tblPr/>
              <a:tblGrid>
                <a:gridCol w="2598120"/>
                <a:gridCol w="4077360"/>
                <a:gridCol w="2037960"/>
              </a:tblGrid>
              <a:tr h="108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и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мероприятия с указанием времени и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Журналы учета видов работы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1700280"/>
          <a:ext cx="8424720" cy="1322280"/>
        </p:xfrm>
        <a:graphic>
          <a:graphicData uri="http://schemas.openxmlformats.org/drawingml/2006/table">
            <a:tbl>
              <a:tblPr/>
              <a:tblGrid>
                <a:gridCol w="1684080"/>
                <a:gridCol w="1685880"/>
                <a:gridCol w="1886040"/>
                <a:gridCol w="1484280"/>
                <a:gridCol w="16844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,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И.О., возр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кого поступил за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 и рекоменд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24000" y="3284640"/>
          <a:ext cx="8424720" cy="125100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  <a:gridCol w="280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диагностической метод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203640" y="465300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95280" y="5300640"/>
          <a:ext cx="8353440" cy="1158840"/>
        </p:xfrm>
        <a:graphic>
          <a:graphicData uri="http://schemas.openxmlformats.org/drawingml/2006/table">
            <a:tbl>
              <a:tblPr/>
              <a:tblGrid>
                <a:gridCol w="1368360"/>
                <a:gridCol w="1728720"/>
                <a:gridCol w="1800360"/>
                <a:gridCol w="2087640"/>
                <a:gridCol w="1368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,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И.О., возраст,  др.да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а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консультации, 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98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Журналы учета видов работы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звивающая и коррекционн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4000" y="1916280"/>
          <a:ext cx="8496000" cy="1322280"/>
        </p:xfrm>
        <a:graphic>
          <a:graphicData uri="http://schemas.openxmlformats.org/drawingml/2006/table">
            <a:tbl>
              <a:tblPr/>
              <a:tblGrid>
                <a:gridCol w="2122200"/>
                <a:gridCol w="2125800"/>
                <a:gridCol w="2376360"/>
                <a:gridCol w="1871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ем проводится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50920" y="4437000"/>
          <a:ext cx="8424720" cy="1873440"/>
        </p:xfrm>
        <a:graphic>
          <a:graphicData uri="http://schemas.openxmlformats.org/drawingml/2006/table">
            <a:tbl>
              <a:tblPr/>
              <a:tblGrid>
                <a:gridCol w="2879640"/>
                <a:gridCol w="431640"/>
                <a:gridCol w="432000"/>
                <a:gridCol w="360360"/>
                <a:gridCol w="360360"/>
                <a:gridCol w="360360"/>
                <a:gridCol w="360360"/>
                <a:gridCol w="358560"/>
                <a:gridCol w="2881440"/>
              </a:tblGrid>
              <a:tr h="4309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 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милия, имя, класс/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611280" y="386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та по программе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акты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br>
              <a:rPr sz="2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«Об образовании» от 13.01.1996 г. № 12 ФЗ (в редакции ФЗ № 68-ФЗ от 20.07.2004 г.). Ст. 50, п.1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 от 02.06. 1999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№ 124-Ф3 от 24.07.98 (в ред. от 20.07.2000 г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 социальной защите инвалидов в РФ» № 181-ФЗ от 24.11.1995 г. (в ред. от 27.05.2000 г. № 78-Д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емейный кодекс Российской Федерации. Принят Государственной думой 08.12.1995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 психиатрической помощи и гарантиях прав граждан при ее оказании № 3185-1 от 02.07.1992 (в ред. от 21.07.1998 г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кон РФ «Об основах системы профилактики безнадзорности и правонарушений несовершеннолетних» № 120-ФЗ от 24.06.1999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Концепция модернизации российского образования на период до 2010 года (приложение к приказу Минобразования России от 11.02.2002 N 393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исьмо МО РФ от 27.06.2003 г. № 28-51-513/16 «Методические рекомендации по психолого-педагогическому сопровождению обучающихся в учебно-воспитательном процессе в условиях модернизации образов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341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Журналы учета видов работы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росветительск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3573360"/>
          <a:ext cx="8496000" cy="1251000"/>
        </p:xfrm>
        <a:graphic>
          <a:graphicData uri="http://schemas.openxmlformats.org/drawingml/2006/table">
            <a:tbl>
              <a:tblPr/>
              <a:tblGrid>
                <a:gridCol w="2122200"/>
                <a:gridCol w="2125800"/>
                <a:gridCol w="2376360"/>
                <a:gridCol w="1871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ем проводится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, форма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2556000" y="2997360"/>
            <a:ext cx="41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кспертн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0920" y="1844640"/>
          <a:ext cx="8497440" cy="1004760"/>
        </p:xfrm>
        <a:graphic>
          <a:graphicData uri="http://schemas.openxmlformats.org/drawingml/2006/table">
            <a:tbl>
              <a:tblPr/>
              <a:tblGrid>
                <a:gridCol w="2374200"/>
                <a:gridCol w="2999520"/>
                <a:gridCol w="3123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проведения, 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2411280" y="486900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4869000"/>
            <a:ext cx="67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5516640"/>
          <a:ext cx="8642160" cy="1004760"/>
        </p:xfrm>
        <a:graphic>
          <a:graphicData uri="http://schemas.openxmlformats.org/drawingml/2006/table">
            <a:tbl>
              <a:tblPr/>
              <a:tblGrid>
                <a:gridCol w="2354040"/>
                <a:gridCol w="2975040"/>
                <a:gridCol w="3313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налитический отчет за учебный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9280" y="1268280"/>
          <a:ext cx="8713440" cy="1862280"/>
        </p:xfrm>
        <a:graphic>
          <a:graphicData uri="http://schemas.openxmlformats.org/drawingml/2006/table">
            <a:tbl>
              <a:tblPr/>
              <a:tblGrid>
                <a:gridCol w="1352880"/>
                <a:gridCol w="920160"/>
                <a:gridCol w="1032840"/>
                <a:gridCol w="1051920"/>
                <a:gridCol w="1049760"/>
                <a:gridCol w="1052280"/>
                <a:gridCol w="1051560"/>
                <a:gridCol w="1202040"/>
              </a:tblGrid>
              <a:tr h="5184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целом проведено за __________ (пери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приемов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7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е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79280" y="3357720"/>
          <a:ext cx="8713800" cy="3239640"/>
        </p:xfrm>
        <a:graphic>
          <a:graphicData uri="http://schemas.openxmlformats.org/drawingml/2006/table">
            <a:tbl>
              <a:tblPr/>
              <a:tblGrid>
                <a:gridCol w="1863720"/>
                <a:gridCol w="873000"/>
                <a:gridCol w="1513080"/>
                <a:gridCol w="1223640"/>
                <a:gridCol w="503280"/>
                <a:gridCol w="2089440"/>
                <a:gridCol w="647640"/>
              </a:tblGrid>
              <a:tr h="51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приемов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индивидуальных обслед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ч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индивидуальных консуль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групповых консуль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едагогов/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         Д.   групповых диагностик        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детей в групповой диагнос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взрослых в групповой диагнос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налитический отчет за учебный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0920" y="1397160"/>
          <a:ext cx="8497800" cy="1738080"/>
        </p:xfrm>
        <a:graphic>
          <a:graphicData uri="http://schemas.openxmlformats.org/drawingml/2006/table">
            <a:tbl>
              <a:tblPr/>
              <a:tblGrid>
                <a:gridCol w="3168720"/>
                <a:gridCol w="1081080"/>
                <a:gridCol w="1439640"/>
                <a:gridCol w="647640"/>
                <a:gridCol w="1584360"/>
                <a:gridCol w="576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индивидуальных коррекционны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 взрос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групповых коррекционны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 взрос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осещений детьми групповой корр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осещений взрослыми групповой корр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24000" y="3716280"/>
          <a:ext cx="8424720" cy="2089080"/>
        </p:xfrm>
        <a:graphic>
          <a:graphicData uri="http://schemas.openxmlformats.org/drawingml/2006/table">
            <a:tbl>
              <a:tblPr/>
              <a:tblGrid>
                <a:gridCol w="3168360"/>
                <a:gridCol w="792360"/>
                <a:gridCol w="1655640"/>
                <a:gridCol w="647640"/>
                <a:gridCol w="1584360"/>
                <a:gridCol w="57636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ие/проведение консилиу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планов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емин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едагогов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.специали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бования к АРМ педагога-психолога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извлечение из положения о смотре-конкурсе автоматизированных рабочих мест (АРМ) педагогов-психологов общеобразовательных учреждени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рядок оценивания оснащения и организации деятельности автоматизированных рабочих мест (АР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АРМ педагогов-психологов МОУ осуществляется по следующим  направлен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ческая подсистема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ащение деятельности специалистов компьютерной техникой, необходимой для автоматизации выполнения ими наиболее типичных и трудоемких функ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спомогательных электронны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связи с другими АРМ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онная подсистема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психологической службы в виде массивов информации, баз данных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версии просветительско-профил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ное обеспечение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сные 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Poi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диагностические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 статистической обработки дан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екционно-развивающие компьютерные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кеты прикладных программ для создания автоматизированных информационных систем – справочные программы, программы для обработки таблиц, ведения массивов информации, создания и ведения баз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учеб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граммы, адекватные характеру решаемых педагогом-психологом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онное обеспечение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ность АРМ в структуру деятельности Службы… и образовательный процесс учреждения (обеспеченность АРМ всех направлений деятельности Службы…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ооборот Службы… в ОУ (электронные  и соответствующие им стандартизированные версии отчетов, индивидуальных характеристик, аналитических справок, карт взаимодействия и т.д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ь владения АРМ сотрудниками Службы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совершенствования А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ы обеспечения конфиденциальности психологической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ргономические характеристики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рациональность организации рабочего места, освещенность рабочей зоны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раметры оценивания АРМ педагога-псих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4360" y="1773360"/>
          <a:ext cx="7991280" cy="4124160"/>
        </p:xfrm>
        <a:graphic>
          <a:graphicData uri="http://schemas.openxmlformats.org/drawingml/2006/table">
            <a:tbl>
              <a:tblPr/>
              <a:tblGrid>
                <a:gridCol w="1726920"/>
                <a:gridCol w="4537080"/>
                <a:gridCol w="936720"/>
                <a:gridCol w="79056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дсистемы АР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АР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я подсистема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: монитор, процессор, клавиатура, мышь, аудиоколон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н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овые накопители: лазерные диск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W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подсистема А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 данных с результатами мониторинговых исследов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араметры оценивания АРМ педагога-психоло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4360" y="1773360"/>
          <a:ext cx="7991280" cy="3456000"/>
        </p:xfrm>
        <a:graphic>
          <a:graphicData uri="http://schemas.openxmlformats.org/drawingml/2006/table">
            <a:tbl>
              <a:tblPr/>
              <a:tblGrid>
                <a:gridCol w="1726920"/>
                <a:gridCol w="4537080"/>
                <a:gridCol w="936720"/>
                <a:gridCol w="790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дсистемы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исные программ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Poin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др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диагностические програм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 статистической обработки дан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о-развивающие компьютерные програм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версии просветительско-профилактических материалов (видеофильмы, учебники, фотоальбомы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ые программы для создания автоматизированных информационных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программы, адекватные характеру решаемых педагогом-психологом зада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араметры оценивания АРМ педагога-психоло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50920" y="907920"/>
          <a:ext cx="8642160" cy="5348160"/>
        </p:xfrm>
        <a:graphic>
          <a:graphicData uri="http://schemas.openxmlformats.org/drawingml/2006/table">
            <a:tbl>
              <a:tblPr/>
              <a:tblGrid>
                <a:gridCol w="1868400"/>
                <a:gridCol w="4905360"/>
                <a:gridCol w="1012680"/>
                <a:gridCol w="855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дсистемы АР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АР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ое обеспечение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ключенность АРМ в структуру деятельности Службы… и образовательный процесс МОУ (обеспеченность АРМ всех направлений деятельности Службы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оборот Службы… в ОУ (электронные и соответствующие им печатные стандартизированные версии отчетов, индивидуальных характеристик, аналитических справок, карт взаимодействия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 владения АРМ сотрудниками Служб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 совершенствования АР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ы обеспечения конфиденциальности психологической информ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ольный вход в информационную систем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гономические характеристики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циональность организации рабочего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ещенность рабочей зо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ПМП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263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структивное письмо МОРФ от 14.07.2003 г. № 27/2967-6 «О психолого-медико-педагогической комисси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612 от 26.06.1995 г. «Об утверждении Типового положения об образовательном учреждении для детей, нуждающихся в психолого-педагогической и медико-социальной помощ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О РФ «Об утверждении Положения о службе практической психологии в системе МО РФ» № 636 от 22.10.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29/2141-6 от 24.05.2002 г. «Методические рекомендации по организации работы центров помощи детям с Р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от 27.03.2000г. № 127 / 901 - «О психолого-медико-педагогическом консилиуме (ПМПк) образовательного учрежд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70/23-16 от 07.04.1999 г. «О практике проведения диагностики развития ребенка в системе дошкольного образ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ическое письмо МО РФ № 48 от 04.09.1997 г. «О специфике деятельности специальных (коррекционных) образовательных учреждени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1279 от 20.11.1999 г. «Об утверждении перечня заболеваний, препятствующих содержанию и обучению несовершеннолетних в специальных учебно-воспитательных учреждениях закрытого типа органов управления образова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Губернатора Челябинской области № 512 от 16.10.1998 г. «Об утверждении примерного положения о психолого-медико-педагогической консультац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ивно-методическое письмо «О приведении документации ПМПК в соответствие с законодательством РФ и Челябинской области от 28.10.2002 г. № 05-37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ГлавУО № 257 от 13.08.1999 г. «О психолого-педагогической и медико-социальной реабилитации детей с ограниченными возможностями здоровь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ГУОиН и ГУЗО от 27/30.12.2002 г. № 01-856/257 «О системе взаимодействия муниципальных органов образования и здравоохранения по раннему выявлению детей с патологией в развит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ГУОиН от 14.04.2003 г. № 05-1471 «Об инструкции по правилам госпитализации детей и подростков в отделения ЧО КСПНБ № 1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785160"/>
            <a:ext cx="9144000" cy="54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правление образования (города, райо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МЕДИКО-ПЕДАГОГИЧЕСКАЯ КОНСУЛЬ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ПМС-центр, ЦДи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робный адрес, телеф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№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ГИАЛЬНОЕ 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о 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.И.О. ребенка, дата рождения, адр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, что он(она) был(а) обследован(а)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бследования на ПМП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: 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: 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чать учреждения, учредител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которого входит ПМПК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МП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543240"/>
            <a:ext cx="9144000" cy="563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ДИВИДУАЛЬНАЯ КАР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ИНИЧЕСКОГО ОБСЛЕДОВАНИЯ РЕБЕНКА НА ПМП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обследования: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И.О. 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рождения: ___________________ Адрес: 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ола (детский сад) №  _________________ Класс (группа)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авлен на ПМПК (кем):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направления 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ь (Ф.И.О.)____________________________________________________________________ года р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е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ессия 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ец (Ф.И.О.)  ___________________________________________________________________ года р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е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ессия 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ледственная отягощенность: и прежде всего психоневрологические заболевания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намика и структура семь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раки, разводы, последовательность рождения детей и т.д. 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бенности воспитания и социального развития ребен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профессиональный статус родителей ребенка и других членов семьи, образовательный уровень, человекоформирующий и развивающий потенциал семьи _ 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ский анамнез: предшествующий настоящей берем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чение беременности и родов: 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ннее развитие: до года 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-моторное развитие: с рождения до настоящего времени, динамика развития 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редакции ФЗ № 68-ФЗ от 20.07.2004 г.). Ст. 50, п.10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а V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ЦИАЛЬНЫЕ ГАРАНТИИ РЕАЛИЗАЦИИ ПРАВ ГРАЖДА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ОБРАЗОВАНИЕ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тья 50. Права и социальная защита обучающихся, воспита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Для детей и подростков с отклонениями в развитии органы управления образованием создают специальные (коррекционные) образовательные учреждения (классы, группы), обеспечивающие их лечение, воспитание и обучение, социальную адаптацию и интеграцию в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нансирование указанных образовательных учреждений осуществляется по повышенным нормати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егории обучающихся, воспитанников, направляемых в указанные образовательные учреждения, а также содержащихся на полном государственном обеспечении, определяются Прави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и и подростки с отклонениями в развитии направляются в указанные образовательные учреждения органами управления образованием только с согласия родителей (законных представителей) по заключению психолого-педагогической и медико-педагогической коми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556920"/>
            <a:ext cx="8458200" cy="61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несенные заболе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рождения и в первую очередь те, которые могут иметь прямое или косвенное отношение к психологическому развитию ребенка 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пансерный учет или наблюде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каких специалистов состоял или состоит и с какого времени, когда снят с учета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я предыдущих ПМПК, ВКК с указанием выполнения их рекомендаций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валидность (по какому заболеванию) 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тория обучения (с указанием видов учебных программ, смены учебных программ, переводов в другое образовательное учреждение, другой детский коллектив, адаптационного периода, пропуска занятий и по каким причинам. Дублирование классов и по каким причинам и т.д.) 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жалоб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чень жалоб ребенка, родителей или заменяющих их лиц, сведения из характеристик, выписок из мед. документации и т.д. 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окулиста: острота зрения, патология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лор-врача (при необходимости заключение сурдолога)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невролога (при необходимости заключение ЭЭГ, ЭхоЭГ 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педиатра (соматический диагноз)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ический статус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дущий патологический синдром 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агноз (по МКБ-10) 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омендации (только врача психиатра, рекомендации остальных специалистов – в общем заключении) 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57200" y="3246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-129240"/>
            <a:ext cx="8305920" cy="71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ключение врачей ПМ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дрес: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ем направлен на ПМПК 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направления 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, возраст 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ец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, возраст 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циальный, профессиональный статус, образовательный уровень родителей, динамика, структура семьи, характеристика микросреды: 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лючение врача-педиатра (диагностические данные об общем физическом состоянии и динамических изменениях в этой сфере. Сведения о состоянии слуха, зрения): 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нные неврологического обследования 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лючение врача-психиатра (данные о психическом состоянии и динамике психического развития): ___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иагноз: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комендации: 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та: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269712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52280"/>
            <a:ext cx="8153280" cy="70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лючение психолога ПМ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И.О ребенка, дата рождения 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риант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возрастных этапов развития с позиции критических периодов и основных новообраз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Новообразования в личностной сфере 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Новообразования в познавательной сфере 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нализ актуального уровня социальной ориентации и адаптации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Система взаимодействия «Ребенок-взрослый»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Система взаимодействия «Ребенок – ребенок»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Адаптивные модели поведения: индивидуальный и групповой уровень 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Дезадаптивные модели поведения: индивидуальный и групповой уровень 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. Средства общения 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. Формы самопрезентации: 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обенности личностной сф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Структура личности 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 Эмоционально-мотивационный компонент 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Самооценка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 Структура ценностных ориентаций 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 Структура самосознания 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обенности интеллектуальной сф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Характеристика вербального интеллекта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Характеристика невербального интеллекта 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 Практическая составляющая интеллекта 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 Теоретическая составляющая интеллекта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ключение 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ценка «зоны ближайшего развития» и прогноз развития с позиции алаптивных характеристик личности и особенностей интеллектуальной сферы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09480" y="762120"/>
            <a:ext cx="7925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риатив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сновных психических 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ция 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имание 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емоника 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сихологическая информация, отвечающая персональному запросу на ребен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, подпись психолога 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-111960"/>
            <a:ext cx="8229600" cy="70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24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ЛЮЧЕНИЕ ДЕФЕКТОЛОГА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И.О. ребенка, дата рождения 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.Соответствие общего развития ребенка его образовательному уров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1. Уровень социальных представлений и ориентировок: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2. Степень развития школьно-значимых функций: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3. Характеристика образовательного уровня: знания, умения, навыки 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4. Особенности усвоения программного материала и причины затруднений. Сопостав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тельного уровня с клинико-психологической структурой развития 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5. Обоснование рекомендуемого вида программы обучения и воспитания 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2. Прогнозирование зоны ближайшего развития в рамках выявленных проблем обучения и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пись: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88560"/>
            <a:ext cx="800100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ЕНИЕ ЛОГОПЕДА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 ребенк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, школа, класс, д/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ведения (проводимая логопедическая коррекция, существенные данные речевого анамнеза – время появления речи, заикание, и др.)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ессивная речь (понимание словаря, предложений, грамматических форм слов, в т.ч. со скрытым смыслом, пословиц, метафор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ктивный словарный запас (обобщение, продолжение тематического ряда, подбор антонимов, синонимов, однокоренных слов, навык объяснения значения слова, временные представления) 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ий строй (употребление сложносочиненных и сложноподчиненных предложений, особенности согласования, словоизменения, использование способов словообразования)_____________________________________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ая сторона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произно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85800" y="4267080"/>
          <a:ext cx="6248520" cy="1708200"/>
        </p:xfrm>
        <a:graphic>
          <a:graphicData uri="http://schemas.openxmlformats.org/drawingml/2006/table">
            <a:tbl>
              <a:tblPr/>
              <a:tblGrid>
                <a:gridCol w="1033920"/>
                <a:gridCol w="500400"/>
                <a:gridCol w="500400"/>
                <a:gridCol w="500760"/>
                <a:gridCol w="500400"/>
                <a:gridCol w="500400"/>
                <a:gridCol w="500760"/>
                <a:gridCol w="500400"/>
                <a:gridCol w="500400"/>
                <a:gridCol w="501120"/>
                <a:gridCol w="70956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лир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ги/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380880" y="75088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09480" y="228600"/>
            <a:ext cx="807732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бенности звукопроизношения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укослоговая структура слова  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ояние просодики, темп, ритм, выразительность речи 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оение и моторика артикуляционного аппарата 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е связное высказывание (серия сюжетных картин, пересказ прослушанного текста и др.)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ушения письма (под диктовку, самостоятельные виды письма, списывание)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ушения чтения 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ояние фонематического слуха (изолир., в слогах, в словах; миним., средн., контрастность) 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выки акустического анализа и синтеза (звук на фоне слова, позиция звуков в слове, последовательность, количество звуков, слогов, составление слова из разрозненных элементов)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люче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: 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пись: 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ПМПк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исьмо МО РФ от 27.03.2000г. № 127 / 901 - «О психолого-медико-педагогическом консилиуме (ПМПк) образовательного учрежд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каз о создании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ожение о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говор о взаимодействии Психолого-медико-педагогической консультации (ПМПК) и психолого-медико-педагогического консилиума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говор между образовательным учреждением (в лице руководителя образовательного учреждения) и родителями (законными представителями) воспитанника (учащегося образовательного учреждения о его психолого-медико-педагогическом обследовании и сопровожд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 работы ПМПк ОУ на учебн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ёт о работе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записи и учёта на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протоколов заседаний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регистрации заключений и рекомендаций специалистов, коллегиального заключения и рекомендаций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регистрации детей, направленных на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а развития ребён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представления специалистов ПМП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коллегиальное заключение ПМП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 коррекционно-образовательный (коррекционно-развивающий) маршрут ребёнка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лист динамики развития ребён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протокол РПМПК (ОЦДи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52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сьмо МО РФ «О психолого-медико-педагогическом консилиуме (ПМПк) образовательного учреждения» № 127 / 901 от 27.03.2000г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ам управления образованием субъектов Российской Федерации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Минобразование России)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13833. Москва. М-230. ГСП ул. Люсиновская. 51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ефон: 237-97-63 Факс: 924-69-89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етайп: 114027 КОНОИД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7.03.2000 № 27/901-6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 N ______________ </a:t>
            </a:r>
            <a:br>
              <a:rPr sz="1000"/>
            </a:br>
            <a:br>
              <a:rPr sz="9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ании анализа реальной ситуации психолого-медико-педагогического сопровождения и в целях обеспечения комплексной специализированной помощи детям и подросткам с отклонениями в развитии и/или состояниями декомпенсации в условиях образовательного учреждения Министерство образования Российской Федерации рекомендует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вести до сведения руководителей образовательных учреждений следующие методические рекомендаци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о порядке создания и организации работы психолого-медико-педагогического консилиума (ПМПк) образовательного учреждения (Приложение 1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о формах учета деятельности специалистов ПМПк (Приложение 2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сти мониторинг обеспеченности ПМПк образовательных учреждений региона специалистами, осуществляющими психолого-медико-педагогическое сопровождение обучающихся, воспитанников, и направить отчет в адрес Управления специального образования Минобразования России до 20.05.2000 по предлагаемой форме (Приложение 3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еспечить контроль за созданием, при наличии соответствующих кадров, ПМПк в образовательных учреждениях; определить порядок их взаимодействия с родителями (законными представителями) обучающегося, воспитанника и с психолого-медико-педагогической комиссией (ПМПК), обслуживающей данную территорию (Приложение 4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овать работу по повышению квалификации и обмену опытом специалистов ПМПк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меститель Министра образован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Е.Е.Чепур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сьмо МО РФ «О психолого-медико-педагогическом консилиуме (ПМПк) образовательного учреждения» № 127 / 901 от 27.03.2000 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иложение 1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 порядке создания и организации работы психолого-медико- педагогического консилиума (ПМПк) образовательного учреждения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1. ПМПк является одной из форм взаимодействия специалистов образовательного учреждения, объединяющихся для психолого-медико-педагогического сопровождения обучающихся, воспитанников с отклонениями в развитии и/или состояниями декомпенсаци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. ПМПк может быть создан на базе образовательного учреждения любого типа и вида независимо от организационно-правовой формы приказом руководителя образовательного учреждения при наличии соответствующих специалистов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. Общее руководство ПМПк возлагается на руководителя образовательного учреждения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. ПМПк образовательного учреждения в своей деятельности руководствуется уставом образовательного учреждения, договором между образовательным учреждением и родителями (законными представителями) обучающегося, воспитанника, договором между ПМПк и ПМПК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5. Примерный состав ПМПк: заместитель руководителя образовательного учреждения по учебно-воспитательной работе (председатель консилиума), учитель или воспитатель дошкольного образовательного учреждения (ДОУ), представляющий ребенка на ПМПк, учителя (воспитатели ДОУ) с большим опытом работы, учителя (воспитатели) специальных (коррекционных) классов/групп, педагог-психолог, учитель-дефектолог и/или учитель-логопед, врач-педиатр (невропатолог, психиатр), медицинская сестра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6. Целью ПМПк является обеспечение диагностико-коррекционного психолого-медико-педагогического сопровождения обучающихся, воспитанников с отклонениями в развитии и/или состояниями декомпенсации, исходя из реальных возможностей образовательного учреждения и в соответствии со специальными образовательными потребностями, возрастными и индивидуальными особенностями, состоянием соматического и нервно-психического здоровья обучающихся, воспитанников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7. Задачами ПМПк образовательного учреждения являются: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выявление и ранняя (с первых дней пребывания ребенка в образовательном учреждении) диагностика отклонений в развитии и/или состояний декомпенсации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профилактика физических, интеллектуальных и эмоционально-личностных перегрузок и срывов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выявление резервных возможностей развития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определение характера, продолжительности и эффективности специальной (коррекционной) помощи в рамках имеющихся в данном образовательном учреждении возможностей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подготовка и ведение документации, отражающей актуальное развитие ребенка, динамику его состояния, уровень школьной успеш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I. ОБЩИЕ ПОЛОЖЕНИЯ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новные термины. Участники отношений. Цели специального образования. Законодательство Российской Федерации, государственная политика в области образования лиц с ограниченными возможностями здоровь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II. ПРАВА В ОБЛАСТИ СПЕЦИАЛЬНОГО ОБРАЗОВАНИЯ ЛИЦ С ОГРАНИЧЕННЫМИ ВОЗМОЖНОСТЯМИ ЗДОРОВЬЯ, ИХ РОДИТЕЛЕЙ (ИНЫХ ЗАКОННЫХ ПРЕДСТАВИТЕЛЕЙ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ава родителей (иных законных представителей) лиц с ограниченными возможностями здоровья, их государственное обеспечение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ормы получения специального образовани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учение на дому,  в условиях стационарного лечебного учреждения,  в образовательном учреждении общего назначени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тегрированное обучение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пециальные образовательные учреждения. Логопедическая служба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ентры реабилитации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обенности приема в образовательные учреждения лиц с ограниченными возможностями здоровь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пециальные государственные образовательные стандарты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сихолого-медико-педагогические комиссии, медико-социальные экспертные коми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IV. УПРАВЛЕНИЕ СИСТЕМОЙ СПЕЦИАЛЬНОГО ОБРАЗОВАНИЯ ОБРАЗОВАНИЯ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ганы управления специальным образованием. Особенности реорганизации и ликвидации специальных образовательных учреждений; лицензирования, аттестации, аккредитации образовательной деятельности специальных образовательных учреждений. Контроль за деятельностью в области специального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. ОБЕСПЕЧЕНИЕ УСЛОВИЙ ДЛЯ ПОЛУЧЕНИЯ СПЕЦИАЛЬНОГО ОБРАЗОВАНИЯ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нансирование специального образования. Материально-техническая база, научно-методическое обеспечение специальных образовательных учреждений, образовательных учреждений интегрированного обучения и специальных образовательных подразде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I. ОБЕСПЕЧЕНИЕ СПЕЦИАЛЬНОГО ОБРАЗОВАНИЯ КАДРАМИ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в области специального образования. Социальные гарантии и льготы работникам, участвующим в осуществлении специальн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II. МЕЖДУНАРОДНАЯ ДЕЯТЕЛЬНОСТЬ РОССИЙСКОЙ ФЕДЕРАЦИИ В ОБЛАСТИ СПЕЦИА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III. ЗАКЛЮЧИТЕЛЬНЫЕ И ПЕРЕХОДНЫЕ ПО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61920"/>
            <a:ext cx="9144000" cy="14634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говор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 взаимодействии психолого-медико-педагогической комиссии (ПМП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 психолого-медико-педагогического консилиума (ПМПк) образовательного учреждения</a:t>
            </a: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стоящим договором закрепляются следующие взаимные обязательства ПМПК (указать уровень ПМПК: региональная, муниципальная, др. ________________) и ПМПк образовательного учреждения _________________________________________________ (наименование образовательного учрежд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28600" y="1676520"/>
          <a:ext cx="8686800" cy="49924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42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МПк обязуется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 Направлять детей и подростков с отклонениями в развитии для обследования на ПМПК в следующих случаях: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при возникновении трудностей диагностики;- в спорных и конфликтных случаях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при отсутствии в данном образовательном учреждении условий для оказания необходимой специализированной психолого-медико-педагогической помощи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. Информировать ПМПК соответствующего уровня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:- о количестве детей в образовательном учреждении, нуждающихся в специализированной психолого-медико-педагогической помощи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о характере отклонений в развитии детей, получающих специализированную психолого-медико-педагогическую помощь в рамках данного образовательного учреждения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об эффективности реализации рекомендаций ПМП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МПК обязуется: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 Проводить своевременное бесплатное обследование детей и подростков с отклонениями в развитии по направлению ПМПк образовательного учреждения, территориально относящегося к данной ПМПК, с последующим информированием ПМПк о результатах обследования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. Оказывать методическую помощь, обеспечивать обмен опытом между специалистами психолого-медико-педагогических консилиумов образовательных учреждений, территориально относящихся к данной ПМПК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. Осуществлять динамический контроль за эффективностью реализации рекомендаций по отношению к детям, прошедшим обследование на ПМПК, при необходимости вносить коррективы в рекомендации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. Информировать родителей о всех имеющихся в стране возможностях оказания ребенку психолого-медико-педагогической помощи (с опорой на имеющиеся в РФ базы данных) в соответствии с выявленными отклонениями в развитии и индивидуальными особенностям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уководительобразовательного учреждения ____________________(подпись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дседатель ПМП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ведующий ПМПК ____________________(подпись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-4565520" y="52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55080"/>
            <a:ext cx="9144000" cy="1372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говор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ежду образовательным учреждением (в лице руководителя образовательного учреждения) и родителями (законными представителями) обучающегося, воспитанника образовательного учреждения о его психолого-медико-педагогическом обследовании и сопрово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09480" y="1752480"/>
          <a:ext cx="7848720" cy="4876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2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уководитель образовательного учрежден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(указать фамилию, имя. отчество)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дпись_____________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одители (законные представители) обучающегося, воспитанника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указать фамилию, имя, отчество ребенка и родителей (законных представителей), характер родственных отношений в соответствии с паспортными данными)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дпись______________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нформирует родителей (законных представителей) обучающегося, воспитанника об условиях его психолого-медико-педагогического обследования и сопровождения специалистами ПМП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ыражают согласие (в случае несогласия договор не подписывается) на психолого-медико-педагогическое обследование и сопровождение обучающегося, воспитанника в соответствии с показаниями, в рамках профессиональной компетенции и этики специалистов ПМП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90720" y="456120"/>
            <a:ext cx="7467480" cy="533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 психолого-медико-педагогического консилиума МДОУ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___ - ___учебны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219320" y="1143000"/>
          <a:ext cx="6999120" cy="457200"/>
        </p:xfrm>
        <a:graphic>
          <a:graphicData uri="http://schemas.openxmlformats.org/drawingml/2006/table">
            <a:tbl>
              <a:tblPr/>
              <a:tblGrid>
                <a:gridCol w="726840"/>
                <a:gridCol w="2181960"/>
                <a:gridCol w="1363320"/>
                <a:gridCol w="1363320"/>
                <a:gridCol w="13636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мероприятий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685800" y="1644840"/>
            <a:ext cx="7086600" cy="7333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В графу заносятся все мероприятия (диагностического , консультационного, коррекционного, профилактического направлений), проводимые в рамках работы ПМП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2529000"/>
            <a:ext cx="8458200" cy="580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ёт о работе психолого-медико-педагогического консилиума МД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___ - ___ учебный год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3200400"/>
          <a:ext cx="8555040" cy="1276200"/>
        </p:xfrm>
        <a:graphic>
          <a:graphicData uri="http://schemas.openxmlformats.org/drawingml/2006/table">
            <a:tbl>
              <a:tblPr/>
              <a:tblGrid>
                <a:gridCol w="368280"/>
                <a:gridCol w="452520"/>
                <a:gridCol w="411120"/>
                <a:gridCol w="425520"/>
                <a:gridCol w="409680"/>
                <a:gridCol w="411120"/>
                <a:gridCol w="739800"/>
                <a:gridCol w="822240"/>
                <a:gridCol w="738360"/>
                <a:gridCol w="739800"/>
                <a:gridCol w="738000"/>
                <a:gridCol w="1230480"/>
                <a:gridCol w="1068120"/>
              </a:tblGrid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асе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возрас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консили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чатов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другие учреждения (указать ка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3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901080" y="5165280"/>
            <a:ext cx="4054680" cy="3373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81010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записи и учёта детей на ПМ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838080" y="5638680"/>
          <a:ext cx="7970760" cy="455400"/>
        </p:xfrm>
        <a:graphic>
          <a:graphicData uri="http://schemas.openxmlformats.org/drawingml/2006/table">
            <a:tbl>
              <a:tblPr/>
              <a:tblGrid>
                <a:gridCol w="636480"/>
                <a:gridCol w="636840"/>
                <a:gridCol w="1417320"/>
                <a:gridCol w="1441800"/>
                <a:gridCol w="1609560"/>
                <a:gridCol w="2228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 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 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723960"/>
            <a:ext cx="9144000" cy="611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 о работе психолого-медико-педагогического консилиума М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0 ___ - ___ учебный го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МОУ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04920" y="2057400"/>
          <a:ext cx="8686800" cy="1033560"/>
        </p:xfrm>
        <a:graphic>
          <a:graphicData uri="http://schemas.openxmlformats.org/drawingml/2006/table">
            <a:tbl>
              <a:tblPr/>
              <a:tblGrid>
                <a:gridCol w="425160"/>
                <a:gridCol w="509760"/>
                <a:gridCol w="511200"/>
                <a:gridCol w="501480"/>
                <a:gridCol w="595440"/>
                <a:gridCol w="581040"/>
                <a:gridCol w="762120"/>
                <a:gridCol w="838080"/>
                <a:gridCol w="533520"/>
                <a:gridCol w="669960"/>
                <a:gridCol w="777600"/>
                <a:gridCol w="1067040"/>
                <a:gridCol w="91440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асе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возрас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консили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другие учреждения (указать ка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4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43200"/>
            <a:ext cx="7467480" cy="22251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протоколов заседаний ПМПк М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едения протокола ПМП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 засе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, должность, Ф.И.О. присутству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ка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мые вопро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нсили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регистрации заключений и рекомендаций специалистов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2362320"/>
          <a:ext cx="8534520" cy="455400"/>
        </p:xfrm>
        <a:graphic>
          <a:graphicData uri="http://schemas.openxmlformats.org/drawingml/2006/table">
            <a:tbl>
              <a:tblPr/>
              <a:tblGrid>
                <a:gridCol w="528840"/>
                <a:gridCol w="538200"/>
                <a:gridCol w="1038240"/>
                <a:gridCol w="1662120"/>
                <a:gridCol w="1535040"/>
                <a:gridCol w="1731960"/>
                <a:gridCol w="1500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, (дата ро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я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321840" y="3335760"/>
            <a:ext cx="4995000" cy="3070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регистрации детей, направленных на ПМПК 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80880" y="3994200"/>
          <a:ext cx="8229600" cy="1430280"/>
        </p:xfrm>
        <a:graphic>
          <a:graphicData uri="http://schemas.openxmlformats.org/drawingml/2006/table">
            <a:tbl>
              <a:tblPr/>
              <a:tblGrid>
                <a:gridCol w="367200"/>
                <a:gridCol w="848520"/>
                <a:gridCol w="462960"/>
                <a:gridCol w="1154520"/>
                <a:gridCol w="1311120"/>
                <a:gridCol w="1465200"/>
                <a:gridCol w="1465200"/>
                <a:gridCol w="11548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запи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ка на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следования в районной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гиальное заключение ПМПк 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гиальное заключение районной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районной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380880" y="5677200"/>
            <a:ext cx="8763120" cy="5202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ы № 7, 8 заполняются после обследования ребёнка в РПМПК на основании предоставлен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79280" y="22932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та развит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рта развития ребёнк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паспортные данные ребёнка (социальная ч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анамнестические сведения о развит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представления специалистов ПМПк МД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коллегиальное заключение ПМПк МД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коррекционно-образовательный (коррекционно-развивающий) маршр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лист контроля динамики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протокол обследования ПМПК (в случае обследования ребёнка в РПМПК и /или в ОЦДи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0920" y="3124080"/>
          <a:ext cx="8130600" cy="3513240"/>
        </p:xfrm>
        <a:graphic>
          <a:graphicData uri="http://schemas.openxmlformats.org/drawingml/2006/table">
            <a:tbl>
              <a:tblPr/>
              <a:tblGrid>
                <a:gridCol w="8130600"/>
              </a:tblGrid>
              <a:tr h="351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часть карты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, матери (лица, её заменяющего)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я 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отца (лица, его заменяющего) 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_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я ___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жизни ребёнка 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социальным педагог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250920" y="260280"/>
          <a:ext cx="8892720" cy="6597360"/>
        </p:xfrm>
        <a:graphic>
          <a:graphicData uri="http://schemas.openxmlformats.org/drawingml/2006/table">
            <a:tbl>
              <a:tblPr/>
              <a:tblGrid>
                <a:gridCol w="8892720"/>
              </a:tblGrid>
              <a:tr h="65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мнестическая часть карты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 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 _______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чение беременности 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ы 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нее развитие  (своевременное, опережающее, с задержкой)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есённые заболевания, травмы 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у невролога (других специалистов)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250920" y="189000"/>
          <a:ext cx="8892720" cy="6668640"/>
        </p:xfrm>
        <a:graphic>
          <a:graphicData uri="http://schemas.openxmlformats.org/drawingml/2006/table">
            <a:tbl>
              <a:tblPr/>
              <a:tblGrid>
                <a:gridCol w="8892720"/>
              </a:tblGrid>
              <a:tr h="66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уемая форма представлений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а психологического  предст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оведения 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сведомлённость 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сихической деятельности, работоспособность 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моторики 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внимания 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енности мнестической деятельности 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мыслительной деятельности 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мотивационно-волевой сферы 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онально-личностные особенности 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межличностных отношений 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__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оятностный прогноз развития 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 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 /подпись/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79280" y="380880"/>
          <a:ext cx="8785080" cy="636444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636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а логопедического  предст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ребёнка 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рвые слова 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стая фраза 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ёрнутая фраза 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строения артикуляционного аппарата _____________ 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фонетической стороны речи 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вукопроизношение __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вуко-слоговая структура слова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фонематической стороны речи 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ыковой анализ и синтез 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ко-грамматические представления 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устной речи ____________________________________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связной речи ______________________________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_________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 /подпись/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9280" y="874800"/>
            <a:ext cx="87138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а педагогического предст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.И.О. 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раст 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щая осведомлённость и социально-быт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риентировка 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формированность учебных навыков (соответствие зн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мений и навыков требованиям программы МДОУ) 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сихофизиологические функции (тонкая мотор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ординация движений, темп деятельности и т.п.)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моционально-поведенческие особенности ____________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полагаемые причины затруднений в усво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раммного материала МДОУ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________________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комендации ______________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дагог /подпись/ ___________________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№ 124-Ф3 от 24.07.98 (в ред. от 20.07.2000 г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. ОБЩИ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атья 1.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266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бенок - лицо до достижения им возраста 18 лет (совершенноле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266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и, находящиеся в трудной жизненной ситуации, - дети, оставшиеся без попечения родителей; дети-инвалиды; дети, имеющие недостатки в психическом и (или) физическом развитии; дети - жертвы вооруженных и межнациональных конфликтов, экологических и техногенных катастроф, стихийных бедствий; дети с отклонениями в по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атья 4. Цели государственной политики в интереса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266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йствие физическому, интеллектуальному, психическому, духовному и нравственному развитию детей, воспитанию в них патриотизма и гражданственности, а также реализации личности ребенка в интересах общества и в соответствии с не противоречащими Конституции Российской Федерации и федеральному законодательству традициями народов Российской Федерации, достижениями российской и миров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I. ОСНОВНЫЕ НАПРАВЛЕНИЯ ОБЕСПЕЧЕНИЯ ПРАВ РЕБЕНКА В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II. ОРГАНИЗАЦИОННЫЕ ОСНОВЫ ГАРАНТИЙ ПРАВ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V. ГАРАНТИИ ИСПОЛНЕНИЯ НАСТОЯЩЕГО ФЕДЕРАЛЬНОГО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891720"/>
            <a:ext cx="8001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а коллегиального за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.И.О. ребёнка 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рождения 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обследования 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сихолога 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логопеда 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едагога 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МП консилиума 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комендации ПМП консилиума 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седатель ПМПк /подпись/ 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лены ПМПк /должность, подпись/ 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011600" y="457200"/>
            <a:ext cx="7002000" cy="580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 контроля динамики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ивность индивидуальной коррекционно-развивающе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1523880"/>
          <a:ext cx="8664480" cy="3347640"/>
        </p:xfrm>
        <a:graphic>
          <a:graphicData uri="http://schemas.openxmlformats.org/drawingml/2006/table">
            <a:tbl>
              <a:tblPr/>
              <a:tblGrid>
                <a:gridCol w="1986120"/>
                <a:gridCol w="1834920"/>
                <a:gridCol w="1131840"/>
                <a:gridCol w="1873440"/>
                <a:gridCol w="183816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коррекционно-развивающе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за первое полугодие, особ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за второе полуго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едагогиче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сихологиче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Логопедиче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.Медицин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бота с семьё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480" y="761400"/>
            <a:ext cx="815364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тоги усвоения общеразвив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еобразовательной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екционно-образовательной)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57200" y="1752480"/>
          <a:ext cx="8261280" cy="1155600"/>
        </p:xfrm>
        <a:graphic>
          <a:graphicData uri="http://schemas.openxmlformats.org/drawingml/2006/table">
            <a:tbl>
              <a:tblPr/>
              <a:tblGrid>
                <a:gridCol w="1082520"/>
                <a:gridCol w="2048040"/>
                <a:gridCol w="1260360"/>
                <a:gridCol w="1260720"/>
                <a:gridCol w="2609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(положительная, отрицательная, волнообразная, незначитель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об эффективности воспитания и обучения за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луго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304920" y="3123360"/>
            <a:ext cx="8534160" cy="2764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рафу разделы программы заносятся основные учебные дисциплины, предусмотренные программой (для МО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267840"/>
            <a:ext cx="8991720" cy="62208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чень обязательной документации, оформляемой при направлении воспитанников, обучающихся на ПМ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сихиа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оку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лор-врача (сурдолог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дробная выписка из истории развития ребёнка (готовится  участковым педиатром по амбулаторной карте ребён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гопедическое предст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сихологическое предст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дагогическая характеристика (составляется педагогом, непосредственно работающим с ребёнком и заверяется руководителем О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исунки, письменные работы ребёнка (2-3 рис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следование детей на ПМПК района осуществляется в присутствии родителей (законных представителей)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05120" y="90720"/>
            <a:ext cx="571500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педагогической характерист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ё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28600" y="685800"/>
          <a:ext cx="8381880" cy="5651640"/>
        </p:xfrm>
        <a:graphic>
          <a:graphicData uri="http://schemas.openxmlformats.org/drawingml/2006/table">
            <a:tbl>
              <a:tblPr/>
              <a:tblGrid>
                <a:gridCol w="4343400"/>
                <a:gridCol w="4038480"/>
              </a:tblGrid>
              <a:tr h="56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дошкольного образования № __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(средняя, старшая и др.)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групп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воспитания и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ребывания в данном О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ом возрасте поступил в О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уда поступил (из семьи, из другого учреждения с указанием причины перевод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атическое здоровье (наличие хронических заболеваний, частота простудных заболеваний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бытовые навы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адаптации ребёнка в группе (хорошая, удовлетворительная,  недостаточная, плохая и т.п.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латерализации (праворукий, леворукий, амбидекстер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ка (особенности развития мел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упной моторики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удности, отмеченные в усвоении программы,  причины затруднений  и т.п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занятиям (особенности деятельности, усидчивость, заинтересованность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-личностные особенности (конфликтность,  агрессивность, тревожность, самооценка и т.п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удности в общ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игровой деятельности (соответствие игры возрасту ребёнка, преобладание определённого вида игры, и т.п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ценка развития и поведения ребёнка, предложения педагога по работе с ребён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направления на ПМП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ая МД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5:06:52Z</dcterms:created>
  <dc:creator>USER</dc:creator>
  <dc:description/>
  <dc:language>en-US</dc:language>
  <cp:lastModifiedBy>USER</cp:lastModifiedBy>
  <dcterms:modified xsi:type="dcterms:W3CDTF">2007-11-15T15:50:40Z</dcterms:modified>
  <cp:revision>24</cp:revision>
  <dc:subject/>
  <dc:title>Нормативно-правовое обеспечение  психолого-медико-педагогического сопровождения  детей с особыми образовательными потребностями    Теплякова Елена Рифовна руководитель ПМПиПС управления образования администрации  Курчатовского района, к.п.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