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36BA-5525-437D-B6EB-36F4936E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A2DD-24A4-4CA0-9AD0-712B021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9CAC-3B75-489D-8388-F7B15C62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F1D8-7589-41F1-B4B3-8FDEE689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4C5F-B36A-49D0-8806-0AA5374E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F674-5724-48D8-9762-538419B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F222-9D5D-4FA0-B0A6-65A693A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6C49-F7FF-4154-90B4-BFB78306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05DD-65F7-4A86-8F01-294C620D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C3C1-A97F-479B-A575-62FB48F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C22B-E8D9-4FA5-8577-EDBA29EE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B2F6-E876-403F-A6D0-B68B8EC9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DCAC-4D30-4CCC-992D-C7F602C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286C-CDC2-45A2-8B59-29965FE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64EE-E5CF-41E2-9E3A-98F7C27B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918C-EBB9-40A9-B876-04A95653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9A42-C6BB-464B-A16E-EEA19D6E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5879-35D6-4136-AC22-C39DC8E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9E3D-C1CB-49BB-8DF2-EFAD02A3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F0CE-9945-4FF9-B480-265F65E0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A6CA-5AF2-404C-8D02-1AE808A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F07C-D68B-43F4-859D-7A6B8BC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2D78-7837-44C4-898E-0790213D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2B98-2CF0-46B3-AACC-0C4FECF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6C26-F31A-43DE-92AB-8B4BE1CCB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9AAA-6B1C-4C20-99AB-173C5C437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475920"/>
            <a:ext cx="76932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Областной межведомственный сем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рганизация психолого-педагогической помощи детям с умеренной умственной отсталостью в условиях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19 мая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г.Челя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aramond"/>
              </a:rPr>
              <a:t>Воспитательная работа с детьми с умеренной умственной отсталостью в условиях дома-интер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Arial"/>
              </a:rPr>
              <a:t>Семенова Ирина Евгеньевна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cc"/>
                </a:solidFill>
                <a:latin typeface="Arial"/>
              </a:rPr>
              <a:t>старший воспитатель Челябинского детского дома-интерната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Обучение детей-инвалидов с тяжелой интеллектуальной патологией: ресурсы областной образовательной системы</a:t>
            </a:r>
            <a:r>
              <a:rPr b="1" lang="en-US" sz="4000" spc="-1" strike="noStrike">
                <a:solidFill>
                  <a:srgbClr val="0000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3440" y="3939480"/>
            <a:ext cx="812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Бурмистрова Нина  И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c00cc"/>
                </a:solidFill>
                <a:latin typeface="Arial"/>
              </a:rPr>
              <a:t>специалист Министерства образования и науки Челябин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Совершенствование нормативно-правовой базы обучения детей с умеренной умственной отстал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Кулькова Жанна Геннад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cc"/>
                </a:solidFill>
                <a:latin typeface="Arial"/>
              </a:rPr>
              <a:t>директор ГОУ ОЦДиК, к.псх.н.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aramond"/>
              </a:rPr>
              <a:t>Анализ динамики выявляемости  тяжелых форм умственной отсталости среди несовершеннолетних в Челябинской обла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Рычкова  Лидия  Сергеевна</a:t>
            </a:r>
            <a:r>
              <a:rPr b="1" i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cc"/>
                </a:solidFill>
                <a:latin typeface="Arial"/>
              </a:rPr>
              <a:t>заместитель декана  факультета  психологии ЮУр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cc"/>
                </a:solidFill>
                <a:latin typeface="Arial"/>
              </a:rPr>
              <a:t>д.м.н.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Программы повышения квалификации педагогических работников в работе с детьми-инвалидами, детьми с 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Arial"/>
              </a:rPr>
              <a:t>Яковлева Гали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"/>
              </a:rPr>
              <a:t>зав. кафедрой коррекционной педагогики ГОУ ДПО ЧИППКРО, к.п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Комплексная диагностика в условиях ПМПК как начальный этап оказания образовательных услуг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детям-инвалида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4797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Arial"/>
              </a:rPr>
              <a:t>Кондакова Ольг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cc"/>
                </a:solidFill>
                <a:latin typeface="Arial"/>
              </a:rPr>
              <a:t>заместитель директора по диагностической работе, ГОУ ОЦ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aramond"/>
              </a:rPr>
              <a:t>Организация обучения «необучаемых» детей: современный взгляд на проблему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Arial"/>
              </a:rPr>
              <a:t>Сычева Валентина Иго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cc"/>
                </a:solidFill>
                <a:latin typeface="Arial"/>
              </a:rPr>
              <a:t>директор МСКОУ №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Содержание и организация психолого-педагогического сопровождения учащихся с умеренной умственной отсталостью в МСКОУ № 119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Салихова Фасиля Гизза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cc"/>
                </a:solidFill>
                <a:latin typeface="Arial"/>
              </a:rPr>
              <a:t>педагог-психолог МСКОУ №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915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aramond"/>
              </a:rPr>
              <a:t>Особенности организации коррекционной работы с детьми с умеренной умственной отстал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Arial"/>
              </a:rPr>
              <a:t>Меркулова Мари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cc"/>
                </a:solidFill>
                <a:latin typeface="Arial"/>
              </a:rPr>
              <a:t>учитель-дефектолог ГОУ ОЦДиК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2:11:04Z</dcterms:created>
  <dc:creator>Кондакова ОН</dc:creator>
  <dc:description/>
  <dc:language>en-US</dc:language>
  <cp:lastModifiedBy>Кондакова ОН</cp:lastModifiedBy>
  <dcterms:modified xsi:type="dcterms:W3CDTF">2010-05-18T12:46:10Z</dcterms:modified>
  <cp:revision>7</cp:revision>
  <dc:subject/>
  <dc:title>Слайд 1</dc:title>
</cp:coreProperties>
</file>