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46B-C9B0-484F-B6E3-C269BF29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E78-FF93-46A7-AA09-29AB067F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6FE-AB07-4209-9C7E-50C44523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A0F-F2D0-4FE2-B1F2-AA4D4F1C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5519-EDD4-469E-BFA1-45F572FB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390A-C15C-451E-8D5A-EA34A28A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E5F5-9812-42D8-9269-B2E8C35B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0BC3-5249-4575-8B59-4F1552C1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F03D-1816-442E-B486-FBC78DCA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6872-3E05-40C6-B277-56AAD3B6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CC22-BCCE-4AB0-ACE0-58B37557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38B-1314-40D4-A174-0BC62C7A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29D7-83F1-46A2-B51D-0833D416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9655-5F11-48EC-AB77-823CBA9A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923D-7155-4684-9104-07512E3A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2BB8-EA53-4461-BE1E-6C55630B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1615-91A3-4C31-8E00-444616D3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22E-2128-4165-89D9-DF286129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EF4-6B6B-411B-A102-506B4380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DC74-8A2A-485A-9E1E-62993FEA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E06-37F4-4984-892E-213E324A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3C0-167E-47FB-B4E9-F609381A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F15-B720-4B00-8467-4DDE92AD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00A-14AF-4BC0-AA34-AE3600D2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5953-0983-442F-A2DE-791E984A620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A458-1B75-49C0-AFA4-E229626BCD0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Карта сопровождения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учащегося с умеренной умственной отсталостью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в специальном (коррекционном) учреждении VIII вида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МСКОУ № 119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611280" y="2857680"/>
            <a:ext cx="8084520" cy="2201760"/>
            <a:chOff x="611280" y="2857680"/>
            <a:chExt cx="8084520" cy="2201760"/>
          </a:xfrm>
        </p:grpSpPr>
        <p:cxnSp>
          <p:nvCxnSpPr>
            <p:cNvPr id="133" name="_s164868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5934960" y="2550240"/>
              <a:ext cx="229320" cy="278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64869"/>
            <p:cNvCxnSpPr>
              <a:stCxn id="137" idx="0"/>
              <a:endCxn id="135" idx="2"/>
            </p:cNvCxnSpPr>
            <p:nvPr/>
          </p:nvCxnSpPr>
          <p:spPr>
            <a:xfrm flipH="1" flipV="1" rot="5400000">
              <a:off x="4539960" y="3943440"/>
              <a:ext cx="229320" cy="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64870"/>
            <p:cNvCxnSpPr>
              <a:stCxn id="139" idx="0"/>
              <a:endCxn id="135" idx="2"/>
            </p:cNvCxnSpPr>
            <p:nvPr/>
          </p:nvCxnSpPr>
          <p:spPr>
            <a:xfrm flipH="1" flipV="1" rot="5400000">
              <a:off x="3144960" y="2548080"/>
              <a:ext cx="229320" cy="2793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5" name="_s164871"/>
            <p:cNvSpPr/>
            <p:nvPr/>
          </p:nvSpPr>
          <p:spPr>
            <a:xfrm>
              <a:off x="3266280" y="2857680"/>
              <a:ext cx="2776680" cy="9730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Карта сопровождения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учащегося с умеренно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умственной отсталостью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164872"/>
            <p:cNvSpPr/>
            <p:nvPr/>
          </p:nvSpPr>
          <p:spPr>
            <a:xfrm>
              <a:off x="611280" y="4059360"/>
              <a:ext cx="2503440" cy="10000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Програм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психолого-педагогиче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изуч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164873"/>
            <p:cNvSpPr/>
            <p:nvPr/>
          </p:nvSpPr>
          <p:spPr>
            <a:xfrm>
              <a:off x="3402000" y="4059360"/>
              <a:ext cx="2503440" cy="10000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ИКО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64874"/>
            <p:cNvSpPr/>
            <p:nvPr/>
          </p:nvSpPr>
          <p:spPr>
            <a:xfrm>
              <a:off x="6192720" y="4059360"/>
              <a:ext cx="2503080" cy="10000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Профиль развит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ребен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-896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-379440"/>
            <a:ext cx="40514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16000" y="476280"/>
          <a:ext cx="8928000" cy="6365880"/>
        </p:xfrm>
        <a:graphic>
          <a:graphicData uri="http://schemas.openxmlformats.org/drawingml/2006/table">
            <a:tbl>
              <a:tblPr/>
              <a:tblGrid>
                <a:gridCol w="718920"/>
                <a:gridCol w="5149800"/>
                <a:gridCol w="282600"/>
                <a:gridCol w="308160"/>
                <a:gridCol w="311040"/>
                <a:gridCol w="306360"/>
                <a:gridCol w="309600"/>
                <a:gridCol w="306360"/>
                <a:gridCol w="309600"/>
                <a:gridCol w="309600"/>
                <a:gridCol w="308160"/>
                <a:gridCol w="30780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ый год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д коррек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комендовано посещение следующих занятий (отмечено знаком +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дагогическая корре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ронтальная, групповая  и индивидуальная педагогическая коррекция во время урок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полнительные занятия с учителем. Мероприятия, проводимые классным  руководител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упповая и индивидуальная коррекция во внеурочное время. Посещение ГП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нятия в кружк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нятия на факультатив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нятия ЛФ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нятия РПСП (коммуникация, правила социального повед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упповая и индивидуальная педагогическая коррекция на занятиях у учителя – дефектолог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огопедическая корре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сихологическая корре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0" y="723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0"/>
            <a:ext cx="21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611280" y="2857680"/>
            <a:ext cx="8084520" cy="2201760"/>
            <a:chOff x="611280" y="2857680"/>
            <a:chExt cx="8084520" cy="2201760"/>
          </a:xfrm>
        </p:grpSpPr>
        <p:cxnSp>
          <p:nvCxnSpPr>
            <p:cNvPr id="146" name="_s166916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5934960" y="2550240"/>
              <a:ext cx="229320" cy="278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66917"/>
            <p:cNvCxnSpPr>
              <a:stCxn id="150" idx="0"/>
              <a:endCxn id="148" idx="2"/>
            </p:cNvCxnSpPr>
            <p:nvPr/>
          </p:nvCxnSpPr>
          <p:spPr>
            <a:xfrm flipH="1" flipV="1" rot="5400000">
              <a:off x="4539960" y="3943440"/>
              <a:ext cx="229320" cy="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66918"/>
            <p:cNvCxnSpPr>
              <a:stCxn id="152" idx="0"/>
              <a:endCxn id="148" idx="2"/>
            </p:cNvCxnSpPr>
            <p:nvPr/>
          </p:nvCxnSpPr>
          <p:spPr>
            <a:xfrm flipH="1" flipV="1" rot="5400000">
              <a:off x="3144960" y="2548080"/>
              <a:ext cx="229320" cy="2793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8" name="_s166919"/>
            <p:cNvSpPr/>
            <p:nvPr/>
          </p:nvSpPr>
          <p:spPr>
            <a:xfrm>
              <a:off x="3266280" y="2857680"/>
              <a:ext cx="2776680" cy="9730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Карта сопровождения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учащегося с умеренно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умственной отсталостью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166920"/>
            <p:cNvSpPr/>
            <p:nvPr/>
          </p:nvSpPr>
          <p:spPr>
            <a:xfrm>
              <a:off x="611280" y="4059360"/>
              <a:ext cx="2503440" cy="10000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Програм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психолого-педагогиче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изуч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166921"/>
            <p:cNvSpPr/>
            <p:nvPr/>
          </p:nvSpPr>
          <p:spPr>
            <a:xfrm>
              <a:off x="3402000" y="4059360"/>
              <a:ext cx="2503440" cy="10000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ИКО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166922"/>
            <p:cNvSpPr/>
            <p:nvPr/>
          </p:nvSpPr>
          <p:spPr>
            <a:xfrm>
              <a:off x="6192720" y="4059360"/>
              <a:ext cx="2503080" cy="10000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Профиль развит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ребен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154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филь развития ученика с умеренной интеллектуально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едостаточностью МСКОУ № 1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907920"/>
          <a:ext cx="9144000" cy="5604120"/>
        </p:xfrm>
        <a:graphic>
          <a:graphicData uri="http://schemas.openxmlformats.org/drawingml/2006/table">
            <a:tbl>
              <a:tblPr/>
              <a:tblGrid>
                <a:gridCol w="2982960"/>
                <a:gridCol w="682560"/>
                <a:gridCol w="679320"/>
                <a:gridCol w="685800"/>
                <a:gridCol w="684360"/>
                <a:gridCol w="685800"/>
                <a:gridCol w="685800"/>
                <a:gridCol w="684360"/>
                <a:gridCol w="688680"/>
                <a:gridCol w="68436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Действ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огни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) Сенсорно – перцептивные действ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) Сенсорно – двигательные действ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) Графомоторные навы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) навыки невербальной коммуник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) Общение и реч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Хозяйственно – бытовые навы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)Навыки самообслужи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) назначение предметов обих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)Приготовление холодной пищ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0" y="858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50920" y="2349360"/>
          <a:ext cx="8551800" cy="4186440"/>
        </p:xfrm>
        <a:graphic>
          <a:graphicData uri="http://schemas.openxmlformats.org/drawingml/2006/table">
            <a:tbl>
              <a:tblPr/>
              <a:tblGrid>
                <a:gridCol w="3468600"/>
                <a:gridCol w="563400"/>
                <a:gridCol w="560520"/>
                <a:gridCol w="565200"/>
                <a:gridCol w="565200"/>
                <a:gridCol w="565200"/>
                <a:gridCol w="566640"/>
                <a:gridCol w="563400"/>
                <a:gridCol w="568440"/>
                <a:gridCol w="565200"/>
              </a:tblGrid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Действ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) Стирка вещ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)Уборка помещ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) использование дене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Социальные навы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) пользование телефон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) ориентация на проезжей части улиц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) пользование общественным транспорт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260280"/>
          <a:ext cx="8675640" cy="63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675640" cy="63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066320" y="304920"/>
            <a:ext cx="7543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71640" y="608760"/>
            <a:ext cx="7848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абота с семьей, воспитывающей ребенка с умеренной умственной отстал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оррекционную работу направить на развит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42920" y="2511360"/>
          <a:ext cx="7705800" cy="3648240"/>
        </p:xfrm>
        <a:graphic>
          <a:graphicData uri="http://schemas.openxmlformats.org/drawingml/2006/table">
            <a:tbl>
              <a:tblPr/>
              <a:tblGrid>
                <a:gridCol w="2235240"/>
                <a:gridCol w="1824120"/>
                <a:gridCol w="1822320"/>
                <a:gridCol w="1824120"/>
              </a:tblGrid>
              <a:tr h="29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007-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008-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009-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010-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Ознакомлены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Ознакомлены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Ознакомлены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Ознакомлен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Благодарим за вним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Содержание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Общие сведения об учащемся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Карта обследования социального положения семьи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Психологическое обследование учащегося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Логопедическое обследование учащегося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Индивидуальный коррекционно-образовательный маршрут. Посещение уроков, занятий, ГПД и т.д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Профиль развития ученика с умеренной умственной отсталостью (1-9классы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Профиль развития ученика (график в %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Анкета для родителей. Социальный и биологический анамнез ребенка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Работа с семьёй, воспитывающей ребенка с умеренной умственной отсталостью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611280" y="2857680"/>
            <a:ext cx="8084520" cy="2201760"/>
            <a:chOff x="611280" y="2857680"/>
            <a:chExt cx="8084520" cy="2201760"/>
          </a:xfrm>
        </p:grpSpPr>
        <p:cxnSp>
          <p:nvCxnSpPr>
            <p:cNvPr id="113" name="_s74765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934960" y="2550240"/>
              <a:ext cx="229320" cy="278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74764"/>
            <p:cNvCxnSpPr>
              <a:stCxn id="117" idx="0"/>
              <a:endCxn id="115" idx="2"/>
            </p:cNvCxnSpPr>
            <p:nvPr/>
          </p:nvCxnSpPr>
          <p:spPr>
            <a:xfrm flipH="1" flipV="1" rot="5400000">
              <a:off x="4539960" y="3943440"/>
              <a:ext cx="229320" cy="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74763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3144960" y="2548080"/>
              <a:ext cx="229320" cy="2793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5" name="_s74759"/>
            <p:cNvSpPr/>
            <p:nvPr/>
          </p:nvSpPr>
          <p:spPr>
            <a:xfrm>
              <a:off x="3266280" y="2857680"/>
              <a:ext cx="2776680" cy="9730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арта сопровождения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учащегося с умеренно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умственной отсталостью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74760"/>
            <p:cNvSpPr/>
            <p:nvPr/>
          </p:nvSpPr>
          <p:spPr>
            <a:xfrm>
              <a:off x="611280" y="4059360"/>
              <a:ext cx="2503440" cy="10000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Програм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психолого-педагогиче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изуч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74761"/>
            <p:cNvSpPr/>
            <p:nvPr/>
          </p:nvSpPr>
          <p:spPr>
            <a:xfrm>
              <a:off x="3402000" y="4059360"/>
              <a:ext cx="2503440" cy="10000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ИКО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74762"/>
            <p:cNvSpPr/>
            <p:nvPr/>
          </p:nvSpPr>
          <p:spPr>
            <a:xfrm>
              <a:off x="6192720" y="4059360"/>
              <a:ext cx="2503080" cy="10000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рофиль развит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ребен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187280" y="1268280"/>
          <a:ext cx="7543800" cy="5257800"/>
        </p:xfrm>
        <a:graphic>
          <a:graphicData uri="http://schemas.openxmlformats.org/drawingml/2006/table">
            <a:tbl>
              <a:tblPr/>
              <a:tblGrid>
                <a:gridCol w="1508400"/>
                <a:gridCol w="1509480"/>
                <a:gridCol w="1508040"/>
                <a:gridCol w="1509840"/>
                <a:gridCol w="1508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ель -дефектоло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ьный педаго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сихоло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огопе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спитател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Изучение протокола ПМПК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Изучение протокола ПМПК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Изучение протокола ПМПК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Изучение протокола ПМПК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Изучение протокола ПМПК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оздание ИКОМа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оздание ИКОМа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оздание ИКОМа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огопедическое заключение для  ИКОМ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здание ИКОМ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ниторинг коррекционно- педагогической деятельности (по предметам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учение семьи, анкетирование.     Социальный паспорт семь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учение семьи, анкетирование.             Диагностика психических процессо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агностика речевого развития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учение семьи, анкетир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дивидуальная карта учащегося группы «социального риск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намика развития индивидуальных психических процессов (совместно с учителем)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здание индивидуального речевого профиля, профиля навыков чтения и пись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ниторинг        воспитательной деятель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258920" y="549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ГРАММА ПСИХОЛОГО-ПЕДАГОГИЧЕСКОГО ИЗУЧЕНИЯ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Общие сведения об учащемся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.И.О. ребенка 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та рождения 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та поступления в школу (в какой класс поступил, из какого учреждения) 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ных лет на момент поступления в школу 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дрес проживания (регистрации)  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ефон дом.___________________________________________ сотовый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агноз 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путствующие заболевания 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комендации ПМПК 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уппа здоровья 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Социальное положение семьи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дрес прописки семьи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дрес проживания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тегория семьи (полная, неполная, многодетная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ав семьи: 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териальное обеспечение 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о-правовая устойчивость и воспитательный потенциал семьи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заимоотношения в семье 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питательная позиция семь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) позиция семьи (уровень принятия ребёнка) 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) отношение родителей 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) участие в воспитании ребёнка других членов семьи (братья, сёстры, бабушки, дедушки)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) последовательность в формировании личности Карта составлена со слов родителей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Первичное психологическое обследование ребенка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.И.О._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такт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моционально-волевая сфера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ние  слуха и зрения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акция на одобрение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акция на замечание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ношение к неудаче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оспособность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торика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имание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рактер деятельности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учаемость, использование помощи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ровень развития деятельности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пас общих представлений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ние частей тела и лица (визуальная ориентация)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15640" y="1052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рительное восприят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восприятие цвета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восприятие величины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восприятие формы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ладывание матрёшки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ладывание пирамидки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чтовый ящик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струирование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приятие пространственных отношений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ременные представления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ичественные представления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мять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ышление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ассификация  предметов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Четвёртый лишний» (исключение не подходящих к группе предметов и  понятий)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нимание картин с нелепым, бессмысленным сюжетом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нимание картин со скрытым смыслом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ледовательность событий (серия сюжетных картин)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74560" y="93564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ТОКОЛ РЕЧЕВОГО ОБСЛЕДОВАНИЯ УЧЕ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844640"/>
          <a:ext cx="8785440" cy="3919680"/>
        </p:xfrm>
        <a:graphic>
          <a:graphicData uri="http://schemas.openxmlformats.org/drawingml/2006/table">
            <a:tbl>
              <a:tblPr/>
              <a:tblGrid>
                <a:gridCol w="273240"/>
                <a:gridCol w="271440"/>
                <a:gridCol w="272880"/>
                <a:gridCol w="273240"/>
                <a:gridCol w="285840"/>
                <a:gridCol w="288720"/>
                <a:gridCol w="289080"/>
                <a:gridCol w="288720"/>
                <a:gridCol w="273240"/>
                <a:gridCol w="274680"/>
                <a:gridCol w="272880"/>
                <a:gridCol w="274680"/>
                <a:gridCol w="266760"/>
                <a:gridCol w="266760"/>
                <a:gridCol w="266400"/>
                <a:gridCol w="268560"/>
                <a:gridCol w="266760"/>
                <a:gridCol w="268200"/>
                <a:gridCol w="266760"/>
                <a:gridCol w="268200"/>
                <a:gridCol w="272880"/>
                <a:gridCol w="271440"/>
                <a:gridCol w="273240"/>
                <a:gridCol w="272880"/>
                <a:gridCol w="284400"/>
                <a:gridCol w="285480"/>
                <a:gridCol w="285840"/>
                <a:gridCol w="285840"/>
                <a:gridCol w="268200"/>
                <a:gridCol w="270000"/>
                <a:gridCol w="268200"/>
                <a:gridCol w="270000"/>
              </a:tblGrid>
              <a:tr h="18745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нематическое воспри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тикуляционная мотор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вукопроизнош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говая структура сло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ственная реч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нимание логико-грамм отнош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варный  зап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язная реч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975120" y="20304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08:34:32Z</dcterms:created>
  <dc:creator>Евгений</dc:creator>
  <dc:description/>
  <dc:language>en-US</dc:language>
  <cp:lastModifiedBy>махарям</cp:lastModifiedBy>
  <dcterms:modified xsi:type="dcterms:W3CDTF">2010-05-18T13:01:19Z</dcterms:modified>
  <cp:revision>6</cp:revision>
  <dc:subject/>
  <dc:title>Карта сопровождения учащегося с умеренной умственной отсталостью в специальном (коррекционном) учреждении VIII вида МСКОУ № 119</dc:title>
</cp:coreProperties>
</file>