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129-3529-451E-96F0-74E2C64C35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EF1-3CB8-40A3-AD6C-FFDFC02D3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4C8-3939-43C1-A26A-2AFA9B7A1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CC01-1EAA-4A27-A4E8-41DD45A41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A5E8-45B6-4922-8B68-066DE567E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54B7-2DDF-4F9B-B6E0-8119B00B9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A23-AF32-438D-9F05-280493DC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E57-FBAF-43E3-BE43-0108296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861-DA56-4808-97AF-E7EF81D5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F1D-E8B4-43B8-897C-FC44102E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AFA-3CBD-4D0C-B5EA-D0A0F21E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865-9D92-447C-94AF-3C91B516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526C-58D2-4E50-8F9D-010A172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0CE-5996-46D1-A251-D8A97AD5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5B8-139A-4FB5-95AA-B95EA6A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CF6C-53D3-4ADE-B580-D391F2B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C889-6E1A-45A8-A383-3288628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D97-BE43-421A-BC5E-6156E23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37AF-2364-4C0B-A3F3-38BB225C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612-44A3-445F-BA80-7D3088A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A431-879D-4EEC-BC55-E7109432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5BBF-4D11-478C-8861-02F63582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554-80A6-49D7-9FBB-EAB0BA2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105-0693-4433-B032-987ABF5E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CF6-A74B-4E11-AE29-73EA4C6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68B-E6CE-4669-9779-F1EF2B4F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ECF-EBE0-4B48-8863-B65DF612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2DA-57A8-4227-86B8-7F9A875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B7A-D4CC-432D-A6AA-984473C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F38-0013-414A-98AC-8A8AE3D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CD9-E491-425B-B887-A14F74DB56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3D19-2F19-4608-9BE1-EF4519FDB3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0000"/>
                </a:solidFill>
                <a:latin typeface="Garamond"/>
              </a:rPr>
              <a:t>УМСТВЕННАЯ ОТСТАЛОСТЬ </a:t>
            </a:r>
            <a:br>
              <a:rPr sz="6300"/>
            </a:br>
            <a:r>
              <a:rPr b="0" lang="ru-RU" sz="63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63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6300" spc="-1" strike="noStrike">
                <a:solidFill>
                  <a:srgbClr val="000000"/>
                </a:solidFill>
                <a:latin typeface="Garamond"/>
              </a:rPr>
              <a:t>70-</a:t>
            </a:r>
            <a:r>
              <a:rPr b="0" lang="en-US" sz="6300" spc="-1" strike="noStrike">
                <a:solidFill>
                  <a:srgbClr val="000000"/>
                </a:solidFill>
                <a:latin typeface="Garamond"/>
              </a:rPr>
              <a:t>F79</a:t>
            </a:r>
            <a:r>
              <a:rPr b="0" lang="ru-RU" sz="63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63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офессор кафедры детской, подростковой психиатрии и медицинской психологии ГОУ ДПО УГМАДО Росздрава, доктор медицинских наук Рычкова Лидия Сергеевна  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«УО ребенок мало видит, когда смотрит, мало слышит, когда слушает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(Г.Е.Сухарев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Необходимо учить слушать, рассматривать, анализировать, расширять круг их представлений и знаний. Это средство развития их мыш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Особенности речи УО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Долго не дифференцирует звуков речи (речь иностранца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ыделяет и различает лишь немногие слов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Не различает фонем, порядок следования звук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Слабость фонематического анализ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Замедленный темп развития артикуляци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Times New Roman"/>
              </a:rPr>
              <a:t>Особенности мышления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002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 установлению разли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а на случайные, внешние 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хо усваивают правила и общие понятия, не понимают их с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абстрактно-лог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ледовательность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ая утомляе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нденция к стереотипному, вязкому мыш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бость регулирующей роли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ритичность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Особенности памяти УО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Память – это краеугольный камень психического развития. Память заключается не в зеркальности отображения, а в способности к переработке, сортировке информации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Знания распределены не зря, а как книги в библиотеке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(И.М.Сечен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«Ядерные» свойства памяти У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амедленный темп усво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епрочность запомин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еточность воспроизвед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абывчивость (охранительное торможени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есовершенство памяти в связи с плохой переработкой воспринимаемого материала (качество памяти резко снижено вследствие слабости мышл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еумение целенаправленно заучивать и припоминать матери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Garamond"/>
              </a:rPr>
              <a:t>F7</a:t>
            </a:r>
            <a:r>
              <a:rPr b="0" lang="ru-RU" sz="6300" spc="-1" strike="noStrike">
                <a:solidFill>
                  <a:srgbClr val="000000"/>
                </a:solidFill>
                <a:latin typeface="Garamond"/>
              </a:rPr>
              <a:t> УО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70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Легкая УО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Q 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50-69 ед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71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меренная УО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Q 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5-49 ед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72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Тяжелая УО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Q –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0-34 ед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73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Глубокая УО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Q 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5-19 ед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78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Другая У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79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Неуточненная У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70 УО легкой степе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агностические критер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является затруднениями в сфере школьной успеваемости, чаще в освоении навыков чтения и пись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большинстве благоприятных случаев ЛУО возможно трудоустройство в сфере практическ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мечается эмоциональная и социальная незрелость, что ограничивает соц. ро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ценки умственного развития ЛУО лежат в диапазоне 50-69. Включаются: субнормальность, легкая олигофрения, деби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91680"/>
            <a:ext cx="8232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F71 УО умерен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8686800" cy="73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Диагностические критер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Существенно отстают в период развития и ограничены в зрелом возраст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* понимания и использования речи, письма и сче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* навыки самообслуживания и моторики.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2. В зрелом возрасте – обычно имеются способност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* к простой практической работе при тщательном построении заданий и квалифицированном надзор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* к установлению контактов, общению с другими людьми и участию в элементарных социальных заняти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60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3. Оценки умственного развития ЛУО лежат в диапазоне 35-49. Включаются: имбецильность, умеренная умственная субнормальность, умеренная олигофр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91680"/>
            <a:ext cx="8232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F72 УО тяжел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89496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0">
              <a:spcBef>
                <a:spcPts val="75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Диагностические критер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4800" indent="-604800">
              <a:spcBef>
                <a:spcPts val="7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Выраженная степень моторного нарушения или другие сопутствующие дефекты, указывающие на наличие клинически значимого повреждения или аномального развития ЦН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4800" indent="-604800">
              <a:spcBef>
                <a:spcPts val="7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Коэффициент умственного развития в пределах от 20 до 3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51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Включа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4800" indent="-604800">
              <a:spcBef>
                <a:spcPts val="7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тяжелая умственная субнорм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4800" indent="-604800">
              <a:spcBef>
                <a:spcPts val="7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тяжелая олигофр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91680"/>
            <a:ext cx="8232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Garamond"/>
              </a:rPr>
              <a:t>F73 УО глубок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71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Диагностические крите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В большинстве случаев бо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неподвижны или резко ограничены в подви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страдают недержанием мочи и 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способны лишь на простые формы невербального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нуждаются в постоянной помощи и надз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Коэффициент умственного развития ниже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Включаются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диотия, глубокая ум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 algn="just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убнормальность, глубокая олигоф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МКБ – 10. 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 У.О. 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это состояние задержанного или неполного развития психики, которое в первую очередь характеризуется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нарушением способностей, проявляющихся в период созревания и обеспечивающих общий уровень интеллектуальности, т.е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Когнитивных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Речевых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Моторных и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Социальных способностей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91680"/>
            <a:ext cx="82328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F78 Другая У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just">
              <a:spcBef>
                <a:spcPts val="9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Категория используется только тогда, когда оценка степени интеллектуального снижения обычными процедурами затруднена или невозможна из-за сопутствующих болезней органов восприятия (например, слепоты, глухонемоты), при тяжелых поведенческих расстройствах или соматической инвалидност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92040"/>
            <a:ext cx="82328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F79 Неуточнённая У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just">
              <a:spcBef>
                <a:spcPts val="9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Категория используется при отсутствии достаточной информации по отнесению больного к одной из вышеназванных категор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9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Включаютс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умственная дефицитарность Б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умственная субнормальность Б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олигофрения БД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КБ – 10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ОДИМЫЕ КОЭФИЦИЕНТЫ УМСТВЕННОГО РАЗВИТИЯ… ПРЕДСТАВЛЯЮТ СОБОЙ ПРОИЗВОЛЬНОЕ ПОДРАЗДЕЛЕНИЕ СЛОЖНОГО КОНТИНУУМА И НЕ МОГУТ ОПРДЕЛЬТСЯ С АБСОЛЮТНОЙ ТОЧН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Q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ДОЖНЫ БЫТЬ УСТАНОВЛЕНЫ МЕСТНЫЕ КУЛЬТУРАЛЬНЫЕ Н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03040"/>
            <a:ext cx="8229600" cy="66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Не следует думать, что УО ребенок – это несчастный ребенок! Наоборот, их отношение к людям проникнуто сердечностью и нескрываемой радостью. И всякие высказывания типа «бедные, несчастные дети» неуместны. Умственные нарушения не означают эмоциональных нарушений.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Б.Спок, 199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  У.О. может развиваться с любым другим психическим или соматическим расстройством или возникать без не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    У У.О. может наблюдаться весь диапазон психических расстройств, частота которых среди них (по меньшей мере) в 3-4 раза выше, чем в общей популя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   У.О. чаще становятся жертвами эксплуатации и физических, и сексуальных оскорбл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    Адаптивное поведение нарушено всегда, но в защищенных  социальных условиях, где обеспечена поддержка, это нарушение у больных с легкой степенью У.О. может совсем не иметь явного характе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валев В.В. (1979, 1995гг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игофрения – это сборная группа различных по этиологии, патогенезу и клинике непрогредиентных патологических состояний, общим признаком которых является наличие врожденного или приобретенного в раннем детстве (до 3-х лет) общего психического недоразвития с преимущественной недостаточностью интелл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ухарева Г.Е. (1973г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«…к группе олигофрении мы относим только те формы, общего психического недоразвития, которые характеризуются двумя особенностями: 1) преобладанием интеллектуального дефекта; 2)  отсутствием прогредиентности»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Корсаков С.С. (1915г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«У умственно отсталых отсутствует одна из функций человеческой психики, выражающаяся в непреодолимой потребности познать окружающее. У этих детей часто бывает любопытство, но нет любознательности»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Рубинштейн С.Я. (1979, 1986гг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«У.О. – стойкое нарушение познавательной деятельности вследствие органического поражения головного мозга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обенности познавательных процессов у детей с У.О.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Ощущения и восприятия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медленность зрительных восприят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2мл/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2 мл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 гр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зр. – 72 %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 гр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д. – 57 %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9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 гр. УО д. – 0 %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женный объем восприя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нактивность восприя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Ощущения и восприятия  - это «входные ворота», они узки и труднопроходимы. Это ядерные симптомы, которые тормозят, задерживают развитие высших психических процессов, в частности, мышления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(Л.С.Выготский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8:58:46Z</dcterms:created>
  <dc:creator>372-1</dc:creator>
  <dc:description/>
  <dc:language>en-US</dc:language>
  <cp:lastModifiedBy>370А_2</cp:lastModifiedBy>
  <dcterms:modified xsi:type="dcterms:W3CDTF">2010-05-18T15:02:09Z</dcterms:modified>
  <cp:revision>173</cp:revision>
  <dc:subject/>
  <dc:title>Слайд 1</dc:title>
</cp:coreProperties>
</file>