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10D7-34BF-4A5C-9A94-52B688E8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534A-157B-4B14-AA43-7251D24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8AD1-EA94-4E33-ABBE-810B323B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3D15-B5D2-4106-A2B6-302055CA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F55-2A66-4CD8-BCDD-D05E97C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006F-1473-4FE5-BC9A-B11F4C8D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CA9-BB3B-4C97-83EB-3CA606D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FE42-3A83-4D80-A769-D73D85E1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DDF2-A893-4069-9DBF-BDACA15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3FE9-268E-4BA5-A348-3E7E1D6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1A5-6A3C-473E-92DD-D6AED38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6FC7-FC44-4868-A741-57BA3618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F88-5B69-434F-8006-329B07CA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228-B725-4CD1-BE01-3D39ED30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1265-1CD5-4E33-BE75-34D3E29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264-A943-4126-8089-9BE7F444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1A79-8C14-4D65-9732-5D91B8CD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7BCD-05B3-42AF-A833-159635FA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0EBE-8C1D-4CB7-97B7-E1B73EFE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F7AD-C2C3-46CE-85ED-DCF7325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B53C-3F26-4E72-8C5D-ECB59C1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7E1B-2B49-4C8F-AC25-E9EC906E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B668-AB89-427F-8E9E-E2FF22F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29E2-DF29-407A-8015-7DE9AC6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383-9A43-4EDE-B350-30784B699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2C7-938E-4DE1-BB7E-DEF217DC9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Комплексная диагностика в условиях ПМПК  как начальный этап оказания образовательных услуг детям - инвалид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8120" y="472428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ндакова  Ольга  Николае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меститель директора ГОУ ОЦДи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дагог-психоло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Информационный этап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Консультирование родителей ребёнка или законных представител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Разъяснение особенностей и проблем развития реб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Определение  направлений дальнейшего коррекционного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Назначение  даты контрольного обследования ребенка с целью  отслеживания динамики его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0880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Формирование заключ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Unicode MS"/>
              </a:rPr>
              <a:t>Основные принципы организации коррекционной работы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Индивидуальный под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Учет возрастных особенностей развития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Знание  индивидуальных  способностей 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Учет интересов 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Создание условий для всемерного личностного роста.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первые  зарегестрированные  психические  расстройства  у  детей 0 – 17 лет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(на 100 тыс. чел. насе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133720"/>
          <a:ext cx="8229600" cy="44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18960" y="6854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ключение ребенка с глубокими нарушениями интеллекта в процесс обу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Garamond"/>
              </a:rPr>
              <a:t>возможно и необходимо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ри обеспечении определённых условий для раскрытия потенциальных возможностей психического, физического, эмоционального и социального развития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Л.В.Баряева, С.М.Виноградов, М.Л.Рабинович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533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В классы для детей с глубокой умственной отсталостью зачисляются дети, име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меренную степень умственной отстал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 имеющие медицинских противопоказаний для пребывания в коррекционном учрежд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ладеющие элементарными навыками самообслуж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Цель комплексной диагно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определение специальных образовательных потребностей и условий, обеспечивающих развитие, получение образования, адаптацию и интеграцию в социум детей и подростков с отклонениями в разви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60066"/>
                </a:solidFill>
                <a:latin typeface="Arial"/>
              </a:rPr>
              <a:t>Этапы  обслед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риентировочный  эта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изучение поступившей документ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едицинской, педагогической, психологичес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иагностический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налитико-прогностический этап 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нализ результатов обследования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нформационный этап 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нсультирование родителей ребёнка или законных представи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Формирование заключ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Ориентировочный  этап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наследственная природа нару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история развития - условия и особенности развития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сведения о соматическом состоянии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неврологический статус, состояние нервн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состояние анализаторов: слуха, зрения, двигательной сфе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особенности интеллектуальной, познаватель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поведение, особенности эмоционально-волевой сфе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уровень овладения учебными навы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Диагностический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Формирование  диагностической гипоте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Выбор диагностического инструмента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Собственно диагностическое обсле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Аналитико-прогностический этап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Количественная 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Качественная оц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инятие задания (доступность, понимание инструкций, мотивационный аспект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пособы выполнения задания (стратегия деятельност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бучаемость в процессе обследования (усвоение, перенос, вид и объем необходимой помощ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тношение к результату своей деятельности (критичность, адекват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адекватность поведения в ситуации  обсле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0-05-18T16:26:21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