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605-881E-4516-B6FB-F39C804B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3A24-54BC-4CFF-8160-C5C3FB65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9AB-DF8B-4F89-ACD6-F710F03D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AF0-1061-4080-AD06-D228BB30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4944-E604-4927-9E0E-9C84C963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B2AB-822B-42E6-AC32-893F2557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DF52-3FDE-4983-A80F-8B9E8F00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A6AC-EBF9-4B85-8CF4-70AD1D70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9CA4-E34E-41AB-9C23-B179CD79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D8A1-F15F-40C4-9586-BFE195A0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6601-CC1C-4D0D-8D79-1E6AFDC1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857-AE7A-4C80-A70F-9B0ADD14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0F8D-89B4-4783-AC21-636E6C27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13B9-9754-4766-94F0-BE79EE70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0B76-3646-4A95-918F-8DBB6CFA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753B-B76E-4561-869C-96206CC5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8DB9-E566-4A84-BDE4-D107E527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5965-2D41-48E6-9A78-C0BB17F7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3EA5-F674-4D1F-8614-28E97F33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A348-87CF-47D6-9FB6-3D146554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85D-60CB-49EA-A288-41D096F6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0783-AE46-4921-AE22-D5F6F131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640D-AE37-4E9C-A145-DF2592B2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0B6-4D58-4B9D-9799-92958DD3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2A0A-6E98-4FA5-8CA9-2B0D4ADC918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1FB8-1AF2-40A9-A454-EA294180618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1125000"/>
            <a:ext cx="77040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ahoma"/>
              </a:rPr>
              <a:t>Кафедра специального (коррекционного) образования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4581000"/>
            <a:ext cx="76820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Заведующий кафедр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Яковлева Галина Владимировн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к.п.н, доц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280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Изучение и распространение эффективного педагогического опыт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90720" y="1981080"/>
          <a:ext cx="7696080" cy="4660920"/>
        </p:xfrm>
        <a:graphic>
          <a:graphicData uri="http://schemas.openxmlformats.org/drawingml/2006/table">
            <a:tbl>
              <a:tblPr/>
              <a:tblGrid>
                <a:gridCol w="7696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Направления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8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Интегрированное обучение детей с ограниченными возможностями здоровья в общеобразовательные клас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Технология проектирования индивидуальных образовательных програм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Здоровьесбере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заимодействие с семьё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овременные педагогические технологии в коррекционном образова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5690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Сотрудничество с издательствами и научными центрами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2421000"/>
            <a:ext cx="75438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дательство «ВЛАДОС» - подготовка к выпуску двух методических пособий доцента кафедры Лавровой Галины Николаевны, к.п.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дательство Самарского научного центра РАН – публикация статей в журналах ВА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77080" y="5516640"/>
            <a:ext cx="208908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560" y="304560"/>
            <a:ext cx="7921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ыполнение решений коллегии МОиН Челябинской обла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0000" y="1980720"/>
            <a:ext cx="79200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зучение и распространение опыта Троицкого района по интегрированному обучен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рганизация семинаров по интеграции на базе МОУ СОШ № 73 г. Челябин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пуск электронного сборника материалов по планированию учебной работы в условиях интегрированного обуч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азработка образовательной программы «Теория и методика интегрированного обучения детей с ограниченными возможностями здоровья в общеобразовательных группах и классах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Реализация гранта РГНФ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ован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сероссийская научно-практическая конференция «Интегрированное образование детей дошкольного возраст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няло участие 250 педагог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ущено 4 сборника научных ста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667560" y="5157720"/>
            <a:ext cx="247644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Научная деятельность кафедры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За 2009 год  изданы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2 монографии: «Содержание и организация инновационной методической работы в ДОУ», «Оценивание объектов инноваций в дошкольном образовании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4 методических пособи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Участие в трех Международных научно-практических конференциях: «Методология педагогики: актуальные проблемы и перспективы», «Инновационные ресурсы развития современного урока», «Образование через всю жизнь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380880"/>
            <a:ext cx="77835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Инновационная методическая продукция кафедры за 2009-2010 учебный год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Психологическое сопровождение инновационной деятельности педагогов»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Комплексное изучение ребенка раннего возраста и подрост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условиях ПМПК»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Метод проектов в работе с детьми дошкольного возраста»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Игровая деятельность в дошкольном детстве: технологии, инструментальное обеспечение оценива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гровых компетенций»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Технология анализа коррекционно-развивающей работы в ДОУ компенсирующего вида и на группах для детей с ограниченными возможностями здоровья»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оциально-личностное развитие детей дошкольного возраста. Программа коррекционно-развивающего кур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Возьми меня за руку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Методическая продукция кафедр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976720" cy="4483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04560"/>
            <a:ext cx="79930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Участие в Международных конференциях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6202080" cy="46526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Взаимодействие кафедры  с другими  институтам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федра специальной педагогики, психологии и предметных методик ЧГП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федра клинической психологии ЮУрГ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Перспективные направления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деятельности  кафедры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Развитие  кадрового потенциала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реализация персонифицированной программы руководителя кафедр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дготовка к защите кандидатской диссертации старшим преподавателем кафедры Ожгихиным Михаилом Юрьевичем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2. Разработка и реализация модульных курсов по проблеме интегрированного обучен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3. Развитие системы дистанционного обучен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4. Предоставление консультационных услуг различным категориям работников образован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5. Участие в Федеральных исследовательских проектах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Осуществление образовательн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27040" y="1989000"/>
          <a:ext cx="8616960" cy="3824280"/>
        </p:xfrm>
        <a:graphic>
          <a:graphicData uri="http://schemas.openxmlformats.org/drawingml/2006/table">
            <a:tbl>
              <a:tblPr/>
              <a:tblGrid>
                <a:gridCol w="216000"/>
                <a:gridCol w="523800"/>
                <a:gridCol w="1190520"/>
                <a:gridCol w="181800"/>
                <a:gridCol w="783000"/>
                <a:gridCol w="805320"/>
                <a:gridCol w="1203480"/>
                <a:gridCol w="739800"/>
                <a:gridCol w="1317600"/>
                <a:gridCol w="181800"/>
                <a:gridCol w="874440"/>
                <a:gridCol w="297360"/>
                <a:gridCol w="302040"/>
              </a:tblGrid>
              <a:tr h="1135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Курсовая подготовка специалис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(К)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одульно-накопительная систе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6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2438280" y="2057400"/>
            <a:ext cx="0" cy="99072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1981080"/>
            <a:ext cx="0" cy="11430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Кадровый состав кафедры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специалиста – кандидаты педагогических нау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преподавателя имеют высшую квалификационную категорию, государственные отраслевые награ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влекаются для организации практических мероприятий директора школ, получатели муниципальных грантов,   грантов на реализацию инновационных проектов (МОУ СОШ № 73, 60, 72, МДОУ № 440, 378, 370, 97, 482 г. Челябинс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Реализуемые образовательные программы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2636640"/>
            <a:ext cx="88390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Коррекционное обучение и воспитание детей с ограниченными возможностями здоровь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9 модулей по категориям слушателей: учителя-логопеды, учителя -дефектологи, учителя-предметники, учителя начальных классов школ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да, учителя технологии, воспитатели С(К)ОУ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и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Вновь утвержденные программ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«Теория и методика интегрированного обучения детей с ограниченными возможностями здоровья в общеобразовательных группах и классах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«Подготовка специалистов по обучению родителей детей-инвалидов методикам и технологиям коррекционно-реабилитационной работы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76388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Модульные курсы повышения квалификаци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08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Медико-психолого - педагогическое обеспечение профессиональной деятельности учителя-дефектолога ДОУ»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Организация и содержание деятельности ПМПк образовательного учреждения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.«Психологическое сопровождение профессиональной деятельности учителя-дефектолога»,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«Развитие профессиональной и методической компетентности учителей- дефектологов ДОУ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5. Интегрированное обучение младших школьников с ЗПР в общеобразовательных класс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Организация стажировк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2009 году стажировку прошли 25 слушателей: из них 13 молодых специалистов со стажем работы до 3 лет и 12 учителей-логопедов со стажем работы до 10 ле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начале 2010 года - 5 учителей-логопедов прошли стажировку на хозрасчетной основ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300720" y="4797360"/>
            <a:ext cx="2489400" cy="18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Площадки для организации стажировок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24000" y="2205000"/>
          <a:ext cx="8496000" cy="1671840"/>
        </p:xfrm>
        <a:graphic>
          <a:graphicData uri="http://schemas.openxmlformats.org/drawingml/2006/table">
            <a:tbl>
              <a:tblPr/>
              <a:tblGrid>
                <a:gridCol w="3792240"/>
                <a:gridCol w="681120"/>
                <a:gridCol w="4022640"/>
              </a:tblGrid>
              <a:tr h="167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Муниципальное специальное (коррекционное) образовательное учреждение школа-интернат № 11, № 4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МС(К)ОУ № 72,60, 119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МДОУ ; 440, 482, 370,3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г. Челябинс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641680" cy="1981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55640" y="4149720"/>
            <a:ext cx="2641680" cy="19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2195640" y="1484280"/>
            <a:ext cx="0" cy="6858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59640" y="1413000"/>
            <a:ext cx="0" cy="7617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708360" y="3789360"/>
            <a:ext cx="1944720" cy="259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0643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Организация модульного курса на основе дистанционных технологий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ема курса» «Психологическое сопровождение профессиональной деятельности учителя-дефектолог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бучение прошли 40 специалистов специальных (коррекционных) учреждений г. Челябинс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 педагог из Ямало-Ненецкого автономного окру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 педагога из Республики Ко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 педагогов г. Магнитогорс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7:09:51Z</dcterms:created>
  <dc:creator>д</dc:creator>
  <dc:description/>
  <dc:language>en-US</dc:language>
  <cp:lastModifiedBy>yakovleva_gv</cp:lastModifiedBy>
  <dcterms:modified xsi:type="dcterms:W3CDTF">2010-05-18T07:41:24Z</dcterms:modified>
  <cp:revision>24</cp:revision>
  <dc:subject/>
  <dc:title>Муниципальное образовательное учреждение для детей дошкольного и младшего школьного возраста начальная школа детский сад компенсирующего вида № 440</dc:title>
</cp:coreProperties>
</file>