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9A3-0AED-4912-B06A-55CB5C57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242-5051-403F-BBF5-BA055DF3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9B1-7BD2-46C6-8303-7C6AEE09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02D-ED35-4DF7-B697-57E3CEEF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A8DE-BF14-40A1-B89C-A69E4979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D2AC-80AB-4A6B-88EF-58FEDF5B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6A61-9FFE-401B-A8F1-0BD1C7C9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399D-4230-46C1-B521-4AF971B7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FBF5-DFC9-43AA-8C7D-2C522AFC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1282-7606-428B-9C0B-C6CFCCA5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1AE6-15E9-445F-BCEC-C209D6FD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03B-8710-41A8-8F03-D71C6E4A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41EA-CB32-4544-B77F-06F7B004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D40B-5B07-4D56-AE3B-2554F09A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436A-D805-465A-80A5-A0434C40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B9A6-7EDF-427E-A51E-BF180402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5F25-11E9-4395-88D5-96D687F2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EDB-19DD-4EA6-AC90-C48CC8E0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9B3-42C5-46A9-A738-5082F0C0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D6C-4AA0-41FC-90F6-D715CD05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2EA-806E-407C-B28E-AC11A7EA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421-3E70-44E1-BB1E-62AF0907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964-B3D9-4881-9E6F-AFBAF26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628-E5EA-4377-BD30-A68D1271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1440"/>
            <a:ext cx="17543520" cy="13690800"/>
            <a:chOff x="-8410680" y="1440"/>
            <a:chExt cx="17543520" cy="1369080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1440"/>
              <a:ext cx="16821360" cy="13690800"/>
            </a:xfrm>
            <a:custGeom>
              <a:avLst/>
              <a:gdLst>
                <a:gd name="textAreaLeft" fmla="*/ 8409960 w 16821360"/>
                <a:gd name="textAreaRight" fmla="*/ 16820640 w 16821360"/>
                <a:gd name="textAreaTop" fmla="*/ 0 h 13690800"/>
                <a:gd name="textAreaBottom" fmla="*/ 6844680 h 13690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6BE657-85E5-4C6F-8A32-928AE76C56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5200"/>
            <a:ext cx="16905240" cy="10785600"/>
            <a:chOff x="-7761240" y="1465200"/>
            <a:chExt cx="16905240" cy="10785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5200"/>
              <a:ext cx="13452480" cy="10785600"/>
            </a:xfrm>
            <a:custGeom>
              <a:avLst/>
              <a:gdLst>
                <a:gd name="textAreaLeft" fmla="*/ 6725520 w 13452480"/>
                <a:gd name="textAreaRight" fmla="*/ 13452120 w 13452480"/>
                <a:gd name="textAreaTop" fmla="*/ 86760 h 10785600"/>
                <a:gd name="textAreaBottom" fmla="*/ 5392440 h 107856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15AE02-C668-40DA-9500-EDE1D7D7BB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7240" y="1619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овершенствование нормативно-правовой базы обучения детей с умеренной умственной отсталостью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Челябинс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73640" y="3192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73640" y="3192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73708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2287440"/>
            <a:ext cx="8243640" cy="37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сьмо МО РФ №АФ-150/06 от 18.04.2008г.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Ведущую роль в решении вопросов своевременного выявления детей с ОВЗ, проведения их комплексного обследования, подготовки рекомендаций по оказанию им психолого-медико-педагогической помощи и определения форм их дальнейшего обучения и воспитания играют 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психолого-медико-педагогические комисси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108000" y="-38160"/>
            <a:ext cx="442764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684360" y="0"/>
            <a:ext cx="7962840" cy="6669000"/>
            <a:chOff x="684360" y="0"/>
            <a:chExt cx="7962840" cy="6669000"/>
          </a:xfrm>
        </p:grpSpPr>
        <p:sp>
          <p:nvSpPr>
            <p:cNvPr id="112" name=""/>
            <p:cNvSpPr/>
            <p:nvPr/>
          </p:nvSpPr>
          <p:spPr>
            <a:xfrm>
              <a:off x="684360" y="0"/>
              <a:ext cx="7962840" cy="666900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882880" y="2523960"/>
              <a:ext cx="851040" cy="4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76400" y="1317600"/>
              <a:ext cx="2519280" cy="20113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ahoma"/>
                </a:rPr>
                <a:t>ОПМПК для детей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ahoma"/>
                </a:rPr>
                <a:t>с нарушениями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ahoma"/>
                </a:rPr>
                <a:t>опорно-двигательного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900" spc="-1" strike="noStrike">
                  <a:solidFill>
                    <a:srgbClr val="000000"/>
                  </a:solidFill>
                  <a:latin typeface="Tahoma"/>
                </a:rPr>
                <a:t>аппарата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885760" y="3736800"/>
              <a:ext cx="85068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9640" y="3738600"/>
              <a:ext cx="1944720" cy="16146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билитационное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делени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5240" y="4135320"/>
              <a:ext cx="1440" cy="81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5040" y="4946760"/>
              <a:ext cx="1944720" cy="161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ОПМПК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для детей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с нарушением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слуха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1880" y="3733920"/>
              <a:ext cx="847800" cy="40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26120" y="3736800"/>
              <a:ext cx="1944720" cy="16146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ОПМПК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для детей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с нарушением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зрения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411880" y="2520720"/>
              <a:ext cx="844560" cy="40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26120" y="1314360"/>
              <a:ext cx="2519280" cy="16146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ОПМП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для детей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с нарушение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интеллекта и реч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572000" y="1714680"/>
              <a:ext cx="1440" cy="8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02160" y="104760"/>
              <a:ext cx="1944720" cy="19400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ahoma"/>
                </a:rPr>
                <a:t>Стационарное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ahoma"/>
                </a:rPr>
                <a:t>отделение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92360" y="2492280"/>
              <a:ext cx="2157480" cy="18003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Tahoma"/>
                </a:rPr>
                <a:t>Областной центр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990033"/>
                  </a:solidFill>
                  <a:latin typeface="Tahoma"/>
                </a:rPr>
                <a:t>диагностик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Tahoma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990033"/>
                  </a:solidFill>
                  <a:latin typeface="Tahoma"/>
                </a:rPr>
                <a:t>консультирования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80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дущими принципами организации обследования на ПМПК являются:</a:t>
            </a:r>
            <a:br>
              <a:rPr sz="2800"/>
            </a:br>
            <a:r>
              <a:rPr b="0" lang="ru-RU" sz="14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56000" y="349200"/>
            <a:ext cx="4788000" cy="65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евременность   диагностики (приоритетность ранней диагностики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декватность процедуры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сторонняя диагностика разви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центирование внимания на динамических аспектах диагнос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остный подход к ребенку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628640"/>
            <a:ext cx="4356000" cy="3267360"/>
            <a:chOff x="0" y="1628640"/>
            <a:chExt cx="4356000" cy="326736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0" y="1628640"/>
              <a:ext cx="4356000" cy="32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0" y="1628640"/>
              <a:ext cx="4356000" cy="32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19200"/>
            <a:ext cx="91440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дура обследования ребенка на ПМПК имеет особенности, отличающие ее от процедур независимых консультативных приемов детей отдельными специалис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МПК работает как единая команда специалистов, комиссионно обследующих ребенка и формулирующих коллегиальное заключе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ой  подход требует совмещения принципа деятельности независимых высокопрофессиональных экспертов с умением принимать единое согласованное реш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9916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5480"/>
            <a:ext cx="4319280" cy="22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33"/>
                </a:solidFill>
                <a:latin typeface="Bookman Old Style"/>
              </a:rPr>
              <a:t>Преимущества привлечения ПМПК в организации учебно-воспитательного процесса обучающихся, воспитанников :</a:t>
            </a:r>
            <a:br>
              <a:rPr sz="24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71636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Психологическая безопасность и минимизация конфликтов в О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2693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920" y="2781360"/>
            <a:ext cx="61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зависимость и квалификация экспер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4869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ая степень ответственности экспертов (расходование бюджетных средств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220500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2133720"/>
            <a:ext cx="3168720" cy="28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2133720"/>
            <a:ext cx="1656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5280"/>
            <a:ext cx="9144000" cy="39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В качестве основной задачи в области реализации права на образование детей с ограниченными возможностями здоровья рассматривается создание условий для получения образования 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семи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детьми указанной категории с учетом их психофизических особенностей</a:t>
            </a:r>
            <a:r>
              <a:rPr b="0" i="1" lang="ru-RU" sz="3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5280" y="3828960"/>
            <a:ext cx="489600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590400"/>
            <a:ext cx="34560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анные по Челябинской обла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казатель впервые выявленных психических расстройств у детей и подростков в 2 раза выше, чем в Р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учете психиатров состоит 6.734 ч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блюдается психиатрами, неврологами, психотерапевтами более 28 тыс.дет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ическими заболеваниями страдает 4,3% детско-подросткового насе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8720" y="260280"/>
            <a:ext cx="561492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Arial"/>
              </a:rPr>
              <a:t>По данным Областного центра диагностики и консультирования</a:t>
            </a:r>
            <a:endParaRPr b="0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2997360"/>
            <a:ext cx="87138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ношение выявляемости интеллектуальных затруднений: умственной отсталости к задержке психического развития – 1:2,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последние три года отмечается тенденция к выявляемости УО в дошкольном возраст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8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иоритетным направлением деятельности в сфере получения образовательных услуг детьми с ОВЗ является выявление недостатков в развитии детей и организация коррекционной работы с детьми, имеющими такие нарушения, на </a:t>
            </a:r>
            <a:r>
              <a:rPr b="0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аксимально раннем этапе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ание Президента Дмитрия Медведева Федеральному Собранию Российской Федерации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40000" y="1905120"/>
            <a:ext cx="482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дной из актуальных социально-экономических и демографических проблем современного российского социума является включение детей с ограниченными возможностями здоровья в обще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4360" y="1981080"/>
            <a:ext cx="353664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-128520"/>
            <a:ext cx="806292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о исполнение решения Коллегии МОиН Челябинской обалсти от 01.07.2008г.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754000"/>
            <a:ext cx="5400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Центре проводится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ень малютк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2 и 4 четверг месяца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орудован диагностический каби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лено и выпущено методическое пособ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54560" y="357336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350028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оне особого внимания –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56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ей в возрасте до 4-х лет – воспитанники домов ребенка психоневрологического профиля (9 учреждений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62788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9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иказ МОиН Челябинской области от 27.05.2008г. №02-452 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«Об утверждении учебных планов специальных (коррекционных) образовательных учреждений </a:t>
            </a:r>
            <a:br>
              <a:rPr sz="4000"/>
            </a:b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- V</a:t>
            </a: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 видов Челябинской области на 2008-2009 учебный год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3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стандартизации коллегиальных заключений и рекомендаций ПМПК Челябинской област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3962520"/>
            <a:ext cx="85345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структивное письмо Министерства образования и науки Челябинской области №103/2856 от 26.06.2009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редложения в инструктивно-методическое письм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400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учение детей с УУО осуществляется в специализированном классе для детей с УУО численностью 5-7 человек, в режиме частичной и эпизодической интеграции в классе для детей с умственной отсталостью легкой степени численностью не более 12 человек или индивидуально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325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79640"/>
            <a:ext cx="83138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Обучение детей с УУО осуществляется на основе индивидуально-составленной образовательной программы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Индивидуальная образовательная программа в соответствии с локальным актом образовательного учреждения рассматривается и утверждается внутренним органом соуправления педагогическим процессом: педагогическим советом, консилиумом, методическим советом и п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Индивидуальная образовательная программа предусматривает сроки, объем и регламент оценивания учебной работы ребенка с УУО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22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0000" y="1260000"/>
            <a:ext cx="8459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Щадящим, психологически безопасным является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безотметочное обучени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виду тотальности психического недоразвития, как в начальной, так и в основной школе, класс соответствует году обучения.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ублирование исключен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9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cc66"/>
                </a:solidFill>
                <a:uFillTx/>
                <a:latin typeface="Arial"/>
              </a:rPr>
              <a:t>Приглашаем к сотрудничеству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656424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Конвенция ООН о правах инвалид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45820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ята Генеральной Ассамблеей 13.12.2006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2007-2008гг. подписана 136 государств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писана РФ 24.09.2008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01.05.2010г. на территории РФ не ратифициров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т.2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нается право инвалидов на образова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целях реализации этого права без дискриминации и на основе равенства возможностей, обеспечивается инклюзивное образование на всех уровнях и в течение всей жиз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ндивидуальные образовательные потреб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66544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оритет интересов ребе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несение акцента с инвалидности (медицинский подход) на потенциальные возможности и «зону ближайшего развития» (психолого-педагогический подход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анные по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1413000"/>
            <a:ext cx="568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6 млн. детей (4,5% от общей численности) относятся к категории лиц с ограниченными возможностями здоровь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ель инвалидности в детской популяции – 196,2 на 1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дирующие заболевания, приводящие к инвалиднос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онные и соматические – 34,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левания нервной системы – 20,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ические расстройства – 21,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ожденные аномалии развития – 1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59056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исьмо МО N 27/2722-6 от 03.04.2003 г.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"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Об организации работы с обучающимися, имеющими сложный дефект"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исьмо МО РФ №26/188-и6 от 06.04.2004г.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«О дополнительных мерах по соблюдению права на образование детей-инвалидов с отклонениями в умственном развити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5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сьмо МО (№ВФ-577/06) и МЗиСР (№26-8-ВС) РФ от 04.04.2007г. </a:t>
            </a:r>
            <a:br>
              <a:rPr sz="40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«О реализации конституционного права детей-инвалидов, проживающих в детских домах-интернатах для умственно отсталых детей, на образование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rk</dc:creator>
  <dc:description/>
  <dc:language>en-US</dc:language>
  <cp:lastModifiedBy> Uchenik</cp:lastModifiedBy>
  <cp:revision>0</cp:revision>
  <dc:subject/>
  <dc:title>Приволжский Федеральный Центр</dc:title>
</cp:coreProperties>
</file>