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CC8-3B8E-4323-A554-C113BCE2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0DD-9AC6-4F4A-B52B-854D593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FD4-C8FD-418D-BF22-7EC6536A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70A-4E19-4A1D-8B1C-A50E312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E0CC-4CF9-4C3F-B22E-74D47D72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1E13-0B25-4E92-992B-8CBF3292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E486-3979-45A7-A56E-B404EEB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1A46-B77F-4271-A40F-057E029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652-6525-4C5D-9CB6-904AD38A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C43B-E045-49DD-847D-2F5E2FA9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B95D-D767-41C0-A483-613ABA6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89E-0120-4B3B-A8F1-F5DFF0C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DFC6-DE58-43CB-B1AE-C6397C0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4D6-255C-4C51-AC7F-B2EFEB0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1509-C38C-498A-89D9-61A46BB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2310-CBDA-4B1F-977F-48590A43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6F54-6A51-4AFF-9793-B6826735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8E6-2FE7-48CC-BE4E-7B26D85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711-8D13-4BCC-804C-7AB0FBEF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03C-DA29-4C94-A066-A669011E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48E-4677-4455-AE9F-8FE18EE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2B6-53B9-4BAE-80A2-26788BE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B44-3A50-483E-ABB4-04239049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152-B3EE-47A9-8E52-B3A3E58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048D61-A114-48C2-98D7-BFED3E265D9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C002D-8396-4D54-A9E8-B9210340B97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Программно-методическое обеспечение логопедического сопровождения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Шереметьева Е.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322560" indent="-225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достаточная стандартизация нормативно-правового, диагностического, программно-методического обеспечения профессиональной деятельности учителей-логопедов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2560" indent="-225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ожности оптимальной организации коррекционно-развивающего образовательного процесса в группах компенсирующего вида для детей с нарушениями реч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2560" indent="-2257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тиворечие между необходимостью реализации коррекционной и общеразвивающей программ в полном объеме (в связи с оценкой качества дошкольного, в том числе специального (коррекционного) образования) и требованиями СанПиН к максимально допустимой недельной образовательной нагрузке на воспитанника МО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роблемы логопедического сопровождения в ДОУ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353520" indent="-247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группах компенсирующего вида для детей с нарушениями речи МДОУ ДС реализуются следующие образовательные программы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520" indent="-247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Чиркина Г.В. Программы дошкольных образовательных учреждений компенсирующего вида для детей с нарушениями речи / Т.Б. Филичева, Г.В.Чиркина, Т.В.Туманова, С.А. Миронова, А.В.Лагутина. – М.: Просвещение, 2008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520" indent="-247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Филичева Т.Б. Устранение общего недоразвития речи у детей дошкольного возраста: практ. пособие / Т.Б. Филичева, Г.В.Чиркина. – М.:АЙРИС ПРЕСС, 2007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520" indent="-247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рограмма воспитания и обучения в детском саду под редакцией / Под ред. М.А. Васильевой, В.В.Гербовой, Т.С.Комаровой. – М.: Мозаика-Синтез, 2007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рограммное обеспечение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8</TotalTime>
  <Application>LibreOffice/7.4.7.2$Linux_X86_64 LibreOffice_project/40$Build-2</Application>
  <AppVersion>15.0000</AppVersion>
  <Words>199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29T09:11:42Z</dcterms:modified>
  <cp:revision>4</cp:revision>
  <dc:subject/>
  <dc:title>Программно-методическое обеспечение логопедического сопровож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</vt:r8>
  </property>
</Properties>
</file>