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3A5-7431-4686-83FC-74E04922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C15-319E-456A-99EE-D1F5FB9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A3F-3FF3-4EF9-BDC9-B06960AD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26C-A5ED-409A-AD53-0084A826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6EC1-EADD-426C-B868-C980C0B2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B61F-3700-4008-A60C-22CBFD88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A4CA-47AE-4C49-9DB9-B135D6F0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3B66-74C3-4D0C-8347-2557464A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D98A-FE80-47C0-BABD-0C2C17DD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5A84-3A99-4B86-AC9E-9625B18C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9472-15FD-4072-A87D-31AF211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BE5-85D8-4732-8D44-FC844738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7E30-C6B0-4BA9-B681-C5338195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60E7-0418-4E35-A8FD-4BFF010A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6D43-9696-43B3-BFC8-CE62E404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6AEC-B977-4ECE-A831-16757E0B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A8F5-AA60-451A-B0BB-388A0DD2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4871-F34A-4C68-9F85-111635F2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60DB-CF7D-4482-8031-D0FDAA5F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1D36-80F6-491F-9F59-34318CDE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0801-11D3-4F95-B8A5-D91D1B19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6374-77CD-49DD-B1FE-88C2DD2E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531-8808-467D-A2F4-B8E2FC11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A6A8-A4A5-469C-B0AD-32B767C4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5D40-B2D0-464A-842A-F78A635A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B44A-9307-4C62-A84A-E150F16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4346-7992-4BF2-8D2C-CEE467F5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3BCBA-65EF-4658-9F00-7CB276F9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B439-F0DE-4B63-9A60-19044A51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2B64-D738-4790-A829-1FA79E3A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9782-7ABD-4C97-9AC4-38F6ACB5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3F77-4371-44D7-A04F-E118FD30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98414-ED89-439F-A572-4CEF1CFD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F22-8920-41ED-B9AA-E80A98FC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4DA8-1ECC-49CD-A4E5-82577B90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6189-4AB3-48A1-86B2-A8EC4AAF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C2A6-E9F6-4052-8B22-49732F07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245E-754D-4C38-BADD-BA059C0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FDB7E-B30F-4DEF-B27E-8D0CFD9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E30D-D1AB-4198-AD7F-F24A940D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AE39-4C74-433B-8C76-122E7B9A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7271E-A7EE-4246-9521-CA7FBF51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F606C-FCAB-4082-B5C8-B72CC9D4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4D31-C2D3-4970-B307-D3C4BE42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93E-2D77-4C8C-AEB1-F4DD25F8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C2E2-9E8D-4C70-9CA3-BB3B7C44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7C83-30A5-41A1-91E8-253E5F60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254D-CCF0-43E4-8057-FC6CB331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E924-8FFA-42A5-A7CC-D9BE80FE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BD4D-D2F4-4061-9B16-5612C517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17794-712B-4A1E-9B8F-4A4EA473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07125-7077-4165-BFF5-D827BA87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51522-7D9F-4D46-B2C0-B5334C22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54ED-89E1-4AF3-8811-FB6C9FF7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DBB85-7822-4B3D-AFE2-541646B7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C5B-144A-468F-94AD-A65DB682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1975C-0D52-4962-92F9-C4FED953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B1D9B-AD96-4EA9-B8F2-6A9413D5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20E18-1380-4E5A-8A25-FD3883C4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43E8-0E56-4ECE-AEE6-BADEBF33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F97DD-DAA1-432D-BD6C-38D8A401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9FDE7-517D-4F01-8C2B-063354B2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E0C57-15DC-4427-A787-61AE131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BF447-5D31-4E70-B1E4-7CC07A9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CCE82-3E39-4731-A83F-2C2519D4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57B5A-D0F9-4753-9E85-1E6A89C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7B0-D113-44F1-972C-E756EB8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D1A7E-B949-4146-8472-D849A81D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5FE4-F3FB-4DC2-B1E2-A627C437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E0AB3-0D49-49EF-B53B-FFCD285B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30D7F-B4C1-4157-BD63-E2F8FF5A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D227B-32ED-4EE8-98E4-1D2FE2C2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C605D-A46E-4564-982C-7AE6E174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B1B7F-A542-4A1B-AAEC-84AFA05D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6543A-799A-4EC0-BC06-4F66DD0F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B4363-37FD-4C40-BB23-B7436C64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CA2D3-0D7F-4F4F-8046-8D105BF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E6B-0E80-4119-ACB2-36E9DEFD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5EB21-5351-4F19-886A-C9903898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242FA-10CC-4D26-BA25-888C84CB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4E5EC-D79E-49A8-8376-C9EA2846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8BF1A-191C-477E-A983-1653EE76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09438-0BA0-4C4B-B9E0-B14C3FB6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55FCC-6C17-49CF-97FE-261F45F0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268C4-16AE-4F23-8EB6-8244484B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68955-CDBA-4B0A-9366-F1B245FF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5BA4E-6728-45E7-8AD9-93B2BD22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DBDD8-AFBF-49B2-AB5C-85E0CF7F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D83-02D7-4EDF-B61D-EDD62BE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73E5A-E9C7-4A47-8BDA-261A7135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98987-3062-4A5A-B6BC-D5C11223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3B67-16CA-44DA-804C-6C50E90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3F485-DE6E-46F9-8937-EAD6D27E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77A88-3208-4B18-A6A8-6DC3463E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21C22-C3B5-4188-8B89-8FE912A2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466A1-DE49-49A7-872C-1A1DB7FF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12E-2E6B-4A1C-9A49-2BB0522150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CBD1-9D15-4375-8C07-3CE7460ACB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5DF1-317D-48EE-B74C-88B17F47A97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490-F5DB-44C4-A0EB-A57BDC50AA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695C-022D-428A-974D-5E1C1607B3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1754-230F-4417-BEFA-54B8DAF025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83BD-53DA-4245-A008-E926E7B123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8497-767B-405A-8AD6-6AF036277F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2.png"/><Relationship Id="rId13" Type="http://schemas.openxmlformats.org/officeDocument/2006/relationships/image" Target="../media/image14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920880"/>
            <a:ext cx="8169480" cy="2670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Е.В. Шереметье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2"/>
          <p:cNvSpPr/>
          <p:nvPr/>
        </p:nvSpPr>
        <p:spPr>
          <a:xfrm>
            <a:off x="3505320" y="2209680"/>
            <a:ext cx="175248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295280" y="2438280"/>
            <a:ext cx="1905120" cy="916920"/>
          </a:xfrm>
          <a:prstGeom prst="rect">
            <a:avLst/>
          </a:prstGeom>
          <a:solidFill>
            <a:srgbClr val="10f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нико-логопедический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3581280" y="2362320"/>
            <a:ext cx="1600200" cy="916920"/>
          </a:xfrm>
          <a:prstGeom prst="rect">
            <a:avLst/>
          </a:prstGeom>
          <a:solidFill>
            <a:srgbClr val="10f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о-логопедический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5562720" y="2438280"/>
            <a:ext cx="1981080" cy="916920"/>
          </a:xfrm>
          <a:prstGeom prst="rect">
            <a:avLst/>
          </a:prstGeom>
          <a:solidFill>
            <a:srgbClr val="10f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-педагогический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9"/>
          <p:cNvSpPr/>
          <p:nvPr/>
        </p:nvSpPr>
        <p:spPr>
          <a:xfrm>
            <a:off x="380880" y="4191120"/>
            <a:ext cx="2133720" cy="2209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10fc2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0"/>
          <p:cNvSpPr/>
          <p:nvPr/>
        </p:nvSpPr>
        <p:spPr>
          <a:xfrm rot="10800000">
            <a:off x="6171840" y="4191120"/>
            <a:ext cx="2133720" cy="2209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10fc2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609480" y="4876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физиологический компон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3"/>
          <p:cNvSpPr/>
          <p:nvPr/>
        </p:nvSpPr>
        <p:spPr>
          <a:xfrm>
            <a:off x="6553080" y="4876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нитивный компон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1066680" y="2209680"/>
            <a:ext cx="228600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>
            <a:off x="5410080" y="2209680"/>
            <a:ext cx="228600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3352680" y="2819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>
            <a:off x="525780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1042920" y="328464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7696080" y="32767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Rectangle 20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244520"/>
          </a:xfrm>
          <a:prstGeom prst="rect">
            <a:avLst/>
          </a:prstGeom>
          <a:ln w="0">
            <a:noFill/>
          </a:ln>
        </p:spPr>
      </p:pic>
      <p:sp>
        <p:nvSpPr>
          <p:cNvPr id="475" name="Oval 21"/>
          <p:cNvSpPr/>
          <p:nvPr/>
        </p:nvSpPr>
        <p:spPr>
          <a:xfrm>
            <a:off x="2556000" y="4508640"/>
            <a:ext cx="3600360" cy="1512720"/>
          </a:xfrm>
          <a:prstGeom prst="ellipse">
            <a:avLst/>
          </a:prstGeom>
          <a:solidFill>
            <a:srgbClr val="08e6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2"/>
          <p:cNvSpPr/>
          <p:nvPr/>
        </p:nvSpPr>
        <p:spPr>
          <a:xfrm>
            <a:off x="2843280" y="5013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овой компон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4"/>
          <p:cNvSpPr/>
          <p:nvPr/>
        </p:nvSpPr>
        <p:spPr>
          <a:xfrm>
            <a:off x="4356000" y="3500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частники: невролог, учитель-логопе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ы организации: обследование детей; индивидуальные логопедические занят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частники: учитель-логопед, музыкальный руководитель, де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а организации: музыкально-логопедические занятия со всеми детьми в музыкальном за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положены от простого к сложному и наполнены определенным лексическим содержанием в соответствии с сезонностью явлений в природе и событиями общественной жизн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ация детей в групповой комнате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ижение в музыкальный зал с внешней ритмической организацией стихотворным текстом в логике заданного сюжет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ижение по музыкальному залу под ритм песни, подобранной по сюжету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становка возле рояля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иветствие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явление сказочного героя или проблемы, которую необходимо разрешить (зачин)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сновная часть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тог занятия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ощание;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вижение в групповую комнату в порядке, обратном движению в музыкальный зал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едполагала разрешение проблемы с помощью детей и включал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артикуляционную гимнастику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пражнения на интонирование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ния на формирования ритмической основы речи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пражнения на развитие фонематического восприятия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пражнения на развитие мелкой моторики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ния для развития общей моторики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ния, направленные на подготовку к отгадыванию загадок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 дифференциацию по цвету, форме, обобщающему понятию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частники: учитель-логопед, родители, воспитатели, по мере необходимости психолог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ы организации: еженедельные консультационные занятия со всеми родителями, индивидуальные консультации; консультации для воспитател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528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емонстрация видеозаписи музыкально-логопедического занятия с деть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нализ продвижения каждого ребенка (положительный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нализ использованных учителем-логопедом приемов и методов коррекци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учение родителей этим приемам и метода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Теоретическое консультирование в соответствии с календарно-тематическим планирование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вободный обмен мнениям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этап – цель развитие импрессивной речи в коммуника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узыкально-логопедический блок: задача - уточнение существующих, вызывание и закрепление новых вербальных средств общения. Начало - развитие слухового, зрительного внимани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ределение актуального соматического и неврологического статуса ребен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ование моторных предпосылок артикуляции и слухового неречевого гнозис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нятие коррекционно-предупредительное воздейств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нципы раннего логопедического воздейств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рганизация коррекционно-предупредительного обу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держание направленного коррекционно-предупредительного обу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ование через все виды деятельности ребенка значимости вербального раздражителя (инструкция взрослого) как наиболее важного среди всех сенс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528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граничивать вербальную инструкцию до двух-трех слов (7-8 слогов) из его ближайшего ситуативного окружения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держивать паузу до 5 секунд после ее предъявления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вторять ее в первоначальном варианте (если ребенок не выполнял инструкцию)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ключать в обращенную речь опорное для понимания ребенка элемента (хорошо знакомого слова, указательного жест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74680" y="6480"/>
            <a:ext cx="84186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узыкально-логопедический блок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итмическая организация речевой продукции (восприятие и воспроизведение ритма слова)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витие интонации через формирование голоса, голосовых модуляций и речевого дыхания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дикаментозное (по показаниям) лечение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ифференциация гласных звуков, свистящих и шипящих, твердых и мягких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точнение артикуляции гласных звуков, согласных, доступных артикуляционным возможностям ребенка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здание базовых двигательных умений для постановки артикуляторно более сложных звуко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сыщение речи, обращенной к ребенку, эмоционально утрированными интонацией и ритмом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опровождать передвижение детей хорошо ритмизованными стихотворными строками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ключать в совместную деятельность пропевание потешек, прибауток, подобранных или созданных нами по каждой лексической теме в соответствии с возрастными особенностям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оцессуальные игровые действия детей с игрушками включать в сюжет, давать образец разыгрывания разных ролей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528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Такая система поэтапного коррекционно-предупредительного воздействия благоприятно влияет на эмоциональное реагирование ребенка, самостоятельную творческую игру,  как с сюжетными игрушками, так и с предметами-заместителями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ктивизирует речевое сопровождение игры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вает фонематическое восприятие и артикуляционную моторику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целом дает возможность нормализовать процесс речевого развития или приблизить его к нормальному онтогенезу реч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полагает направленную комплексную работу по коррекции процессов, которые должны быть сформированы в данном психологическом возрасте и формированию процессов, находящихся в стадии развит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91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доразвитие когнитивных и языковых компонентов речевого становления, обусловленное нарушением психофизиологических предпосылок и/или несоответствием микросоциальных условий возможностям ребенка. Проявляется в трудностях формирования начального детского лексикона и фразовой реч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жет быть самостоятельной речевой патологией или частью в структуре любой формы дизонтогенез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9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-6480" y="128520"/>
            <a:ext cx="8242560" cy="4255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 flipH="1" rot="5400000">
            <a:off x="100440" y="317880"/>
            <a:ext cx="39708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mod1"/>
          <p:cNvPicPr/>
          <p:nvPr/>
        </p:nvPicPr>
        <p:blipFill>
          <a:blip r:embed="rId2"/>
          <a:stretch/>
        </p:blipFill>
        <p:spPr>
          <a:xfrm>
            <a:off x="2550960" y="5935680"/>
            <a:ext cx="2333880" cy="588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od2"/>
          <p:cNvPicPr/>
          <p:nvPr/>
        </p:nvPicPr>
        <p:blipFill>
          <a:blip r:embed="rId3"/>
          <a:stretch/>
        </p:blipFill>
        <p:spPr>
          <a:xfrm>
            <a:off x="3094200" y="6237360"/>
            <a:ext cx="1952640" cy="33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mod3"/>
          <p:cNvPicPr/>
          <p:nvPr/>
        </p:nvPicPr>
        <p:blipFill>
          <a:blip r:embed="rId4"/>
          <a:stretch/>
        </p:blipFill>
        <p:spPr>
          <a:xfrm>
            <a:off x="3924360" y="6014880"/>
            <a:ext cx="1514520" cy="5032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7"/>
          <p:cNvSpPr/>
          <p:nvPr/>
        </p:nvSpPr>
        <p:spPr>
          <a:xfrm>
            <a:off x="3692520" y="6381720"/>
            <a:ext cx="59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ри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253040" y="6093000"/>
            <a:ext cx="146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куст. харак. кри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2700360" y="60278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ммуникативная направленность плач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0" descr="mod1"/>
          <p:cNvPicPr/>
          <p:nvPr/>
        </p:nvPicPr>
        <p:blipFill>
          <a:blip r:embed="rId5"/>
          <a:stretch/>
        </p:blipFill>
        <p:spPr>
          <a:xfrm>
            <a:off x="2332080" y="4797360"/>
            <a:ext cx="2805120" cy="58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1" descr="mod2"/>
          <p:cNvPicPr/>
          <p:nvPr/>
        </p:nvPicPr>
        <p:blipFill>
          <a:blip r:embed="rId6"/>
          <a:stretch/>
        </p:blipFill>
        <p:spPr>
          <a:xfrm>
            <a:off x="3027240" y="5103720"/>
            <a:ext cx="2346480" cy="338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mod3"/>
          <p:cNvPicPr/>
          <p:nvPr/>
        </p:nvPicPr>
        <p:blipFill>
          <a:blip r:embed="rId7"/>
          <a:stretch/>
        </p:blipFill>
        <p:spPr>
          <a:xfrm>
            <a:off x="4030560" y="4861080"/>
            <a:ext cx="1825560" cy="50004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3"/>
          <p:cNvSpPr/>
          <p:nvPr/>
        </p:nvSpPr>
        <p:spPr>
          <a:xfrm>
            <a:off x="4611600" y="5013360"/>
            <a:ext cx="92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окализац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3719880" y="5176800"/>
            <a:ext cx="62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ул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639880" y="4927680"/>
            <a:ext cx="170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гментация гу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6" descr="mod1"/>
          <p:cNvPicPr/>
          <p:nvPr/>
        </p:nvPicPr>
        <p:blipFill>
          <a:blip r:embed="rId8"/>
          <a:stretch/>
        </p:blipFill>
        <p:spPr>
          <a:xfrm>
            <a:off x="2044800" y="3608280"/>
            <a:ext cx="3259080" cy="6858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7" descr="mod3"/>
          <p:cNvPicPr/>
          <p:nvPr/>
        </p:nvPicPr>
        <p:blipFill>
          <a:blip r:embed="rId9"/>
          <a:stretch/>
        </p:blipFill>
        <p:spPr>
          <a:xfrm>
            <a:off x="4052880" y="3700440"/>
            <a:ext cx="2119320" cy="58428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8"/>
          <p:cNvSpPr/>
          <p:nvPr/>
        </p:nvSpPr>
        <p:spPr>
          <a:xfrm>
            <a:off x="4900680" y="3860640"/>
            <a:ext cx="7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окабул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2230560" y="3753000"/>
            <a:ext cx="26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тонационно-ритмическая сегментация лепета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логовой лепе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0" descr="mod1"/>
          <p:cNvPicPr/>
          <p:nvPr/>
        </p:nvPicPr>
        <p:blipFill>
          <a:blip r:embed="rId10"/>
          <a:stretch/>
        </p:blipFill>
        <p:spPr>
          <a:xfrm>
            <a:off x="1763640" y="2276640"/>
            <a:ext cx="3714840" cy="733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1" descr="mod3"/>
          <p:cNvPicPr/>
          <p:nvPr/>
        </p:nvPicPr>
        <p:blipFill>
          <a:blip r:embed="rId11"/>
          <a:stretch/>
        </p:blipFill>
        <p:spPr>
          <a:xfrm>
            <a:off x="4044960" y="2355840"/>
            <a:ext cx="2414520" cy="6271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2"/>
          <p:cNvSpPr/>
          <p:nvPr/>
        </p:nvSpPr>
        <p:spPr>
          <a:xfrm>
            <a:off x="4611600" y="249228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ова-предлож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2097000" y="2513160"/>
            <a:ext cx="204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растание слоговой структу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4" descr="mod1"/>
          <p:cNvPicPr/>
          <p:nvPr/>
        </p:nvPicPr>
        <p:blipFill>
          <a:blip r:embed="rId12"/>
          <a:stretch/>
        </p:blipFill>
        <p:spPr>
          <a:xfrm>
            <a:off x="1403280" y="988920"/>
            <a:ext cx="4319640" cy="930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5" descr="mod3"/>
          <p:cNvPicPr/>
          <p:nvPr/>
        </p:nvPicPr>
        <p:blipFill>
          <a:blip r:embed="rId13"/>
          <a:stretch/>
        </p:blipFill>
        <p:spPr>
          <a:xfrm>
            <a:off x="4140360" y="1052640"/>
            <a:ext cx="2809800" cy="7938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26"/>
          <p:cNvSpPr/>
          <p:nvPr/>
        </p:nvSpPr>
        <p:spPr>
          <a:xfrm>
            <a:off x="5003640" y="1197000"/>
            <a:ext cx="223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рфологизация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раммат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1884240" y="12589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сложнение слоговой структур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1444680" y="3141720"/>
            <a:ext cx="24955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рительное, фонематическое восприятие, двигательный предпосылки артикуляции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9"/>
          <p:cNvSpPr/>
          <p:nvPr/>
        </p:nvSpPr>
        <p:spPr>
          <a:xfrm>
            <a:off x="4211640" y="5373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0"/>
          <p:cNvSpPr/>
          <p:nvPr/>
        </p:nvSpPr>
        <p:spPr>
          <a:xfrm>
            <a:off x="4189320" y="4238640"/>
            <a:ext cx="0" cy="81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1"/>
          <p:cNvSpPr/>
          <p:nvPr/>
        </p:nvSpPr>
        <p:spPr>
          <a:xfrm>
            <a:off x="4189320" y="2997360"/>
            <a:ext cx="0" cy="91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2"/>
          <p:cNvSpPr/>
          <p:nvPr/>
        </p:nvSpPr>
        <p:spPr>
          <a:xfrm>
            <a:off x="4189320" y="186372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3" descr="mod2"/>
          <p:cNvPicPr/>
          <p:nvPr/>
        </p:nvPicPr>
        <p:blipFill>
          <a:blip r:embed="rId14"/>
          <a:stretch/>
        </p:blipFill>
        <p:spPr>
          <a:xfrm>
            <a:off x="2556000" y="1484280"/>
            <a:ext cx="3616200" cy="5367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4"/>
          <p:cNvSpPr/>
          <p:nvPr/>
        </p:nvSpPr>
        <p:spPr>
          <a:xfrm>
            <a:off x="2908440" y="1700280"/>
            <a:ext cx="24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ложения из двух сл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5" descr="mod2"/>
          <p:cNvPicPr/>
          <p:nvPr/>
        </p:nvPicPr>
        <p:blipFill>
          <a:blip r:embed="rId15"/>
          <a:stretch/>
        </p:blipFill>
        <p:spPr>
          <a:xfrm>
            <a:off x="2716200" y="2665440"/>
            <a:ext cx="3105000" cy="422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6"/>
          <p:cNvSpPr/>
          <p:nvPr/>
        </p:nvSpPr>
        <p:spPr>
          <a:xfrm>
            <a:off x="3355920" y="2822400"/>
            <a:ext cx="102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вые сло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7" descr="mod2"/>
          <p:cNvPicPr/>
          <p:nvPr/>
        </p:nvPicPr>
        <p:blipFill>
          <a:blip r:embed="rId16"/>
          <a:stretch/>
        </p:blipFill>
        <p:spPr>
          <a:xfrm>
            <a:off x="2884320" y="4005360"/>
            <a:ext cx="2727360" cy="3952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38"/>
          <p:cNvSpPr/>
          <p:nvPr/>
        </p:nvSpPr>
        <p:spPr>
          <a:xfrm>
            <a:off x="3822120" y="407664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еп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9"/>
          <p:cNvSpPr/>
          <p:nvPr/>
        </p:nvSpPr>
        <p:spPr>
          <a:xfrm>
            <a:off x="1371600" y="54936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сихофизиологические компонент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0"/>
          <p:cNvSpPr/>
          <p:nvPr/>
        </p:nvSpPr>
        <p:spPr>
          <a:xfrm>
            <a:off x="3132000" y="612720"/>
            <a:ext cx="2303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41"/>
          <p:cNvSpPr/>
          <p:nvPr/>
        </p:nvSpPr>
        <p:spPr>
          <a:xfrm>
            <a:off x="1476360" y="5373720"/>
            <a:ext cx="2735280" cy="647640"/>
          </a:xfrm>
          <a:prstGeom prst="rightArrow">
            <a:avLst>
              <a:gd name="adj1" fmla="val 50000"/>
              <a:gd name="adj2" fmla="val 1055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42"/>
          <p:cNvSpPr/>
          <p:nvPr/>
        </p:nvSpPr>
        <p:spPr>
          <a:xfrm rot="10800000">
            <a:off x="4211640" y="5373360"/>
            <a:ext cx="2687760" cy="647640"/>
          </a:xfrm>
          <a:prstGeom prst="rightArrow">
            <a:avLst>
              <a:gd name="adj1" fmla="val 50000"/>
              <a:gd name="adj2" fmla="val 1037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3"/>
          <p:cNvSpPr/>
          <p:nvPr/>
        </p:nvSpPr>
        <p:spPr>
          <a:xfrm>
            <a:off x="1619280" y="551664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рительное, тактильной восприя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4"/>
          <p:cNvSpPr/>
          <p:nvPr/>
        </p:nvSpPr>
        <p:spPr>
          <a:xfrm>
            <a:off x="4689360" y="5481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Непосредственное эмоциональное общ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45"/>
          <p:cNvSpPr/>
          <p:nvPr/>
        </p:nvSpPr>
        <p:spPr>
          <a:xfrm>
            <a:off x="1476360" y="4292640"/>
            <a:ext cx="2689200" cy="541440"/>
          </a:xfrm>
          <a:prstGeom prst="rightArrow">
            <a:avLst>
              <a:gd name="adj1" fmla="val 50000"/>
              <a:gd name="adj2" fmla="val 1241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6"/>
          <p:cNvSpPr/>
          <p:nvPr/>
        </p:nvSpPr>
        <p:spPr>
          <a:xfrm rot="10800000">
            <a:off x="4211640" y="4292640"/>
            <a:ext cx="2687760" cy="541440"/>
          </a:xfrm>
          <a:prstGeom prst="rightArrow">
            <a:avLst>
              <a:gd name="adj1" fmla="val 50000"/>
              <a:gd name="adj2" fmla="val 1241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7"/>
          <p:cNvSpPr/>
          <p:nvPr/>
        </p:nvSpPr>
        <p:spPr>
          <a:xfrm>
            <a:off x="1444680" y="436572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Зрительное и слуховое восприятие (звуковысотный слух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8"/>
          <p:cNvSpPr/>
          <p:nvPr/>
        </p:nvSpPr>
        <p:spPr>
          <a:xfrm>
            <a:off x="4664160" y="43657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едметно-действенное          общ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49"/>
          <p:cNvSpPr/>
          <p:nvPr/>
        </p:nvSpPr>
        <p:spPr>
          <a:xfrm>
            <a:off x="1476360" y="3068640"/>
            <a:ext cx="2689200" cy="593640"/>
          </a:xfrm>
          <a:prstGeom prst="rightArrow">
            <a:avLst>
              <a:gd name="adj1" fmla="val 50000"/>
              <a:gd name="adj2" fmla="val 113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50"/>
          <p:cNvSpPr/>
          <p:nvPr/>
        </p:nvSpPr>
        <p:spPr>
          <a:xfrm>
            <a:off x="4211640" y="3068640"/>
            <a:ext cx="2687760" cy="593640"/>
          </a:xfrm>
          <a:prstGeom prst="leftArrow">
            <a:avLst>
              <a:gd name="adj1" fmla="val 50000"/>
              <a:gd name="adj2" fmla="val 1131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4498920" y="3159000"/>
            <a:ext cx="240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итуативно-деловое обще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2"/>
          <p:cNvSpPr/>
          <p:nvPr/>
        </p:nvSpPr>
        <p:spPr>
          <a:xfrm>
            <a:off x="1482840" y="1916280"/>
            <a:ext cx="2689200" cy="430200"/>
          </a:xfrm>
          <a:prstGeom prst="rightArrow">
            <a:avLst>
              <a:gd name="adj1" fmla="val 50000"/>
              <a:gd name="adj2" fmla="val 1562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3"/>
          <p:cNvSpPr/>
          <p:nvPr/>
        </p:nvSpPr>
        <p:spPr>
          <a:xfrm rot="10800000">
            <a:off x="4140000" y="1915920"/>
            <a:ext cx="2687400" cy="430200"/>
          </a:xfrm>
          <a:prstGeom prst="rightArrow">
            <a:avLst>
              <a:gd name="adj1" fmla="val 50000"/>
              <a:gd name="adj2" fmla="val 1561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4"/>
          <p:cNvSpPr/>
          <p:nvPr/>
        </p:nvSpPr>
        <p:spPr>
          <a:xfrm>
            <a:off x="1554120" y="198900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онематический слух, речевая мотор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5"/>
          <p:cNvSpPr/>
          <p:nvPr/>
        </p:nvSpPr>
        <p:spPr>
          <a:xfrm>
            <a:off x="4572000" y="1963800"/>
            <a:ext cx="240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неситуативно-познавательное общ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6"/>
          <p:cNvSpPr/>
          <p:nvPr/>
        </p:nvSpPr>
        <p:spPr>
          <a:xfrm>
            <a:off x="1444680" y="549360"/>
            <a:ext cx="1535040" cy="377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57"/>
          <p:cNvSpPr/>
          <p:nvPr/>
        </p:nvSpPr>
        <p:spPr>
          <a:xfrm>
            <a:off x="5245200" y="566640"/>
            <a:ext cx="1631880" cy="324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58"/>
          <p:cNvSpPr/>
          <p:nvPr/>
        </p:nvSpPr>
        <p:spPr>
          <a:xfrm>
            <a:off x="3322800" y="566640"/>
            <a:ext cx="1631880" cy="324000"/>
          </a:xfrm>
          <a:prstGeom prst="flowChartAlternateProcess">
            <a:avLst/>
          </a:prstGeom>
          <a:gradFill rotWithShape="0">
            <a:gsLst>
              <a:gs pos="0">
                <a:srgbClr val="66ff66"/>
              </a:gs>
              <a:gs pos="100000">
                <a:srgbClr val="07c1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9"/>
          <p:cNvSpPr/>
          <p:nvPr/>
        </p:nvSpPr>
        <p:spPr>
          <a:xfrm>
            <a:off x="3348000" y="549360"/>
            <a:ext cx="163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Языковые компонен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0"/>
          <p:cNvSpPr/>
          <p:nvPr/>
        </p:nvSpPr>
        <p:spPr>
          <a:xfrm>
            <a:off x="5364000" y="549360"/>
            <a:ext cx="146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гнитивные компонен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61"/>
          <p:cNvSpPr/>
          <p:nvPr/>
        </p:nvSpPr>
        <p:spPr>
          <a:xfrm>
            <a:off x="3035160" y="72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2"/>
          <p:cNvSpPr/>
          <p:nvPr/>
        </p:nvSpPr>
        <p:spPr>
          <a:xfrm>
            <a:off x="4954680" y="7286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63"/>
          <p:cNvSpPr/>
          <p:nvPr/>
        </p:nvSpPr>
        <p:spPr>
          <a:xfrm flipV="1">
            <a:off x="4091040" y="890280"/>
            <a:ext cx="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4"/>
          <p:cNvSpPr/>
          <p:nvPr/>
        </p:nvSpPr>
        <p:spPr>
          <a:xfrm flipV="1">
            <a:off x="1500120" y="4993920"/>
            <a:ext cx="0" cy="7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65"/>
          <p:cNvSpPr/>
          <p:nvPr/>
        </p:nvSpPr>
        <p:spPr>
          <a:xfrm flipV="1">
            <a:off x="1500120" y="3860280"/>
            <a:ext cx="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6"/>
          <p:cNvSpPr/>
          <p:nvPr/>
        </p:nvSpPr>
        <p:spPr>
          <a:xfrm flipV="1">
            <a:off x="1500120" y="2565360"/>
            <a:ext cx="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67"/>
          <p:cNvSpPr/>
          <p:nvPr/>
        </p:nvSpPr>
        <p:spPr>
          <a:xfrm flipV="1">
            <a:off x="1500120" y="1645920"/>
            <a:ext cx="0" cy="9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8"/>
          <p:cNvSpPr/>
          <p:nvPr/>
        </p:nvSpPr>
        <p:spPr>
          <a:xfrm flipV="1">
            <a:off x="1500120" y="890280"/>
            <a:ext cx="0" cy="81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69"/>
          <p:cNvSpPr/>
          <p:nvPr/>
        </p:nvSpPr>
        <p:spPr>
          <a:xfrm flipV="1">
            <a:off x="6877080" y="4941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70"/>
          <p:cNvSpPr/>
          <p:nvPr/>
        </p:nvSpPr>
        <p:spPr>
          <a:xfrm flipV="1">
            <a:off x="6877080" y="3753000"/>
            <a:ext cx="0" cy="12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71"/>
          <p:cNvSpPr/>
          <p:nvPr/>
        </p:nvSpPr>
        <p:spPr>
          <a:xfrm flipV="1">
            <a:off x="6877080" y="2619000"/>
            <a:ext cx="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72"/>
          <p:cNvSpPr/>
          <p:nvPr/>
        </p:nvSpPr>
        <p:spPr>
          <a:xfrm flipV="1">
            <a:off x="6877080" y="164592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73"/>
          <p:cNvSpPr/>
          <p:nvPr/>
        </p:nvSpPr>
        <p:spPr>
          <a:xfrm flipV="1">
            <a:off x="6877080" y="67464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моциональная сфера: эмоциональное реагирование, мимические проявления эмоц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гровые действ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вая активность в процессе игровых действ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метные действ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ы обследования предме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ь взрослого, обращенная к ребенк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тение детской литературы в семь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онационно-ритмические процесс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итм сло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личие факторов риска в анамнезе, количество и характер патологических синдромов в неврологическом статусе; количество перенесенных соматических заболеваний до 2 лет; частота острых ринитов до 2 ле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луховой гнозис: фонематическое восприят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вигательные предпосылки артикуляци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нцип опережающего обучения в развити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еятельностный принцип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нцип развити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нцип системного подход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нцип связи речи с другими сторонами психического развити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нцип природосообразност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нцип комплексного воздействи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инцип опоры на кинестетическую афферентацию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1-25T09:17:1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