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FAB-387E-444D-B9FD-16558348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238-AF20-41A5-AA1F-F164BE1A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03D-D73C-4D3B-97D3-FE522E0A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D72-1F80-4C32-B2AE-042B3720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3984-3C61-4CBC-86EA-942FB317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6367-9AA7-430F-8D2D-12FBF8F7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0917-3C8F-43B0-884C-AF8EE896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0960-85A2-43DD-BBFA-377D78D4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0290-D8A1-4A16-A762-84914642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A9B2-4874-4C2F-B5F8-DE15CA2D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118D-1095-4A8E-B89B-F335A047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D00-8AC0-40BB-90C8-11163CCB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A1F2-FFDC-4A60-BBDD-6A37CA3A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1027-6956-4FDA-A614-ACA2E43F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CA2B-98A8-4955-AE8A-CE4E889A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E415-A4D0-4035-933C-52E44F06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B6D0-EC34-4F3F-A706-5F4C4F67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67B6-17DE-4A80-94BD-180E7EA2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365A-AC71-4A26-A818-0014CF9C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FD5-2926-4F51-8008-2175252E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FD8-5F5D-4F2B-B6BE-C94798F1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C7F-AE81-453B-9CBA-0C44913F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A71-DEBD-4F28-A4FE-C240CA35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B82-5D1B-4259-A5B2-C197A33B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21A6A3-6D4B-4C8A-B15B-6920BD6946D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A8BAAC-0698-4270-BBF8-FFA0CFA9219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1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Современные исследования в логопедагогике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Шереметьева Е.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344880" indent="-241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редний уровень сформированности зрительной памяти (нарушение непосредственного воспроизведения, связанные с сужением объема зрительной памяти, наиболее частотны замены эталонных изображений близкими по семантическим характеристикам, реже встречаются замены изображений по оптическому сходству)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4880" indent="-241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чеслуховой памяти (снижение объема и прочности, а также замедленность запоминания с тенденцией к снижению количества ошибок в процессе заучивания),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4880" indent="-241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рительного восприятия (трудности в опознании предметов в условиях наложения, зашумления)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4880" indent="-241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нимания (замедленность темпа выполнения задания, увеличение ошибок к концу работы)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4880" indent="-241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изкий уровень сформированности акустического гнозиса (преобладание ошибок при воспроизведении сложного ритма)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4880" indent="-241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чеслуховой памяти (неравномерность воспроизведения с тенденцией к уменьшению количества слов, наиболее частотны ошибки соскальзывания на побочные ассоциации, реже встречается наличие посторонних слов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4100" spc="-1" strike="noStrike">
                <a:solidFill>
                  <a:srgbClr val="464646"/>
                </a:solidFill>
                <a:latin typeface="Lucida Sans Unicode"/>
              </a:rPr>
              <a:t>средний уровень развития невербальных психических функций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378360" indent="-264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изкий уровень сформированности: акустического восприятия (недоступно воспроизведение даже простых ритмов, полная дезорганизация ритма)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78360" indent="-264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лухо-речевой памяти (невозможность воспроизведения полного объема слов и удержания в памяти заданного порядка слов, отказ от выполнения задания после влияния интерференции)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78360" indent="-264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нимания (хаотичное отыскивание эталона, при оказании помощи качество выполнения задания не улучшается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6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4100" spc="-1" strike="noStrike">
                <a:solidFill>
                  <a:srgbClr val="464646"/>
                </a:solidFill>
                <a:latin typeface="Lucida Sans Unicode"/>
              </a:rPr>
              <a:t>Низкий уровень развития невербальных психических функций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основу создания методики обучения навыкам чтения и разработки содержания дифференцированного коррекционного обучения должны быть положены данные о состоянии функционального базиса чтения, которые необходимы для определения готовности к обучению чтению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Выводы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240" cy="53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явление уровня готовности к раннему обучению чтению детей 4-х лет требует внесения изменений в традиционную методику обследования детей с ОНР, обусловленных необходимостью специального исследования психофизиологических функций и процессов, лежащих в основе функционального базиса чтени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етодика дифференцированного обучения чтению на основе диагностики состояния функционального базиса чтения оказывает существенное влияние на развитие фонематических процессов, позволяет осуществить пропедевтику нарушений процесса чтени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71320"/>
            <a:ext cx="822924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сследование  Л.Е. Томме посвящена практически неисследованной проблеме формирования готовности к обучению математике детей с общим недоразвитием реч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ормирование математических представлений у детей с недоразвитием речи осуществляется без учета специфики их развития, с применением технологий обучения, рассчитанных на ребенка без отклонений развития, что препятствует созданию полноценной основы для усвоения систематического курса математики в школе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361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начальный. Осуществляется непосредственное восприятие информации, обеспечивающееся полноценным развитием интеллектуальных, сенсорно-перцептивных и речевых функций в целом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анализирующий. Происходит первичное ознакомление с предъявляемым наглядным материалом, воспринимаемая информация подвергается анализу и синтезу, переводится в соответствующие логико-грамматические конструкции. На данном этапе ведущую роль играет достаточный уровень развития операций анализа и синтез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Этапы формирования математического понятия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374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 первичного обобщения. Происходит выделение и сохранение существенных признаков изучаемого материала. Полноценность такого выделения зависит от умения сравнивать, классифицировать и обобщать материал, а также от развитости различных видов памят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74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 абстрагирования. Формируемое математическое понятие рассматривается в отрыве от конкретной наглядно-практической ситуации. Основное значение имеют достаточно развитые способности к абстрагированию материала при помощи обобщающих понятий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Этапы формирования математического понятия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562680" indent="-562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чевое сопровождение позволяет обозначить предмет, заменяя его, выделяя в нем существенные признаки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2680" indent="-562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 помощью речи предмет анализируется, вводится в систему связей на основе обобщения его содержани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2680" indent="-562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участии речи совершается переход от конкретных, наглядно воспринимаемых математических действий с предметами к абстрактным математическим операциям (П.Я. Гальперин, Л.С. Георгиев, Л.С. Цветкова и др.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Функции речи на каждом из этапов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огопедическая работа по формированию функционального базиса чтения у детей 4-5 лет с общим недоразвитием речи (Лагутина А.В., 2007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ормирование готовности к обучению математике детей с общим недоразвитием речи (Томме Л.Е., 2009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дупреждение отклонений речевого развития у детей раннего возраста (Шереметьева Е.В., 2007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Учет когнитивного развития во взаимосвязи с речью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378360" indent="-264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еятельностный (наличие положительной мотивации, умение планировать и контролировать свою деятельность, развитость произвольного внимания)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78360" indent="-264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чевой (умение понимать и правильно употреблять математические термины)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78360" indent="-264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гнитивный (развитость сукцессивных и симультанных процессов, зрительного гнозиса и зрительной памяти, фонематического восприятия, слухоречевой памяти; мыслительных операций анализа и синтеза, классификации и обобщения, абстрагирования)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1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Функциональные компоненты усвоения математических понятий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ценка состояния когнитивных предпосылок усвоения  математики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ценка математических представлений, имеющихся у детей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ценка речевой готовности детей к изучению математики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Этапы обследования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рительный гнозис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амять (слухоречевая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онематическое восприятие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ыслительные операции анализа и синтеза, классификации и обобщения, абстрагировани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ценка когнитивных предпосылок усвоения математики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374040" indent="-261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личественные, величинные  и  геометрические  представления, - что соответствует основным математическим разделам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74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ценивается понимание ребенком количественных отношений; знание цифр; уровень владения различными видами счета; умение складывать, вычитать, решать простые арифметические задачи; умение различать основные признаки предметов, характеризующие их размер; понимание пространственных и временных отношений; знание основных геометрических фигур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ценка математических представлений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сследуется умение ребенка понимать и правильно употреблять математические термины как изолированно, так и в связных высказываниях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6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ценка речевой готовности детей к изучению математики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42960"/>
            <a:ext cx="8229240" cy="54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95280" indent="-276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доразвитие речи отрицательно влияет на формирование математических представлений, но не является единственным негативным фактором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95280" indent="-276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рудности формирования математических представлений у детей с ОНР могут быть вызваны собственно недоразвитием речи; сочетанием речевого недоразвития с нарушениями организации и регуляции деятельности; сочетанием речевого недоразвития с недостаточностью когнитивных функций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детей с ОНР наблюдаются значительные трудности формирования математических представлений, которые могут быть обусловлены не только недоразвитием речи, но и сочетанием речевого недоразвития с нарушениями организации и регуляции деятельности; сочетанием речевого недоразвития с недостаточностью когнитивных функций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Выводы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сследование готовности к обучению математике должно быть системным и направленным на выявление качественно различного характера усвоения математического материала в зависимости от превалирующей недостаточности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Выводы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387360" indent="-270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держание системной работы по формированию готовности к обучению математике детей с ОНР должно дифференцироваться в зависимости от индивидуально-типологических особенностей детей и предусматривать развитие навыков организации и регуляции деятельности; развитие умения опосредовать математическую действительность речью; активизацию когнитивных функций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Выводы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тратегия преодоления дислексии учащихся с нарушениями речи в системе общего образовани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Русецкая Маргарита Николаевн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571320"/>
            <a:ext cx="822924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данных работах исследуются базовые предпосылки усвоения социальных компетенций детьми с тяжелыми нарушениями речи: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стной речи в раннем возрасте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цесса чтения (как более высокого уровня развития речи)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атематических представлений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387360" indent="-270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овые концептуальные основы рассмотрения дислексии и разработана стратегия коррекционно-педагогической помощи детям с нарушениями чтения на всех этапах школьного обучения с учетом новейших достижений в области исследования речевой патологии, коммуникации, а также тенденций языкового образования школьников, задач формирования функционально грамотной языковой личности учащегос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В исследовании предложены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к проявления отклоняющегося генезиса чтения, связанного с нарушением становления читательских компетенций –  интегральных характеристик формирования основных средств чтения, а также готовности и способности ребенка к их применению в образовательных и социокультурных целях для решении когнитивных и коммуникативных задач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Дислексия рассматривается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правлена на формирование функциональной грамотности чтения ребенка  с речевыми нарушениями и обеспечивает  целостность и непрерывность психолого-педагогического сопровождения учащихся с нарушениями чтения на всех этапах становления читательской деятельности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Стратегия преодоления дислексии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714240"/>
            <a:ext cx="8229240" cy="54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уществующая система   помощи детям с нарушениями чтения ставит ребенка с речевыми нарушениями в ситуацию догоняющего развития, когда ему приходится постоянно преодолевать разрыв, отставание от уровня формирования чтения, достигнутого его одноклассниками, что формирует ситуацию школьной неуспешности, снижает мотивацию учения. 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71320"/>
            <a:ext cx="822924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диагностике дислексии единственным критерием «нормальности» оказывается соответствие/несоответствие навыка чтения программным требованиям к результатам обучения по чтению в начальных классах (в которых указаны ожидаемые итоги овладения навыком чтения в каждом классе): качественно-количественные нормативы скорости, правильности чтения, понимания прочитанного, сформированности отдельных навыков работы с текстом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42960"/>
            <a:ext cx="822924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рвое стремительное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увеличени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коро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чтения при достоверном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уменьшении количества ошибок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чтения приходится на момент окончания учащимися второго класса. Это период бурного формирования технической стороны чтения, за которым следует период стабилизации, длящийся до седьмого класса включительно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071720"/>
            <a:ext cx="822924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торой «всплеск» в формировании технической стороны чтения приходится на 8-9 классы и проявляется в очередном увеличении скорости чтения и уменьшении количества ошибок чтения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500040"/>
            <a:ext cx="822924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дальнейшем на протяжении обучения в 10-11 классах скорость чтения вслух не имеет количественных, а правильность - качественных приращений. Таким образом, становление технических характеристик навыка чтения у большинства учащихся приходится на момент окончания ими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восьмого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класс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83400" indent="-2678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рвый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качественный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качок в формировании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мысловой сторон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чтения наблюдается в четвертом классе, что проявляется в  троекратном уменьшении количества неправильных ответов на вопросы по содержанию прочитанного и происходит на фоне стабилизации технических параметров чтения. Следующее статистически достоверное улучшение  показателей смысловой стороны чтения отмечено у учащихся в конце восьмого класс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продуктивная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формационно-познавательная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ммуникативная компетенции чтени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Компетенции чтения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исследовании «Логопедическая работа по формированию функционального базиса чтения у детей 4-5 лет с общим недоразвитием речи» А.В. Лагутина выделяет компоненты функционального базиса чтения, от состояния которых зависит готовность к овладению начальными навыками чтени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75480" indent="-262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выки, сформированность фонематических, морфологических и лексико-грамматических обобщений (речевые компоненты),  звуко-слогового и звуко-буквенного анализа, а также сформировность зрительных функций, обеспечивающих реализацию графической природы чтения (интеллектуально-речевые компоненты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75480" indent="-262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дикатором автоматизации этих навыков является его правильность, способ чтения и понимание прочитанного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Репродуктивные компетенции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378360" indent="-264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еспечивается более глубоким, чем на уровне репродуктивной компетенции, пониманием слов, словосочетаний – метафор, фразеологизмов, каламбуров, наглядных образов (речевой компонент); сформированностью категорий логического мышления – понятий, суждений, умозаключений (интеллектуально-речевой компонент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78360" indent="-264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 их полноценном функционировании свидетельствует возможность ребенка находить и оценивать информацию, содержащуюся в письменном тексте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Информационно-познавательная компетенция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формированность навыков общения посредством письменноречевой коммуникации, умение определять авторский замысел, коммуникативную интенцию автора, выделять «ключевые слова»,  размышлять над содержанием текста (коммуникативный компонент)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Рефлексивная компетенция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 отклоняющийся вариант генезиса чтения, обусловленный несформированностью речевых, когнитивных или коммуникативных процессов, проявляющийся в нарушении становления читательских компетенций – интегральных показателей овладения ребенком средствами чтения и способами оперирования с ними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Дислексия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358200" indent="-250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ловарный запас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-250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мматический строй речи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-250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изношение звуков и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-250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логовая структура сложных слов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-250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онематические процессы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-250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сприятие зрительное и акустическое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-250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амять слухо-речевая и зрительно-предметная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-250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аксис  конструктивный и динамический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200" indent="-250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нимание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Функциональный базис чтения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33984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держание и методы обучения начальным навыкам чтения детей с разной степенью речевой и психологической готовности в системе логопедической работы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84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здана двухкомпонентная модель обследования состояния речевых и неречевых предпосылок к овладению первоначальными навыками чтения дошкольников 5-го года жизни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84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исаны особенности функционального базиса чтения у данной категории детей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84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делены уровни готовности к обучению чтению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84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етоды раннего прогнозирования трудностей овладения чтением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Новизна исследования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казатель «связная речь» коррелирует по убыванию с показателями «лексикон», «грамматический строй речи», «фонематическое восприятие», «слуховой гнозис» и «праксис»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казатель «лексикон» – «слоговая структура слова», «слуховой гнозис»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казатель «фонематическое восприятие» – «слоговая структура слова», «слуховой гнозис», «внимание»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Выявлены корреляционные связи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Дети с общим недоразвитием речи, которые показали высокий уровень сформированности невербальных психических функций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98960" indent="-498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Дети, у которых общее недоразвитие речи сочетается с средним уровнем развития невербальных психических функций, входящих в функциональный базис чтения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98960" indent="-498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Дети, у которых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общее недоразвитие реч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очетается с низким уровнем развития невербальных психических функций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писаны группы детей с ОНР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сокий уровень сформированности зрительного восприятия и зрительно-предметной памяти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сутствие грубых нарушений слухо-речевой памяти;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редний уровень сформированности акустического восприятия, конструктивного и динамического праксиса, внимания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4100" spc="-1" strike="noStrike">
                <a:solidFill>
                  <a:srgbClr val="464646"/>
                </a:solidFill>
                <a:latin typeface="Lucida Sans Unicode"/>
              </a:rPr>
              <a:t>Высокий уровень сформированности невербальных психических функций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695</TotalTime>
  <Application>LibreOffice/7.4.7.2$Linux_X86_64 LibreOffice_project/40$Build-2</Application>
  <AppVersion>15.0000</AppVersion>
  <Words>1852</Words>
  <Paragraphs>1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11-29T08:58:49Z</dcterms:modified>
  <cp:revision>73</cp:revision>
  <dc:subject/>
  <dc:title>Современные исследования в логопедагоги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3</vt:r8>
  </property>
</Properties>
</file>