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C5EA-A35F-4830-84DF-AF8B71AEF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174A-3881-4983-9CF0-CC1786E41A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429-D861-41D0-94E5-2649D2F3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B8E-6CDE-4B0E-956D-5CBDEE2F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FC6-CCB7-425F-9B6A-78E2C9B7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A79-8C07-49C0-9E6E-940DE29A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2C0-8832-43FB-8604-A95E7926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735-C261-4BE2-B106-7D57CE9A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018-AAF4-4D82-B502-77A69DCF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419-C09A-40B1-84AF-3F57477A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991-39A3-44EA-A52B-E1394975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66F-9314-4F27-9068-7033A6BB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EEA-9F9C-4344-A57D-B77B2046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591-AF8E-4C47-8892-9DF47729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1F6D-C561-41B3-8781-B8E4ADA7A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217000" cy="221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37306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реметьева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ие делиться своими чувствами, настроениями с партнером по общ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являть сопереживание, з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вать эмоциональное поведение друг д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02760" indent="-212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бенок проявляет осознанный интерес к общен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212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бенок активен, самостоятелен, общается в полную меру своих речевых возможностей и активно использует их для решения коммуникативных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212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бенок способен оказывать помощь партнеру по общению и прислушиваться к сове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212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бенок критически относится к результатам общения, правильно оценивая вклад каждого участн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212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2760" indent="-212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324000" y="1450800"/>
            <a:ext cx="8399160" cy="4589640"/>
          </a:xfrm>
          <a:prstGeom prst="rect">
            <a:avLst/>
          </a:prstGeom>
          <a:ln w="0">
            <a:noFill/>
          </a:ln>
        </p:spPr>
      </p:pic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ируется и реализует принцип комплексной и ситуативно-тематической организации речев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85647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ку (в рамках коррекции произнош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ку (коррекция аграмматизм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сику (расширение пассивного и активного словар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426960" y="1414440"/>
            <a:ext cx="8309160" cy="466236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10" descr=""/>
          <p:cNvPicPr/>
          <p:nvPr/>
        </p:nvPicPr>
        <p:blipFill>
          <a:blip r:embed="rId1"/>
          <a:stretch/>
        </p:blipFill>
        <p:spPr>
          <a:xfrm>
            <a:off x="450720" y="1133640"/>
            <a:ext cx="8242560" cy="5230800"/>
          </a:xfrm>
          <a:prstGeom prst="rect">
            <a:avLst/>
          </a:prstGeom>
          <a:ln w="0">
            <a:noFill/>
          </a:ln>
        </p:spPr>
      </p:pic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225360" y="-158760"/>
            <a:ext cx="87789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Г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34520" cy="1341360"/>
          </a:xfrm>
          <a:prstGeom prst="rect">
            <a:avLst/>
          </a:prstGeom>
          <a:ln w="0">
            <a:noFill/>
          </a:ln>
        </p:spPr>
      </p:pic>
      <p:sp>
        <p:nvSpPr>
          <p:cNvPr id="84" name="Овал 3"/>
          <p:cNvSpPr/>
          <p:nvPr/>
        </p:nvSpPr>
        <p:spPr>
          <a:xfrm>
            <a:off x="285840" y="1428840"/>
            <a:ext cx="8429400" cy="5429160"/>
          </a:xfrm>
          <a:prstGeom prst="ellipse">
            <a:avLst/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"/>
          <p:cNvSpPr/>
          <p:nvPr/>
        </p:nvSpPr>
        <p:spPr>
          <a:xfrm>
            <a:off x="3143160" y="2214720"/>
            <a:ext cx="2928960" cy="1428480"/>
          </a:xfrm>
          <a:prstGeom prst="ellipse">
            <a:avLst/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СИНТАК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5"/>
          <p:cNvSpPr/>
          <p:nvPr/>
        </p:nvSpPr>
        <p:spPr>
          <a:xfrm>
            <a:off x="714240" y="3286080"/>
            <a:ext cx="3071880" cy="1714680"/>
          </a:xfrm>
          <a:prstGeom prst="ellipse">
            <a:avLst/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6"/>
          <p:cNvSpPr/>
          <p:nvPr/>
        </p:nvSpPr>
        <p:spPr>
          <a:xfrm>
            <a:off x="5286240" y="3286080"/>
            <a:ext cx="3000600" cy="1643040"/>
          </a:xfrm>
          <a:prstGeom prst="ellipse">
            <a:avLst/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СЕМАН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7"/>
          <p:cNvSpPr/>
          <p:nvPr/>
        </p:nvSpPr>
        <p:spPr>
          <a:xfrm>
            <a:off x="3143160" y="4929120"/>
            <a:ext cx="3143520" cy="1557360"/>
          </a:xfrm>
          <a:prstGeom prst="ellipse">
            <a:avLst/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ФО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"/>
          <p:cNvPicPr/>
          <p:nvPr/>
        </p:nvPicPr>
        <p:blipFill>
          <a:blip r:embed="rId1"/>
          <a:stretch/>
        </p:blipFill>
        <p:spPr>
          <a:xfrm>
            <a:off x="324000" y="1457280"/>
            <a:ext cx="8399160" cy="455292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24720" indent="-227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ициируя общение, ребенок должен выбрать реплику-стимул. Вторая реплика диалогического единства – реплика-реакция – произносится другим участником общения и должна сочетаться с репликой-стимулом по смыслу и речевой стилис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720" indent="-227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бенок должен усвоить, что набор диалогических реплик различается в зависимости от того, какие собеседники общаются (возраст, социальный статус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4" descr=""/>
          <p:cNvPicPr/>
          <p:nvPr/>
        </p:nvPicPr>
        <p:blipFill>
          <a:blip r:embed="rId1"/>
          <a:stretch/>
        </p:blipFill>
        <p:spPr>
          <a:xfrm>
            <a:off x="426960" y="1474920"/>
            <a:ext cx="8356680" cy="453528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3" descr=""/>
          <p:cNvPicPr/>
          <p:nvPr/>
        </p:nvPicPr>
        <p:blipFill>
          <a:blip r:embed="rId1"/>
          <a:stretch/>
        </p:blipFill>
        <p:spPr>
          <a:xfrm>
            <a:off x="426960" y="1474920"/>
            <a:ext cx="8296200" cy="4535280"/>
          </a:xfrm>
          <a:prstGeom prst="rect">
            <a:avLst/>
          </a:prstGeom>
          <a:ln w="0">
            <a:noFill/>
          </a:ln>
        </p:spPr>
      </p:pic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225360" y="-158760"/>
            <a:ext cx="84679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наличии речевого недоразвития, следует как можно раньше начинать специальную работу по формированию диалогических единств с партнерами по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имметричном общении возможно и оправдано употребление речевых структур с большей степенью неполноты (стяж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ьная фаза обучения диалогу: специальный раздел – обучение речевому этик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кольку речевой этикет. В отличие от свободно выстраиваемого диалога, характеризуется репродуцированием готовых, устойчивых форм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99160" indent="-209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160" indent="-209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от аспект коммуникативного развития детей очень важен уже в раннем дошкольном возрасте, т.к. позволяет сблизить два процесс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160" indent="-209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ирование речевых средств общения (фонетических, лексико-грамматических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160" indent="-209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здание способов речевого общения в процессе речевой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9160" indent="-209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действующих программах эти две важные линии развития детской речи недостаточно связаны между собой. Что в известной степени объясняет медленный перенос усвоенных речевых навыков в непосредственное общение вне логопедических занят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речевого пове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"/>
          <p:cNvPicPr/>
          <p:nvPr/>
        </p:nvPicPr>
        <p:blipFill>
          <a:blip r:embed="rId1"/>
          <a:stretch/>
        </p:blipFill>
        <p:spPr>
          <a:xfrm>
            <a:off x="317520" y="920880"/>
            <a:ext cx="8577360" cy="5089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подкатегории: смысл, мнение, желание, намерение, предложение, требование, со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ства, необходимые для выражения объективных характеристик ситуации (подкатегории: общая информация, сиюминутная информация, передача факта или чьи-то слов, информация о себе или о третьем лиц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"/>
          <p:cNvPicPr/>
          <p:nvPr/>
        </p:nvPicPr>
        <p:blipFill>
          <a:blip r:embed="rId1"/>
          <a:stretch/>
        </p:blipFill>
        <p:spPr>
          <a:xfrm>
            <a:off x="347760" y="1474920"/>
            <a:ext cx="8388360" cy="4535280"/>
          </a:xfrm>
          <a:prstGeom prst="rect">
            <a:avLst/>
          </a:prstGeom>
          <a:ln w="0">
            <a:noFill/>
          </a:ln>
        </p:spPr>
      </p:pic>
      <p:pic>
        <p:nvPicPr>
          <p:cNvPr id="110" name="Заголовок 2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аго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ы привлечения внимания собесе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етств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90836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4" descr=""/>
          <p:cNvPicPr/>
          <p:nvPr/>
        </p:nvPicPr>
        <p:blipFill>
          <a:blip r:embed="rId2"/>
          <a:stretch/>
        </p:blipFill>
        <p:spPr>
          <a:xfrm>
            <a:off x="1401840" y="1390680"/>
            <a:ext cx="6254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начально появляются предложения, отражающие субъективные на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мере овладения родным языком появляются высказывания, передающие объектив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м обмена объективной информацией необходимо обу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4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е пособия и тексты для детей с нарушениями речи преобладают способы передачи объективной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0280" indent="-24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учитываются особенности коммуникативного процесса между говорящим и слушающим и во много поэтому у детей не формируются в течение длительного времени лингвистические средства для его осущест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больше внимание уделяется формированию компонентов речев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учитываются проблемы функционирования языка как феномена коммун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возрастные нормы диалога с учетом лингвистических, психолингвистических и социальных характерис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7663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изучения устной разговорной речи рекомендуется использовать динамико-контекстуальную методику Татьяны Слама-Каза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ция в реальных ситуациях и в развитии: попеременный обмен репликами, последовательное построение высказывания, модификации, обусловленные изменением ситуации или реакции партнера, т.е. осуществляется динамическое исследование языка через речевую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ифическая грамматическая структура: неполнота, стяжение и др., обилие репродуцирования устойчивых готовых формул, богатый набор эмоционально-экспрессивных средств, сопровождение определенными жестами, мимикой (невербальные средства коммуник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528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невербальных средств коммуникации, сопровождающих диал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ение жестов двух типов: замещающие речь и сопровождающие 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чевое общение является и деятельностью и взаимодействием (интеракци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уляция коммуникативной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 способен планировать и порождать высказывания, адекватные данной системе языковых норм и данной ситу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ен понимать смысл высказываний партнеров, продолжать их адекватным способом и оценивать высказывания и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ния об основных признаках речевого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ния о типах коммуникативных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ния о типах секвенций (последовательностей) коммуникативных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ния о принципах связи и введения одних секвенций в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58964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ота близких людей о младенце, приписывание осмысленных функций его не направленным поведенческим актам и звуковым комплексам означает, что они учат ребенка совершать в определенных условиях определенные действия, направляемые на партнеров – это важная предпосылка для овладения типами коммуникативных действий в младенч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аннем возрасте ребенок способен реализовывать целый ряд типов коммуникативных действий и соответствующих форм речевых высказываний. Начинается усвоение более сложных типов коммуникации – «рассказывание» или «совместное планиров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3 до 6 лет – переход к объединенным и кооперативным формам игры – развивается совместн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лжна учитывать возможности когнитивного развития посредством совершенствования различных аспектов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6994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ий уровень умственного развития ребенка, овладение доступными возрасту знаниями об окружающем мире, сознательность поведения и др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епень социальной и коммуникативной активности в детском саду и сем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48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вень подготовки к школьному обу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8092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6" descr=""/>
          <p:cNvPicPr/>
          <p:nvPr/>
        </p:nvPicPr>
        <p:blipFill>
          <a:blip r:embed="rId1"/>
          <a:stretch/>
        </p:blipFill>
        <p:spPr>
          <a:xfrm>
            <a:off x="426960" y="1450800"/>
            <a:ext cx="8296200" cy="4589640"/>
          </a:xfrm>
          <a:prstGeom prst="rect">
            <a:avLst/>
          </a:prstGeom>
          <a:ln w="0">
            <a:noFill/>
          </a:ln>
        </p:spPr>
      </p:pic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54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426960" y="281160"/>
            <a:ext cx="8296200" cy="5729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3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76377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упать в процесс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иентироваться в партн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иентироваться в ситуациях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тносить средства вербального  и невербального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овывать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овывать м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овывать установки с потребностями своих партнеров по общ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ять индивидуальные способы при решении совмест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вать результат совместного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4:19:12Z</dcterms:created>
  <dc:creator>Sorokina</dc:creator>
  <dc:description/>
  <dc:language>en-US</dc:language>
  <cp:lastModifiedBy>Libreader</cp:lastModifiedBy>
  <dcterms:modified xsi:type="dcterms:W3CDTF">2009-11-30T05:58:10Z</dcterms:modified>
  <cp:revision>2</cp:revision>
  <dc:subject/>
  <dc:title>Слайд 1</dc:title>
</cp:coreProperties>
</file>