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99B-2BCA-4027-BBBF-1503DD59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443-491B-4D50-BAF1-BC5FC23D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327-243A-421C-8F6F-FCF79B75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660-E0FB-412D-8A7C-5564FB86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E066-5DFE-4D10-9E9C-50B3BF67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4FB-C360-4238-9F2D-0C9A478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179-A263-454C-A568-753204B0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4CB9-6F48-4882-B0D0-35ACB1C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C60-9678-4565-927D-C78511CA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EF7C-E028-4EC6-AEBF-C28359E8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71AD-6846-4B9C-81CB-7EB8B62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3D4-A4A6-48A0-A84C-2E7905ED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CD74-6F8A-4439-B9CC-5D64A16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DFCC-36BA-4D7C-9E37-F4BD76B3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22A-7E37-409F-86BC-33826D4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BD30-4696-4FCF-BF34-2375BACF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DDE-B2F4-425E-8E58-1CDE91E0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0E3-F99B-44DA-8072-7888DD1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EF0-9589-4C27-8DFD-53128D11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5E7-4A02-42AB-95D5-A24BAA9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AB1-CEE0-484F-A10A-17B6EEBB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4A6-C764-46C2-8358-1875E8C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14C-55F1-46D7-A319-0BA76695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05F-878B-4A59-99DD-5BFA277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A6C-083D-4237-8FCB-E4F07E1DBE3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BBDE-73BF-4F5E-8656-26AFD1553D2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временное понимание общего недоразвития реч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м более интенсивный и разнообразный поток информации поступает в мозг ребенка, тем быстрее происходит функциональное и анатомическое созревание центральной нерв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днак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нсивность поступающей информации должна соотносится с возрастом, физическим и психическим состоянием ребенка, ибо всякая перегрузка отрицательно влияет на состояние центральной нерв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иологические механизмы ре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вместная работа анализаторных систем: двигательно-кинестетической, кинестетической, акустической, пространственной, зритель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нимание сло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устическая информация =&gt; слуховой путь =&gt; первичная слуховая кора =&gt; зона Вернике (выделение смысла) =&gt; третичные поля (операции абстракции и формирование системы отношений между лингвистическими единицами внутри фраз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изнесение сло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нция (замысел) =&gt; лобные доли (представление о слове) =&gt; зона Вернике  =&gt;  дугообразный пучок волокон  =&gt;  зона Брока (возникновение детальной программы артикуляции) =&gt; активация моторной коры (управление речевой мускулатурой) =&gt; нижнетеменная (постцентральная) зона (контроль точности исполнения артикуляций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ункции речи в психическом развитии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чь как способ деятельности общения определяет все психическое развитие реб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Diagram 4"/>
          <p:cNvGrpSpPr/>
          <p:nvPr/>
        </p:nvGrpSpPr>
        <p:grpSpPr>
          <a:xfrm>
            <a:off x="5145120" y="2416320"/>
            <a:ext cx="3809880" cy="3716280"/>
            <a:chOff x="5145120" y="2416320"/>
            <a:chExt cx="3809880" cy="3716280"/>
          </a:xfrm>
        </p:grpSpPr>
        <p:sp>
          <p:nvSpPr>
            <p:cNvPr id="130" name="_s1028"/>
            <p:cNvSpPr/>
            <p:nvPr/>
          </p:nvSpPr>
          <p:spPr>
            <a:xfrm flipV="1">
              <a:off x="6732720" y="2415960"/>
              <a:ext cx="634320" cy="538200"/>
            </a:xfrm>
            <a:custGeom>
              <a:avLst/>
              <a:gdLst>
                <a:gd name="textAreaLeft" fmla="*/ 227520 w 634320"/>
                <a:gd name="textAreaRight" fmla="*/ 406800 w 634320"/>
                <a:gd name="textAreaTop" fmla="*/ 192960 h 538200"/>
                <a:gd name="textAreaBottom" fmla="*/ 34524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1029"/>
            <p:cNvSpPr/>
            <p:nvPr/>
          </p:nvSpPr>
          <p:spPr>
            <a:xfrm flipV="1">
              <a:off x="6415200" y="2954520"/>
              <a:ext cx="1269360" cy="538200"/>
            </a:xfrm>
            <a:custGeom>
              <a:avLst/>
              <a:gdLst>
                <a:gd name="textAreaLeft" fmla="*/ 279000 w 1269360"/>
                <a:gd name="textAreaRight" fmla="*/ 990360 w 1269360"/>
                <a:gd name="textAreaTop" fmla="*/ 118080 h 538200"/>
                <a:gd name="textAreaBottom" fmla="*/ 42012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ahoma"/>
                </a:rPr>
                <a:t>Когнитивная функц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_s1030"/>
            <p:cNvSpPr/>
            <p:nvPr/>
          </p:nvSpPr>
          <p:spPr>
            <a:xfrm flipV="1">
              <a:off x="6097680" y="3492720"/>
              <a:ext cx="1904400" cy="538200"/>
            </a:xfrm>
            <a:custGeom>
              <a:avLst/>
              <a:gdLst>
                <a:gd name="textAreaLeft" fmla="*/ 330480 w 1904400"/>
                <a:gd name="textAreaRight" fmla="*/ 1573920 w 1904400"/>
                <a:gd name="textAreaTop" fmla="*/ 93240 h 538200"/>
                <a:gd name="textAreaBottom" fmla="*/ 44496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Регулирующая функция реч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1031"/>
            <p:cNvSpPr/>
            <p:nvPr/>
          </p:nvSpPr>
          <p:spPr>
            <a:xfrm flipV="1">
              <a:off x="5780160" y="4031280"/>
              <a:ext cx="2539440" cy="538200"/>
            </a:xfrm>
            <a:custGeom>
              <a:avLst/>
              <a:gdLst>
                <a:gd name="textAreaLeft" fmla="*/ 381960 w 2539440"/>
                <a:gd name="textAreaRight" fmla="*/ 2157480 w 2539440"/>
                <a:gd name="textAreaTop" fmla="*/ 81000 h 538200"/>
                <a:gd name="textAreaBottom" fmla="*/ 45720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Функция обобщ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 flipV="1">
              <a:off x="5462640" y="4569480"/>
              <a:ext cx="3174840" cy="537480"/>
            </a:xfrm>
            <a:custGeom>
              <a:avLst/>
              <a:gdLst>
                <a:gd name="textAreaLeft" fmla="*/ 433440 w 3174840"/>
                <a:gd name="textAreaRight" fmla="*/ 2741400 w 3174840"/>
                <a:gd name="textAreaTop" fmla="*/ 73440 h 537480"/>
                <a:gd name="textAreaBottom" fmla="*/ 464040 h 53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Номинативная функция реч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1033"/>
            <p:cNvSpPr/>
            <p:nvPr/>
          </p:nvSpPr>
          <p:spPr>
            <a:xfrm flipV="1">
              <a:off x="5145120" y="5107320"/>
              <a:ext cx="3809880" cy="538200"/>
            </a:xfrm>
            <a:custGeom>
              <a:avLst/>
              <a:gdLst>
                <a:gd name="textAreaLeft" fmla="*/ 484920 w 3809880"/>
                <a:gd name="textAreaRight" fmla="*/ 3324960 w 3809880"/>
                <a:gd name="textAreaTop" fmla="*/ 68400 h 538200"/>
                <a:gd name="textAreaBottom" fmla="*/ 469800 h 5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ммуникативная функция реч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7580520" y="3093840"/>
              <a:ext cx="0" cy="30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545880" y="2981880"/>
              <a:ext cx="360" cy="31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421000"/>
            <a:ext cx="779292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ее недоразвитие речи обычно является следствием резидуально-органического поражения мозг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сновные виды нарушений при резидуально-органическом поражении мозг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зонтогенетические – как следствие недоразвития определенных структур и физиологических систем или отставание сроков их форм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нцефалопатические – как следствие повреждения тех или иных структур центральной нервной системы (дизартрия, гидроцефалия и т.п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чины общего недоразвития реч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натальное поражение ЦН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енетические факто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благоприятные условия окружения и вос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казатель функционального состояния полушар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дуктивность воспроизведения полученной информа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Р- различные сложные речевые расстройства, при которых нарушается формирование всех компонентов речевой системы, относящихся к ее звуковой и смысловой стороне, при нормальном слухе и интеллек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рушения речевого разви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мечается двустороннее снижение продуктивности воспроизведения стимул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НР            Локальные         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раж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Высокая степень снижения функциональных возможностей обоих полушарий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тепень снижения функциональных возможностей правого полушария в 2 раза выше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Снижение функциональных возможностей пораженного полушария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процессы реализуются при относительно сохранных функциональных возможностях сохранного полушария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снижении функциональных возможностей обоих полушарий специфика левополушарной доминантности при ОНР определяется более значительным снижением функциональных возможностей неведущего по речи — правого  полушар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е полушарие, когда оно становится ведущим по речи вследствие дисфункции левого, не в состоянии обеспечить такого же протекания речевых процессов, как при сохранности ведущего по речи левого полушар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сложные формы деятельности — включая интеллектуальную — осуществляются только при совместной работе полушарий. Связи между полушариями постепенно созревают в процессе индивидуального развит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жност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полиморфизм этиологических факторов, вызывающих общее недоразвитие реч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иболее часто имеет место сочетание наследственной предрасположенности, неблагоприятного окружения и повреждения или нарушений созревания мозга под влиянием различных неблагоприятных факторов, действующих во внутриутробном периоде, в момент родов или в первые годы жизни реб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клинической точки зрения наибольшее значение имеет группа общего недоразвития речи, связанная с ранним органическим поражением центральной нерв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инические виды общего недоразвития реч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сложненный вариант ОН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ложненный вариант ОНР церебрально-органического генеза, при котором имеет место дизонтогенетически-энцефалопатический симптомокомплекс наруш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ойкое специфическое речевое недоразвит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явления системных нарушений речевой деятель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зднее начало речи (первые слова появляются к 3-4 года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чь аграмматич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статочно фонетически оформл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тавание экспрессивной речи при относительно благополучном, на первый взгляд, понимании обращенной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статочная речевая активность, которая без специального обучения резко пада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гнитивные нарушения при ОН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статочная устойчивость внимания, ограниченные возможности его распреде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нижение вербальной памяти (при относительно сохранной смысловой и логической памя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дает продуктивность запоминания (забывают сложные инструкции, элементы и последовательность задан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.Е. Лев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360" y="2017440"/>
            <a:ext cx="38782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26 г. переезд из Самары в Москв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27 г. поступление во Второй М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33 г. возглавляет «Клинику речи» при ЭД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36 г. Издает монографию «К психологии детской речи в патологических случаях (автономная детская речь)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33-1948 заведует Клиникой речи при НИИД АП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42-1943 работает в Уфе в военном госпитал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44 – возглавляет сектор логопед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968 – основы теории и практики логопед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7" descr="Левина Р"/>
          <p:cNvPicPr/>
          <p:nvPr/>
        </p:nvPicPr>
        <p:blipFill>
          <a:blip r:embed="rId1"/>
          <a:stretch/>
        </p:blipFill>
        <p:spPr>
          <a:xfrm>
            <a:off x="755640" y="1989000"/>
            <a:ext cx="4032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обенности мыш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 полноценные предпосылки для овладения мыслительными операци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стают в развитии словесно-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специального обучения возникают сложности в овладении анализом и синтезом, сравнением и обобщени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обенности двигательной сфе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охая координ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уверенность в выполнении дозированных движ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нижение скорости и ловкости выполнения двигательного а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ьшие сложности при выполнении заданий по словесной инструк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ожности в воспроизведении двигательного задания по пространственно-временным характеристикам (нарушение последовательности элементов действия, опускание его составных час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рушаются ритмические движения под музы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достаточная координация пальцев, кисти руки, недоразвитие мелкой мотор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иодизация ОН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уровень характеризуется определенным соотношением первичного дефекта и вторичных проявлений, задерживающих формирование зависящих от него компон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Переход с одного уровня на другой определяе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Появлением новых языковых возможнос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Повышением речевой актив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Изменением мотивационной основы ре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Изменением предметно-смыслового содержания ре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Мобилизацией компенсаторного ф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889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ый словарь в зачаточном состоянии. Он состоит из звукоподражаний, лепетных слов и небольшого количества общеупотребительных слов. Значения слов неустойчивы и недифференцирован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ссивный словарь шире активного, однако понимание речи вне ситуации весьма ограниченно. Фразовая речь отсутству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ность воспроизводить звуковую и слоговую структуру слова еще не сформирова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28" descr=""/>
          <p:cNvPicPr/>
          <p:nvPr/>
        </p:nvPicPr>
        <p:blipFill>
          <a:blip r:embed="rId1"/>
          <a:stretch/>
        </p:blipFill>
        <p:spPr>
          <a:xfrm>
            <a:off x="6948360" y="5373720"/>
            <a:ext cx="2195640" cy="1484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ервый уровень речевого недоразви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торой уровень речевого недоразви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Активный словарь расширяется за счет использования существительных, глаголов, некоторых прилагательных и нареч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пользование отдельных форм словоизменения: по родам, числам и падежам; глаголы по временам – чаще всего неудач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явление фразовой реч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лучшается понимание речи, расширяется пассивный и активный словарь, возникает понимание некоторых простых грамматических фор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изношение звуков и слов нарушено резко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еподготовленность детей к овладению звуковым анализом и синтез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Третий уровень речевого недоразвития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86677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точное знание и употребление многих обиходных слов. В активном словаре детей преобладают существительные и глаголы. Мало слов, характеризующих качества, признаки, состояния предметов и действий, способы действ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достаточная сформированность грамматических форм языка. Способами словообразования дети почти не пользуют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активной речи используются преимущественно простые предлож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едостатки произношения звуков и нарушения структуры сло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нимание обиходной речи хорошее, но обнаруживается незнание отдельных слов и выражений, смещение смысловых значений слов, близких по звуча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ый уровень характеризуется определенным соотношением первичного дефекта и вторичных проявлений, задерживающих формирование зависящих от него компон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Переход с одного уровня на другой определяе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Появлением новых языковых возможнос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Повышением речевой актив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Изменением мотивационной основы ре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Изменением предметно-смыслового содержания ре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000b"/>
                </a:solidFill>
                <a:latin typeface="Tahoma"/>
              </a:rPr>
              <a:t>Мобилизацией компенсаторного фо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820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Четвертый уровень речевого недоразвит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ти с не резко выраженными остаточными проявлениями лексико – грамматического и фонетико – фонематического недоразви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значительные нарушения всех компонентов языка выявляются в процессе детального обследования при выполнении специально подобранных зад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жный дифференциальный показат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дельные нарушения слоговой структуры слов и звуконаполняемости: элизии, парафазии, персеверации и реже добавление слогов и зву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азанность речи в ее потоке: недостаточная внятность, выразительность, вялая артикуляция, нечеткая ди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остаточный уровень дифференцированного восприятия фон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клад Р.Е. Левиной в развитии логопед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смотрела задачи и методологию логопед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ла программу психолого-педагогической коррекции детей с отклонениями речевого развит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вое направление в логопедии – коррекция нарушений письменной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блематике заикания разработала психолого-педагогический подход в коррек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ла научную школу отечественной логопедии (подготовила 30 аспиран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рушения смысловой стороны ре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сутствие слов, обозначающие некоторых животных и птиц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ингвин, страу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растений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ктус, вью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людей разных профессий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фотограф, телефонистка, библиотекар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частей тела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дбородок, веки, ступн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шение родовых и видовых понятий (ворона, гусь –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тич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еревья –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елоч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лес –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ере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ксические ошиб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мена слов, близких по ситуации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ядя красит щеткой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кистью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забо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ошка катает мяч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клубок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ешение признаков (высокий забор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инны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смелый мальчик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ыстры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дедушка старый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зрослы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тойкие ошибки в употребл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82600" y="1642680"/>
            <a:ext cx="7772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ньшительно-ласкательных существительных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альтов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альтишко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латенк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латьице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меньчи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ремешо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ществительных с суффиксами единичности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орошка, гороховк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горошинка;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уховка, пушк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пушинка ;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изюм, изюмк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изюми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лагательных, образованных от существительных с различными значениями соотнесенности (пухной – пуховый; сосный – сосно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тяжательных прилагательных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олки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волчий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лисов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лиси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удности в словообразова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ниголюб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ниж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окол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егопад, леготник, далек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человод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челы, пчельник, пчелов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левар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таль, стол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ражение антонимических отнош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г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ождение, бежать, ходить, не бе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адность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е жадность, вежлив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жливость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злой, доброта, не вежлив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имание и употребление слов, фраз, пословиц с переносным значение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румяный как яблоко» –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ного съел ябл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толкнулись нос к носу» –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дарились носа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горячее сердце» –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жечься мож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не плюй в колодец» –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игодится воды напиться – плевать нехорошо, пить нечего буде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готовь сани летом» – «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летом забрали санки с балкон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грамматизм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употреблении существительных Р.п. и В.п. множественного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 зоопарке кормили белков, лисов, собак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использовании предлогов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ыглянул и двер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из-за;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пал из стол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с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гласовании прилагательных с существительными, когда в одном предложении находятся существительные мужского и женского рода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я раскрашиваю шарик красным фломастером и красным ручко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онструкции предложений с разными придаточны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уски союзов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ма предупредила, я не ходил далек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«чтобы не ходил далеко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мена союзов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я побежал, куда сидел щено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«где сидел щенок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версия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конец, все увидели долго искали которого котен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«увидели котенка, которого долго искали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еобразие связной ре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ушения логической последовательности, «застревание» на второстепенных деталях, пропуски главных событий, повтор отдельных эпизод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казы из опыта состоят в основном из простых малоинформативных предлож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удности планирования своих высказываний и в отборе соответствующих языковы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ильное понимание структуры ОНР необходим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отбора детей в специальные учреж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выбора наиболее эффективных приемов корр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предупреждения возможных осложнений в школьном обучен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е «общее недоразвитие речи» основывается на прогрессивной точке зрения о возможности единого педагогического подхода к разнородным по своей этиологии проявлениям недоразвития речи у детей, исходя из конкретного состояния языкового развития ребе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циальный характер возникновения и развития реч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чь является важнейшей социальной функцией, поэтому она возникает только при условии общения ребенка со взросл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редства общ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рессивно-мим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метно-действен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чев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вербальный этап в развитии ре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уществление общения при помощи экспрессивно-мимических и предметно-действенных средст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6:47:45Z</dcterms:created>
  <dc:creator>Панина Анна</dc:creator>
  <dc:description/>
  <dc:language>en-US</dc:language>
  <cp:lastModifiedBy>Собко</cp:lastModifiedBy>
  <dcterms:modified xsi:type="dcterms:W3CDTF">2009-12-03T11:29:42Z</dcterms:modified>
  <cp:revision>46</cp:revision>
  <dc:subject/>
  <dc:title>Слайд 1</dc:title>
</cp:coreProperties>
</file>