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layout12.xml" ContentType="application/vnd.openxmlformats-officedocument.drawingml.diagramLayout+xml"/>
  <Override PartName="/ppt/diagrams/data12.xml" ContentType="application/vnd.openxmlformats-officedocument.drawingml.diagramData+xml"/>
  <Override PartName="/ppt/diagrams/quickStyle11.xml" ContentType="application/vnd.openxmlformats-officedocument.drawingml.diagramStyle+xml"/>
  <Override PartName="/ppt/diagrams/colors3.xml" ContentType="application/vnd.openxmlformats-officedocument.drawingml.diagramColors+xml"/>
  <Override PartName="/ppt/diagrams/layout11.xml" ContentType="application/vnd.openxmlformats-officedocument.drawingml.diagramLayout+xml"/>
  <Override PartName="/ppt/diagrams/data11.xml" ContentType="application/vnd.openxmlformats-officedocument.drawingml.diagramData+xml"/>
  <Override PartName="/ppt/diagrams/drawing14.xml" ContentType="application/vnd.ms-office.drawingml.diagramDrawing+xml"/>
  <Override PartName="/ppt/diagrams/quickStyle10.xml" ContentType="application/vnd.openxmlformats-officedocument.drawingml.diagramStyle+xml"/>
  <Override PartName="/ppt/diagrams/colors2.xml" ContentType="application/vnd.openxmlformats-officedocument.drawingml.diagramColors+xml"/>
  <Override PartName="/ppt/diagrams/layout10.xml" ContentType="application/vnd.openxmlformats-officedocument.drawingml.diagramLayout+xml"/>
  <Override PartName="/ppt/diagrams/layout1.xml" ContentType="application/vnd.openxmlformats-officedocument.drawingml.diagramLayout+xml"/>
  <Override PartName="/ppt/diagrams/data9.xml" ContentType="application/vnd.openxmlformats-officedocument.drawingml.diagramData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drawing2.xml" ContentType="application/vnd.ms-office.drawingml.diagramDrawing+xml"/>
  <Override PartName="/ppt/diagrams/data4.xml" ContentType="application/vnd.openxmlformats-officedocument.drawingml.diagramData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colors10.xml" ContentType="application/vnd.openxmlformats-officedocument.drawingml.diagramColors+xml"/>
  <Override PartName="/ppt/diagrams/quickStyle5.xml" ContentType="application/vnd.openxmlformats-officedocument.drawingml.diagramStyle+xml"/>
  <Override PartName="/ppt/diagrams/data5.xml" ContentType="application/vnd.openxmlformats-officedocument.drawingml.diagramData+xml"/>
  <Override PartName="/ppt/diagrams/layout5.xml" ContentType="application/vnd.openxmlformats-officedocument.drawingml.diagramLayout+xml"/>
  <Override PartName="/ppt/diagrams/drawing4.xml" ContentType="application/vnd.ms-office.drawingml.diagramDrawing+xml"/>
  <Override PartName="/ppt/diagrams/layout6.xml" ContentType="application/vnd.openxmlformats-officedocument.drawingml.diagramLayout+xml"/>
  <Override PartName="/ppt/diagrams/drawing5.xml" ContentType="application/vnd.ms-office.drawingml.diagramDrawing+xml"/>
  <Override PartName="/ppt/diagrams/drawing10.xml" ContentType="application/vnd.ms-office.drawingml.diagramDrawing+xml"/>
  <Override PartName="/ppt/diagrams/quickStyle6.xml" ContentType="application/vnd.openxmlformats-officedocument.drawingml.diagramStyle+xml"/>
  <Override PartName="/ppt/diagrams/colors11.xml" ContentType="application/vnd.openxmlformats-officedocument.drawingml.diagramColors+xml"/>
  <Override PartName="/ppt/diagrams/layout14.xml" ContentType="application/vnd.openxmlformats-officedocument.drawingml.diagramLayout+xml"/>
  <Override PartName="/ppt/diagrams/colors13.xml" ContentType="application/vnd.openxmlformats-officedocument.drawingml.diagramColors+xml"/>
  <Override PartName="/ppt/diagrams/quickStyle8.xml" ContentType="application/vnd.openxmlformats-officedocument.drawingml.diagramStyle+xml"/>
  <Override PartName="/ppt/diagrams/quickStyle4.xml" ContentType="application/vnd.openxmlformats-officedocument.drawingml.diagramStyle+xml"/>
  <Override PartName="/ppt/diagrams/colors5.xml" ContentType="application/vnd.openxmlformats-officedocument.drawingml.diagramColors+xml"/>
  <Override PartName="/ppt/diagrams/quickStyle13.xml" ContentType="application/vnd.openxmlformats-officedocument.drawingml.diagramStyle+xml"/>
  <Override PartName="/ppt/diagrams/data14.xml" ContentType="application/vnd.openxmlformats-officedocument.drawingml.diagramData+xml"/>
  <Override PartName="/ppt/diagrams/quickStyle2.xml" ContentType="application/vnd.openxmlformats-officedocument.drawingml.diagramStyle+xml"/>
  <Override PartName="/ppt/diagrams/data13.xml" ContentType="application/vnd.openxmlformats-officedocument.drawingml.diagramData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quickStyle12.xml" ContentType="application/vnd.openxmlformats-officedocument.drawingml.diagramStyle+xml"/>
  <Override PartName="/ppt/diagrams/layout13.xml" ContentType="application/vnd.openxmlformats-officedocument.drawingml.diagramLayout+xml"/>
  <Override PartName="/ppt/diagrams/colors6.xml" ContentType="application/vnd.openxmlformats-officedocument.drawingml.diagramColors+xml"/>
  <Override PartName="/ppt/diagrams/quickStyle1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14.xml" ContentType="application/vnd.openxmlformats-officedocument.drawingml.diagramColors+xml"/>
  <Override PartName="/ppt/diagrams/quickStyle9.xml" ContentType="application/vnd.openxmlformats-officedocument.drawingml.diagramStyle+xml"/>
  <Override PartName="/ppt/diagrams/data6.xml" ContentType="application/vnd.openxmlformats-officedocument.drawingml.diagramData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data3.xml" ContentType="application/vnd.openxmlformats-officedocument.drawingml.diagramData+xml"/>
  <Override PartName="/ppt/diagrams/drawing6.xml" ContentType="application/vnd.ms-office.drawingml.diagramDrawing+xml"/>
  <Override PartName="/ppt/diagrams/colors7.xml" ContentType="application/vnd.openxmlformats-officedocument.drawingml.diagramColors+xml"/>
  <Override PartName="/ppt/diagrams/drawing11.xml" ContentType="application/vnd.ms-office.drawingml.diagramDrawing+xml"/>
  <Override PartName="/ppt/diagrams/data7.xml" ContentType="application/vnd.openxmlformats-officedocument.drawingml.diagramData+xml"/>
  <Override PartName="/ppt/diagrams/layout7.xml" ContentType="application/vnd.openxmlformats-officedocument.drawingml.diagramLayout+xml"/>
  <Override PartName="/ppt/diagrams/quickStyle7.xml" ContentType="application/vnd.openxmlformats-officedocument.drawingml.diagramStyle+xml"/>
  <Override PartName="/ppt/diagrams/colors12.xml" ContentType="application/vnd.openxmlformats-officedocument.drawingml.diagramColors+xml"/>
  <Override PartName="/ppt/diagrams/data8.xml" ContentType="application/vnd.openxmlformats-officedocument.drawingml.diagramData+xml"/>
  <Override PartName="/ppt/diagrams/layout8.xml" ContentType="application/vnd.openxmlformats-officedocument.drawingml.diagramLayout+xml"/>
  <Override PartName="/ppt/diagrams/colors8.xml" ContentType="application/vnd.openxmlformats-officedocument.drawingml.diagramColors+xml"/>
  <Override PartName="/ppt/diagrams/drawing12.xml" ContentType="application/vnd.ms-office.drawingml.diagramDrawing+xml"/>
  <Override PartName="/ppt/diagrams/drawing8.xml" ContentType="application/vnd.ms-office.drawingml.diagramDrawing+xml"/>
  <Override PartName="/ppt/diagrams/colors9.xml" ContentType="application/vnd.openxmlformats-officedocument.drawingml.diagramColors+xml"/>
  <Override PartName="/ppt/diagrams/layout9.xml" ContentType="application/vnd.openxmlformats-officedocument.drawingml.diagramLayout+xml"/>
  <Override PartName="/ppt/diagrams/drawing9.xml" ContentType="application/vnd.ms-office.drawingml.diagramDrawing+xml"/>
  <Override PartName="/ppt/diagrams/drawing13.xml" ContentType="application/vnd.ms-office.drawingml.diagramDrawing+xml"/>
  <Override PartName="/ppt/diagrams/data10.xml" ContentType="application/vnd.openxmlformats-officedocument.drawingml.diagramData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0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C5F7721-88A5-4071-8CD4-85BB9DE2EB1B}" type="doc">
      <dgm:prSet loTypeId="urn:microsoft.com/office/officeart/2005/8/layout/hList9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1FF5FB6B-B480-4435-B02B-BCFD6EE7B5AF}">
      <dgm:prSet phldrT="[Текст]" custT="1"/>
      <dgm:spPr/>
      <dgm:t>
        <a:bodyPr/>
        <a:lstStyle/>
        <a:p>
          <a:r>
            <a:rPr lang="ru-RU" sz="2000" dirty="0" err="1" smtClean="0"/>
            <a:t>Этиопатогенез</a:t>
          </a:r>
          <a:endParaRPr lang="ru-RU" sz="2000" dirty="0"/>
        </a:p>
      </dgm:t>
    </dgm:pt>
    <dgm:pt modelId="{76287BD4-BF90-4179-BC2A-C7372BE26F42}" type="parTrans" cxnId="{9F82D3A8-38D9-412F-9B53-C4B7EF833F3F}">
      <dgm:prSet/>
      <dgm:spPr/>
      <dgm:t>
        <a:bodyPr/>
        <a:lstStyle/>
        <a:p>
          <a:endParaRPr lang="ru-RU"/>
        </a:p>
      </dgm:t>
    </dgm:pt>
    <dgm:pt modelId="{18511BB9-7C89-479A-8465-142687A941C4}" type="sibTrans" cxnId="{9F82D3A8-38D9-412F-9B53-C4B7EF833F3F}">
      <dgm:prSet/>
      <dgm:spPr/>
      <dgm:t>
        <a:bodyPr/>
        <a:lstStyle/>
        <a:p>
          <a:endParaRPr lang="ru-RU"/>
        </a:p>
      </dgm:t>
    </dgm:pt>
    <dgm:pt modelId="{8C6389B6-7D95-46E8-BA58-346E7A327199}">
      <dgm:prSet phldrT="[Текст]"/>
      <dgm:spPr/>
      <dgm:t>
        <a:bodyPr/>
        <a:lstStyle/>
        <a:p>
          <a:r>
            <a:rPr lang="ru-RU" dirty="0" smtClean="0"/>
            <a:t>Клинико-педагогическая классификация</a:t>
          </a:r>
          <a:endParaRPr lang="ru-RU" dirty="0"/>
        </a:p>
      </dgm:t>
    </dgm:pt>
    <dgm:pt modelId="{E7530C10-493C-412E-99F8-F4F38FCAC3A0}" type="parTrans" cxnId="{68209318-02BB-495C-A367-DC0D9966FDF4}">
      <dgm:prSet/>
      <dgm:spPr/>
      <dgm:t>
        <a:bodyPr/>
        <a:lstStyle/>
        <a:p>
          <a:endParaRPr lang="ru-RU"/>
        </a:p>
      </dgm:t>
    </dgm:pt>
    <dgm:pt modelId="{816497A7-C2D1-4238-8B55-74049FAB4C43}" type="sibTrans" cxnId="{68209318-02BB-495C-A367-DC0D9966FDF4}">
      <dgm:prSet/>
      <dgm:spPr/>
      <dgm:t>
        <a:bodyPr/>
        <a:lstStyle/>
        <a:p>
          <a:endParaRPr lang="ru-RU"/>
        </a:p>
      </dgm:t>
    </dgm:pt>
    <dgm:pt modelId="{DD34D91C-9D83-4C16-B99A-8E783A68D43F}">
      <dgm:prSet phldrT="[Текст]"/>
      <dgm:spPr/>
      <dgm:t>
        <a:bodyPr/>
        <a:lstStyle/>
        <a:p>
          <a:r>
            <a:rPr lang="ru-RU" dirty="0" smtClean="0"/>
            <a:t>Системность речи</a:t>
          </a:r>
          <a:endParaRPr lang="ru-RU" dirty="0"/>
        </a:p>
      </dgm:t>
    </dgm:pt>
    <dgm:pt modelId="{1F317270-9238-4F9A-BF55-2203594B8F47}" type="parTrans" cxnId="{A36046B1-3677-47C3-BEDD-8E6A1283377A}">
      <dgm:prSet/>
      <dgm:spPr/>
      <dgm:t>
        <a:bodyPr/>
        <a:lstStyle/>
        <a:p>
          <a:endParaRPr lang="ru-RU"/>
        </a:p>
      </dgm:t>
    </dgm:pt>
    <dgm:pt modelId="{3F6F8CFD-F802-439B-AF1C-BA6EF7632D56}" type="sibTrans" cxnId="{A36046B1-3677-47C3-BEDD-8E6A1283377A}">
      <dgm:prSet/>
      <dgm:spPr/>
      <dgm:t>
        <a:bodyPr/>
        <a:lstStyle/>
        <a:p>
          <a:endParaRPr lang="ru-RU"/>
        </a:p>
      </dgm:t>
    </dgm:pt>
    <dgm:pt modelId="{C30FB119-9D71-4683-8693-10F70CDC1058}">
      <dgm:prSet phldrT="[Текст]"/>
      <dgm:spPr/>
      <dgm:t>
        <a:bodyPr/>
        <a:lstStyle/>
        <a:p>
          <a:r>
            <a:rPr lang="ru-RU" dirty="0" smtClean="0"/>
            <a:t>Психолого-педагогическая классификация</a:t>
          </a:r>
          <a:endParaRPr lang="ru-RU" dirty="0"/>
        </a:p>
      </dgm:t>
    </dgm:pt>
    <dgm:pt modelId="{AAE48F9C-473F-4278-80EC-84BB0C0031B0}" type="parTrans" cxnId="{F93A495B-75D1-47FB-887A-B81BD279801D}">
      <dgm:prSet/>
      <dgm:spPr/>
      <dgm:t>
        <a:bodyPr/>
        <a:lstStyle/>
        <a:p>
          <a:endParaRPr lang="ru-RU"/>
        </a:p>
      </dgm:t>
    </dgm:pt>
    <dgm:pt modelId="{5DA0B9A9-6ADF-45D4-BC91-A367BEE041D4}" type="sibTrans" cxnId="{F93A495B-75D1-47FB-887A-B81BD279801D}">
      <dgm:prSet/>
      <dgm:spPr/>
      <dgm:t>
        <a:bodyPr/>
        <a:lstStyle/>
        <a:p>
          <a:endParaRPr lang="ru-RU"/>
        </a:p>
      </dgm:t>
    </dgm:pt>
    <dgm:pt modelId="{FB55AB34-8AB9-4939-B2CA-B119D827ABE1}" type="pres">
      <dgm:prSet presAssocID="{3C5F7721-88A5-4071-8CD4-85BB9DE2EB1B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FCC2B5CC-E1B2-413B-9A14-242AD83F9EBF}" type="pres">
      <dgm:prSet presAssocID="{1FF5FB6B-B480-4435-B02B-BCFD6EE7B5AF}" presName="posSpace" presStyleCnt="0"/>
      <dgm:spPr/>
    </dgm:pt>
    <dgm:pt modelId="{3CA8844F-BD3F-4829-8F65-480D39FA95E0}" type="pres">
      <dgm:prSet presAssocID="{1FF5FB6B-B480-4435-B02B-BCFD6EE7B5AF}" presName="vertFlow" presStyleCnt="0"/>
      <dgm:spPr/>
    </dgm:pt>
    <dgm:pt modelId="{76398F25-8D1F-41C1-99BC-5F5EA87F4007}" type="pres">
      <dgm:prSet presAssocID="{1FF5FB6B-B480-4435-B02B-BCFD6EE7B5AF}" presName="topSpace" presStyleCnt="0"/>
      <dgm:spPr/>
    </dgm:pt>
    <dgm:pt modelId="{EECBC92B-B2BA-4310-833F-4328462BA7C9}" type="pres">
      <dgm:prSet presAssocID="{1FF5FB6B-B480-4435-B02B-BCFD6EE7B5AF}" presName="firstComp" presStyleCnt="0"/>
      <dgm:spPr/>
    </dgm:pt>
    <dgm:pt modelId="{76138A6F-69E1-4C46-825D-CCE2FAFE982F}" type="pres">
      <dgm:prSet presAssocID="{1FF5FB6B-B480-4435-B02B-BCFD6EE7B5AF}" presName="firstChild" presStyleLbl="bgAccFollowNode1" presStyleIdx="0" presStyleCnt="2"/>
      <dgm:spPr/>
      <dgm:t>
        <a:bodyPr/>
        <a:lstStyle/>
        <a:p>
          <a:endParaRPr lang="ru-RU"/>
        </a:p>
      </dgm:t>
    </dgm:pt>
    <dgm:pt modelId="{F5AD59E4-5057-4A05-862A-A94F2FD8030E}" type="pres">
      <dgm:prSet presAssocID="{1FF5FB6B-B480-4435-B02B-BCFD6EE7B5AF}" presName="firstChildTx" presStyleLbl="bgAccFollow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A099D5C-6238-4FCC-BB8C-071828D133A1}" type="pres">
      <dgm:prSet presAssocID="{1FF5FB6B-B480-4435-B02B-BCFD6EE7B5AF}" presName="negSpace" presStyleCnt="0"/>
      <dgm:spPr/>
    </dgm:pt>
    <dgm:pt modelId="{2DDFE4C8-B33E-4185-BE39-03F29548F845}" type="pres">
      <dgm:prSet presAssocID="{1FF5FB6B-B480-4435-B02B-BCFD6EE7B5AF}" presName="circle" presStyleLbl="node1" presStyleIdx="0" presStyleCnt="2"/>
      <dgm:spPr/>
      <dgm:t>
        <a:bodyPr/>
        <a:lstStyle/>
        <a:p>
          <a:endParaRPr lang="ru-RU"/>
        </a:p>
      </dgm:t>
    </dgm:pt>
    <dgm:pt modelId="{87825484-17F2-43DB-8534-435F5BD9023D}" type="pres">
      <dgm:prSet presAssocID="{18511BB9-7C89-479A-8465-142687A941C4}" presName="transSpace" presStyleCnt="0"/>
      <dgm:spPr/>
    </dgm:pt>
    <dgm:pt modelId="{5E854EA8-BFB4-4C70-8019-27F42FEDF223}" type="pres">
      <dgm:prSet presAssocID="{DD34D91C-9D83-4C16-B99A-8E783A68D43F}" presName="posSpace" presStyleCnt="0"/>
      <dgm:spPr/>
    </dgm:pt>
    <dgm:pt modelId="{D4163A61-1897-41EF-A613-06DD08A63FB1}" type="pres">
      <dgm:prSet presAssocID="{DD34D91C-9D83-4C16-B99A-8E783A68D43F}" presName="vertFlow" presStyleCnt="0"/>
      <dgm:spPr/>
    </dgm:pt>
    <dgm:pt modelId="{1A69F41F-DC16-404F-9290-466ED57B6D55}" type="pres">
      <dgm:prSet presAssocID="{DD34D91C-9D83-4C16-B99A-8E783A68D43F}" presName="topSpace" presStyleCnt="0"/>
      <dgm:spPr/>
    </dgm:pt>
    <dgm:pt modelId="{E647EC47-A2E2-4C67-B213-057A6FD1C03C}" type="pres">
      <dgm:prSet presAssocID="{DD34D91C-9D83-4C16-B99A-8E783A68D43F}" presName="firstComp" presStyleCnt="0"/>
      <dgm:spPr/>
    </dgm:pt>
    <dgm:pt modelId="{BB7AC5D0-064D-41D3-A1CC-03CE6F5849AA}" type="pres">
      <dgm:prSet presAssocID="{DD34D91C-9D83-4C16-B99A-8E783A68D43F}" presName="firstChild" presStyleLbl="bgAccFollowNode1" presStyleIdx="1" presStyleCnt="2"/>
      <dgm:spPr/>
      <dgm:t>
        <a:bodyPr/>
        <a:lstStyle/>
        <a:p>
          <a:endParaRPr lang="ru-RU"/>
        </a:p>
      </dgm:t>
    </dgm:pt>
    <dgm:pt modelId="{148390A0-A048-4D47-B564-0AD6B3C3D93A}" type="pres">
      <dgm:prSet presAssocID="{DD34D91C-9D83-4C16-B99A-8E783A68D43F}" presName="firstChildTx" presStyleLbl="b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DD2853E-A045-4E76-9BD9-9CCC2EEC2E59}" type="pres">
      <dgm:prSet presAssocID="{DD34D91C-9D83-4C16-B99A-8E783A68D43F}" presName="negSpace" presStyleCnt="0"/>
      <dgm:spPr/>
    </dgm:pt>
    <dgm:pt modelId="{F42D4993-042D-4A05-9F72-5C51C78AE00C}" type="pres">
      <dgm:prSet presAssocID="{DD34D91C-9D83-4C16-B99A-8E783A68D43F}" presName="circle" presStyleLbl="node1" presStyleIdx="1" presStyleCnt="2"/>
      <dgm:spPr/>
      <dgm:t>
        <a:bodyPr/>
        <a:lstStyle/>
        <a:p>
          <a:endParaRPr lang="ru-RU"/>
        </a:p>
      </dgm:t>
    </dgm:pt>
  </dgm:ptLst>
  <dgm:cxnLst>
    <dgm:cxn modelId="{543A34FA-8C5F-4CC9-A97B-671B17ABA3FD}" type="presOf" srcId="{3C5F7721-88A5-4071-8CD4-85BB9DE2EB1B}" destId="{FB55AB34-8AB9-4939-B2CA-B119D827ABE1}" srcOrd="0" destOrd="0" presId="urn:microsoft.com/office/officeart/2005/8/layout/hList9"/>
    <dgm:cxn modelId="{68209318-02BB-495C-A367-DC0D9966FDF4}" srcId="{1FF5FB6B-B480-4435-B02B-BCFD6EE7B5AF}" destId="{8C6389B6-7D95-46E8-BA58-346E7A327199}" srcOrd="0" destOrd="0" parTransId="{E7530C10-493C-412E-99F8-F4F38FCAC3A0}" sibTransId="{816497A7-C2D1-4238-8B55-74049FAB4C43}"/>
    <dgm:cxn modelId="{A36046B1-3677-47C3-BEDD-8E6A1283377A}" srcId="{3C5F7721-88A5-4071-8CD4-85BB9DE2EB1B}" destId="{DD34D91C-9D83-4C16-B99A-8E783A68D43F}" srcOrd="1" destOrd="0" parTransId="{1F317270-9238-4F9A-BF55-2203594B8F47}" sibTransId="{3F6F8CFD-F802-439B-AF1C-BA6EF7632D56}"/>
    <dgm:cxn modelId="{545E7193-D51D-4094-97FB-71D0FBB3DA61}" type="presOf" srcId="{8C6389B6-7D95-46E8-BA58-346E7A327199}" destId="{F5AD59E4-5057-4A05-862A-A94F2FD8030E}" srcOrd="1" destOrd="0" presId="urn:microsoft.com/office/officeart/2005/8/layout/hList9"/>
    <dgm:cxn modelId="{1998B000-ACD0-4F60-B236-3E5E07398A01}" type="presOf" srcId="{8C6389B6-7D95-46E8-BA58-346E7A327199}" destId="{76138A6F-69E1-4C46-825D-CCE2FAFE982F}" srcOrd="0" destOrd="0" presId="urn:microsoft.com/office/officeart/2005/8/layout/hList9"/>
    <dgm:cxn modelId="{0F68989E-6A05-4ACE-9835-F2B97BD064BC}" type="presOf" srcId="{C30FB119-9D71-4683-8693-10F70CDC1058}" destId="{BB7AC5D0-064D-41D3-A1CC-03CE6F5849AA}" srcOrd="0" destOrd="0" presId="urn:microsoft.com/office/officeart/2005/8/layout/hList9"/>
    <dgm:cxn modelId="{88ECDABF-3F24-4DFF-91A1-A5AB819EDA34}" type="presOf" srcId="{DD34D91C-9D83-4C16-B99A-8E783A68D43F}" destId="{F42D4993-042D-4A05-9F72-5C51C78AE00C}" srcOrd="0" destOrd="0" presId="urn:microsoft.com/office/officeart/2005/8/layout/hList9"/>
    <dgm:cxn modelId="{F93A495B-75D1-47FB-887A-B81BD279801D}" srcId="{DD34D91C-9D83-4C16-B99A-8E783A68D43F}" destId="{C30FB119-9D71-4683-8693-10F70CDC1058}" srcOrd="0" destOrd="0" parTransId="{AAE48F9C-473F-4278-80EC-84BB0C0031B0}" sibTransId="{5DA0B9A9-6ADF-45D4-BC91-A367BEE041D4}"/>
    <dgm:cxn modelId="{9F82D3A8-38D9-412F-9B53-C4B7EF833F3F}" srcId="{3C5F7721-88A5-4071-8CD4-85BB9DE2EB1B}" destId="{1FF5FB6B-B480-4435-B02B-BCFD6EE7B5AF}" srcOrd="0" destOrd="0" parTransId="{76287BD4-BF90-4179-BC2A-C7372BE26F42}" sibTransId="{18511BB9-7C89-479A-8465-142687A941C4}"/>
    <dgm:cxn modelId="{2CA4F290-38E3-48C4-9C1F-F541854F557E}" type="presOf" srcId="{1FF5FB6B-B480-4435-B02B-BCFD6EE7B5AF}" destId="{2DDFE4C8-B33E-4185-BE39-03F29548F845}" srcOrd="0" destOrd="0" presId="urn:microsoft.com/office/officeart/2005/8/layout/hList9"/>
    <dgm:cxn modelId="{89F0D48A-CF14-4169-BC66-E4A345DD5A00}" type="presOf" srcId="{C30FB119-9D71-4683-8693-10F70CDC1058}" destId="{148390A0-A048-4D47-B564-0AD6B3C3D93A}" srcOrd="1" destOrd="0" presId="urn:microsoft.com/office/officeart/2005/8/layout/hList9"/>
    <dgm:cxn modelId="{5950C010-8908-438F-B00B-85D59A61068E}" type="presParOf" srcId="{FB55AB34-8AB9-4939-B2CA-B119D827ABE1}" destId="{FCC2B5CC-E1B2-413B-9A14-242AD83F9EBF}" srcOrd="0" destOrd="0" presId="urn:microsoft.com/office/officeart/2005/8/layout/hList9"/>
    <dgm:cxn modelId="{F43BE76C-2BFA-4CF5-9ECA-9821125AC383}" type="presParOf" srcId="{FB55AB34-8AB9-4939-B2CA-B119D827ABE1}" destId="{3CA8844F-BD3F-4829-8F65-480D39FA95E0}" srcOrd="1" destOrd="0" presId="urn:microsoft.com/office/officeart/2005/8/layout/hList9"/>
    <dgm:cxn modelId="{E6E70277-AEF8-43BF-A13A-9F660C34D09E}" type="presParOf" srcId="{3CA8844F-BD3F-4829-8F65-480D39FA95E0}" destId="{76398F25-8D1F-41C1-99BC-5F5EA87F4007}" srcOrd="0" destOrd="0" presId="urn:microsoft.com/office/officeart/2005/8/layout/hList9"/>
    <dgm:cxn modelId="{323C2F79-6C36-4618-9E58-47AF2A34BB5B}" type="presParOf" srcId="{3CA8844F-BD3F-4829-8F65-480D39FA95E0}" destId="{EECBC92B-B2BA-4310-833F-4328462BA7C9}" srcOrd="1" destOrd="0" presId="urn:microsoft.com/office/officeart/2005/8/layout/hList9"/>
    <dgm:cxn modelId="{BB91F739-66E0-43F4-8FBE-97D895752D34}" type="presParOf" srcId="{EECBC92B-B2BA-4310-833F-4328462BA7C9}" destId="{76138A6F-69E1-4C46-825D-CCE2FAFE982F}" srcOrd="0" destOrd="0" presId="urn:microsoft.com/office/officeart/2005/8/layout/hList9"/>
    <dgm:cxn modelId="{BA3527D4-FA81-483F-94D8-2D8FB9DC7A06}" type="presParOf" srcId="{EECBC92B-B2BA-4310-833F-4328462BA7C9}" destId="{F5AD59E4-5057-4A05-862A-A94F2FD8030E}" srcOrd="1" destOrd="0" presId="urn:microsoft.com/office/officeart/2005/8/layout/hList9"/>
    <dgm:cxn modelId="{AB813EC7-7143-4A80-AED4-8F58C02B6DCA}" type="presParOf" srcId="{FB55AB34-8AB9-4939-B2CA-B119D827ABE1}" destId="{6A099D5C-6238-4FCC-BB8C-071828D133A1}" srcOrd="2" destOrd="0" presId="urn:microsoft.com/office/officeart/2005/8/layout/hList9"/>
    <dgm:cxn modelId="{6929B0B8-3AB9-4CF3-AEE9-C19131CD5879}" type="presParOf" srcId="{FB55AB34-8AB9-4939-B2CA-B119D827ABE1}" destId="{2DDFE4C8-B33E-4185-BE39-03F29548F845}" srcOrd="3" destOrd="0" presId="urn:microsoft.com/office/officeart/2005/8/layout/hList9"/>
    <dgm:cxn modelId="{C8442D45-789D-460E-9C94-B4661245DAB7}" type="presParOf" srcId="{FB55AB34-8AB9-4939-B2CA-B119D827ABE1}" destId="{87825484-17F2-43DB-8534-435F5BD9023D}" srcOrd="4" destOrd="0" presId="urn:microsoft.com/office/officeart/2005/8/layout/hList9"/>
    <dgm:cxn modelId="{9B63A768-99B0-46A7-8A42-E66F8B7932CA}" type="presParOf" srcId="{FB55AB34-8AB9-4939-B2CA-B119D827ABE1}" destId="{5E854EA8-BFB4-4C70-8019-27F42FEDF223}" srcOrd="5" destOrd="0" presId="urn:microsoft.com/office/officeart/2005/8/layout/hList9"/>
    <dgm:cxn modelId="{020A3B32-BAC7-4B29-AEBD-33B419520A91}" type="presParOf" srcId="{FB55AB34-8AB9-4939-B2CA-B119D827ABE1}" destId="{D4163A61-1897-41EF-A613-06DD08A63FB1}" srcOrd="6" destOrd="0" presId="urn:microsoft.com/office/officeart/2005/8/layout/hList9"/>
    <dgm:cxn modelId="{C758DAD0-6766-4FDA-A895-F2567398D334}" type="presParOf" srcId="{D4163A61-1897-41EF-A613-06DD08A63FB1}" destId="{1A69F41F-DC16-404F-9290-466ED57B6D55}" srcOrd="0" destOrd="0" presId="urn:microsoft.com/office/officeart/2005/8/layout/hList9"/>
    <dgm:cxn modelId="{C0DEA7E5-1049-4E63-AECE-70873A09AAB4}" type="presParOf" srcId="{D4163A61-1897-41EF-A613-06DD08A63FB1}" destId="{E647EC47-A2E2-4C67-B213-057A6FD1C03C}" srcOrd="1" destOrd="0" presId="urn:microsoft.com/office/officeart/2005/8/layout/hList9"/>
    <dgm:cxn modelId="{42AADD55-02F4-4378-88FD-4B8A1620FDB4}" type="presParOf" srcId="{E647EC47-A2E2-4C67-B213-057A6FD1C03C}" destId="{BB7AC5D0-064D-41D3-A1CC-03CE6F5849AA}" srcOrd="0" destOrd="0" presId="urn:microsoft.com/office/officeart/2005/8/layout/hList9"/>
    <dgm:cxn modelId="{7D51E371-9C9D-41BA-A11F-9044C4F43F03}" type="presParOf" srcId="{E647EC47-A2E2-4C67-B213-057A6FD1C03C}" destId="{148390A0-A048-4D47-B564-0AD6B3C3D93A}" srcOrd="1" destOrd="0" presId="urn:microsoft.com/office/officeart/2005/8/layout/hList9"/>
    <dgm:cxn modelId="{CFDF30F4-738C-42A9-B5F6-BAB8F0D44122}" type="presParOf" srcId="{FB55AB34-8AB9-4939-B2CA-B119D827ABE1}" destId="{FDD2853E-A045-4E76-9BD9-9CCC2EEC2E59}" srcOrd="7" destOrd="0" presId="urn:microsoft.com/office/officeart/2005/8/layout/hList9"/>
    <dgm:cxn modelId="{D03C7827-5E44-45D0-B99F-76155EA003AA}" type="presParOf" srcId="{FB55AB34-8AB9-4939-B2CA-B119D827ABE1}" destId="{F42D4993-042D-4A05-9F72-5C51C78AE00C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0.xml><?xml version="1.0" encoding="utf-8"?>
<dgm:dataModel xmlns:dgm="http://schemas.openxmlformats.org/drawingml/2006/diagram" xmlns:a="http://schemas.openxmlformats.org/drawingml/2006/main">
  <dgm:ptLst>
    <dgm:pt modelId="{F3DEC9CB-EDCC-4918-A7BE-96826D5700A5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E37BB87-A66A-4535-971A-A1F9C70EF1F4}">
      <dgm:prSet phldrT="[Текст]"/>
      <dgm:spPr/>
      <dgm:t>
        <a:bodyPr/>
        <a:lstStyle/>
        <a:p>
          <a:r>
            <a:rPr lang="ru-RU" dirty="0" err="1" smtClean="0"/>
            <a:t>Подчинненость</a:t>
          </a:r>
          <a:r>
            <a:rPr lang="ru-RU" dirty="0" smtClean="0"/>
            <a:t> отбора языкового материала задачам общения</a:t>
          </a:r>
          <a:endParaRPr lang="ru-RU" dirty="0"/>
        </a:p>
      </dgm:t>
    </dgm:pt>
    <dgm:pt modelId="{0B9A6532-6569-4F87-9B39-6FB72F60C62F}" type="parTrans" cxnId="{48720D0B-A058-42F8-A195-70A4C3873BC6}">
      <dgm:prSet/>
      <dgm:spPr/>
      <dgm:t>
        <a:bodyPr/>
        <a:lstStyle/>
        <a:p>
          <a:endParaRPr lang="ru-RU"/>
        </a:p>
      </dgm:t>
    </dgm:pt>
    <dgm:pt modelId="{D72E547E-EE29-4E61-B35D-B46549BC0987}" type="sibTrans" cxnId="{48720D0B-A058-42F8-A195-70A4C3873BC6}">
      <dgm:prSet/>
      <dgm:spPr/>
      <dgm:t>
        <a:bodyPr/>
        <a:lstStyle/>
        <a:p>
          <a:endParaRPr lang="ru-RU"/>
        </a:p>
      </dgm:t>
    </dgm:pt>
    <dgm:pt modelId="{37572E87-2B71-4CEF-8C8B-B82EBC56E8A9}">
      <dgm:prSet phldrT="[Текст]" phldr="1"/>
      <dgm:spPr/>
      <dgm:t>
        <a:bodyPr/>
        <a:lstStyle/>
        <a:p>
          <a:endParaRPr lang="ru-RU"/>
        </a:p>
      </dgm:t>
    </dgm:pt>
    <dgm:pt modelId="{31D46298-A6E8-4B81-B4AE-89CB3F963994}" type="parTrans" cxnId="{3C2B37DD-8A36-4C7A-801C-BAAA9EDA0C42}">
      <dgm:prSet/>
      <dgm:spPr/>
      <dgm:t>
        <a:bodyPr/>
        <a:lstStyle/>
        <a:p>
          <a:endParaRPr lang="ru-RU"/>
        </a:p>
      </dgm:t>
    </dgm:pt>
    <dgm:pt modelId="{BF2CE83E-0BF1-49BA-8E3B-0597FB5D3255}" type="sibTrans" cxnId="{3C2B37DD-8A36-4C7A-801C-BAAA9EDA0C42}">
      <dgm:prSet/>
      <dgm:spPr/>
      <dgm:t>
        <a:bodyPr/>
        <a:lstStyle/>
        <a:p>
          <a:endParaRPr lang="ru-RU"/>
        </a:p>
      </dgm:t>
    </dgm:pt>
    <dgm:pt modelId="{90B2CDC5-E6A2-4147-BDF5-D6FF2CB6798D}">
      <dgm:prSet phldrT="[Текст]"/>
      <dgm:spPr/>
      <dgm:t>
        <a:bodyPr/>
        <a:lstStyle/>
        <a:p>
          <a:r>
            <a:rPr lang="ru-RU" dirty="0" smtClean="0"/>
            <a:t>Минимизация отбора языковых явлений</a:t>
          </a:r>
          <a:endParaRPr lang="ru-RU" dirty="0"/>
        </a:p>
      </dgm:t>
    </dgm:pt>
    <dgm:pt modelId="{04E8D420-6872-4ABF-9288-207F53483556}" type="parTrans" cxnId="{D03B5A85-00D1-4A6D-B1FE-7EF018EC32B7}">
      <dgm:prSet/>
      <dgm:spPr/>
      <dgm:t>
        <a:bodyPr/>
        <a:lstStyle/>
        <a:p>
          <a:endParaRPr lang="ru-RU"/>
        </a:p>
      </dgm:t>
    </dgm:pt>
    <dgm:pt modelId="{4E40AE05-48E5-414C-A03B-FD36A68D4333}" type="sibTrans" cxnId="{D03B5A85-00D1-4A6D-B1FE-7EF018EC32B7}">
      <dgm:prSet/>
      <dgm:spPr/>
      <dgm:t>
        <a:bodyPr/>
        <a:lstStyle/>
        <a:p>
          <a:endParaRPr lang="ru-RU"/>
        </a:p>
      </dgm:t>
    </dgm:pt>
    <dgm:pt modelId="{708E8679-6F06-465A-B35B-AAC52B091250}">
      <dgm:prSet phldrT="[Текст]" phldr="1"/>
      <dgm:spPr/>
      <dgm:t>
        <a:bodyPr/>
        <a:lstStyle/>
        <a:p>
          <a:endParaRPr lang="ru-RU"/>
        </a:p>
      </dgm:t>
    </dgm:pt>
    <dgm:pt modelId="{433E81B2-0335-4F08-AB2D-2AB052573BC5}" type="parTrans" cxnId="{630441CF-6F20-448A-9DF4-7763DA3E06B5}">
      <dgm:prSet/>
      <dgm:spPr/>
      <dgm:t>
        <a:bodyPr/>
        <a:lstStyle/>
        <a:p>
          <a:endParaRPr lang="ru-RU"/>
        </a:p>
      </dgm:t>
    </dgm:pt>
    <dgm:pt modelId="{D710ED57-3806-4156-B816-349994A494DC}" type="sibTrans" cxnId="{630441CF-6F20-448A-9DF4-7763DA3E06B5}">
      <dgm:prSet/>
      <dgm:spPr/>
      <dgm:t>
        <a:bodyPr/>
        <a:lstStyle/>
        <a:p>
          <a:endParaRPr lang="ru-RU"/>
        </a:p>
      </dgm:t>
    </dgm:pt>
    <dgm:pt modelId="{EA452EAE-581A-4807-9C5A-98B8BC054E10}" type="pres">
      <dgm:prSet presAssocID="{F3DEC9CB-EDCC-4918-A7BE-96826D5700A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00D08FC1-9BAE-4408-824E-654FE8ED84FB}" type="pres">
      <dgm:prSet presAssocID="{AE37BB87-A66A-4535-971A-A1F9C70EF1F4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C53B916-B228-43C2-8B9F-06143E265028}" type="pres">
      <dgm:prSet presAssocID="{AE37BB87-A66A-4535-971A-A1F9C70EF1F4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9EC25EF-E6C5-4731-B157-E00331F52457}" type="pres">
      <dgm:prSet presAssocID="{90B2CDC5-E6A2-4147-BDF5-D6FF2CB6798D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51272E3-7976-4FB2-A9B2-47290F741A7F}" type="pres">
      <dgm:prSet presAssocID="{90B2CDC5-E6A2-4147-BDF5-D6FF2CB6798D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C2B37DD-8A36-4C7A-801C-BAAA9EDA0C42}" srcId="{AE37BB87-A66A-4535-971A-A1F9C70EF1F4}" destId="{37572E87-2B71-4CEF-8C8B-B82EBC56E8A9}" srcOrd="0" destOrd="0" parTransId="{31D46298-A6E8-4B81-B4AE-89CB3F963994}" sibTransId="{BF2CE83E-0BF1-49BA-8E3B-0597FB5D3255}"/>
    <dgm:cxn modelId="{3E534262-2272-41F7-91F9-8B60A98D1C82}" type="presOf" srcId="{37572E87-2B71-4CEF-8C8B-B82EBC56E8A9}" destId="{EC53B916-B228-43C2-8B9F-06143E265028}" srcOrd="0" destOrd="0" presId="urn:microsoft.com/office/officeart/2005/8/layout/vList2"/>
    <dgm:cxn modelId="{630441CF-6F20-448A-9DF4-7763DA3E06B5}" srcId="{90B2CDC5-E6A2-4147-BDF5-D6FF2CB6798D}" destId="{708E8679-6F06-465A-B35B-AAC52B091250}" srcOrd="0" destOrd="0" parTransId="{433E81B2-0335-4F08-AB2D-2AB052573BC5}" sibTransId="{D710ED57-3806-4156-B816-349994A494DC}"/>
    <dgm:cxn modelId="{48720D0B-A058-42F8-A195-70A4C3873BC6}" srcId="{F3DEC9CB-EDCC-4918-A7BE-96826D5700A5}" destId="{AE37BB87-A66A-4535-971A-A1F9C70EF1F4}" srcOrd="0" destOrd="0" parTransId="{0B9A6532-6569-4F87-9B39-6FB72F60C62F}" sibTransId="{D72E547E-EE29-4E61-B35D-B46549BC0987}"/>
    <dgm:cxn modelId="{136249EC-9B79-41D3-BED6-C24B86962F76}" type="presOf" srcId="{F3DEC9CB-EDCC-4918-A7BE-96826D5700A5}" destId="{EA452EAE-581A-4807-9C5A-98B8BC054E10}" srcOrd="0" destOrd="0" presId="urn:microsoft.com/office/officeart/2005/8/layout/vList2"/>
    <dgm:cxn modelId="{47306F70-3691-45FA-BA76-704574E6F642}" type="presOf" srcId="{AE37BB87-A66A-4535-971A-A1F9C70EF1F4}" destId="{00D08FC1-9BAE-4408-824E-654FE8ED84FB}" srcOrd="0" destOrd="0" presId="urn:microsoft.com/office/officeart/2005/8/layout/vList2"/>
    <dgm:cxn modelId="{432D4E47-5D29-4A76-8631-A023773EEDD6}" type="presOf" srcId="{708E8679-6F06-465A-B35B-AAC52B091250}" destId="{451272E3-7976-4FB2-A9B2-47290F741A7F}" srcOrd="0" destOrd="0" presId="urn:microsoft.com/office/officeart/2005/8/layout/vList2"/>
    <dgm:cxn modelId="{2D88A72A-A8C6-462D-9107-D5CAAF14649A}" type="presOf" srcId="{90B2CDC5-E6A2-4147-BDF5-D6FF2CB6798D}" destId="{19EC25EF-E6C5-4731-B157-E00331F52457}" srcOrd="0" destOrd="0" presId="urn:microsoft.com/office/officeart/2005/8/layout/vList2"/>
    <dgm:cxn modelId="{D03B5A85-00D1-4A6D-B1FE-7EF018EC32B7}" srcId="{F3DEC9CB-EDCC-4918-A7BE-96826D5700A5}" destId="{90B2CDC5-E6A2-4147-BDF5-D6FF2CB6798D}" srcOrd="1" destOrd="0" parTransId="{04E8D420-6872-4ABF-9288-207F53483556}" sibTransId="{4E40AE05-48E5-414C-A03B-FD36A68D4333}"/>
    <dgm:cxn modelId="{29CB711B-5E60-4526-AC84-796BF6F205FF}" type="presParOf" srcId="{EA452EAE-581A-4807-9C5A-98B8BC054E10}" destId="{00D08FC1-9BAE-4408-824E-654FE8ED84FB}" srcOrd="0" destOrd="0" presId="urn:microsoft.com/office/officeart/2005/8/layout/vList2"/>
    <dgm:cxn modelId="{AE7B8357-68CF-4DB8-A305-EBDD5C8EE614}" type="presParOf" srcId="{EA452EAE-581A-4807-9C5A-98B8BC054E10}" destId="{EC53B916-B228-43C2-8B9F-06143E265028}" srcOrd="1" destOrd="0" presId="urn:microsoft.com/office/officeart/2005/8/layout/vList2"/>
    <dgm:cxn modelId="{CF59F2DB-91E0-42D1-8F61-989728E74C6D}" type="presParOf" srcId="{EA452EAE-581A-4807-9C5A-98B8BC054E10}" destId="{19EC25EF-E6C5-4731-B157-E00331F52457}" srcOrd="2" destOrd="0" presId="urn:microsoft.com/office/officeart/2005/8/layout/vList2"/>
    <dgm:cxn modelId="{434EF5AB-A4D1-4340-B4DE-3AE21012B04A}" type="presParOf" srcId="{EA452EAE-581A-4807-9C5A-98B8BC054E10}" destId="{451272E3-7976-4FB2-A9B2-47290F741A7F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1.xml><?xml version="1.0" encoding="utf-8"?>
<dgm:dataModel xmlns:dgm="http://schemas.openxmlformats.org/drawingml/2006/diagram" xmlns:a="http://schemas.openxmlformats.org/drawingml/2006/main">
  <dgm:ptLst>
    <dgm:pt modelId="{D44A071E-6145-4DAD-AE68-56089DDF3C84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0D3E72-CF85-4002-A044-64C4F3073092}">
      <dgm:prSet phldrT="[Текст]"/>
      <dgm:spPr/>
      <dgm:t>
        <a:bodyPr/>
        <a:lstStyle/>
        <a:p>
          <a:r>
            <a:rPr lang="ru-RU" dirty="0" smtClean="0"/>
            <a:t>Признаки социального характера</a:t>
          </a:r>
          <a:endParaRPr lang="ru-RU" dirty="0"/>
        </a:p>
      </dgm:t>
    </dgm:pt>
    <dgm:pt modelId="{4C1F6BE8-7436-4E22-9183-DEBFC4982D46}" type="parTrans" cxnId="{7DD90F2B-B5FA-4881-BA29-51DB49F3198C}">
      <dgm:prSet/>
      <dgm:spPr/>
      <dgm:t>
        <a:bodyPr/>
        <a:lstStyle/>
        <a:p>
          <a:endParaRPr lang="ru-RU"/>
        </a:p>
      </dgm:t>
    </dgm:pt>
    <dgm:pt modelId="{07A7D249-9BBF-4C76-B02E-1F4905D1894F}" type="sibTrans" cxnId="{7DD90F2B-B5FA-4881-BA29-51DB49F3198C}">
      <dgm:prSet/>
      <dgm:spPr/>
      <dgm:t>
        <a:bodyPr/>
        <a:lstStyle/>
        <a:p>
          <a:endParaRPr lang="ru-RU"/>
        </a:p>
      </dgm:t>
    </dgm:pt>
    <dgm:pt modelId="{AA3C74EE-9836-46DE-8801-55EA272EB76A}">
      <dgm:prSet phldrT="[Текст]"/>
      <dgm:spPr/>
      <dgm:t>
        <a:bodyPr/>
        <a:lstStyle/>
        <a:p>
          <a:r>
            <a:rPr lang="ru-RU" dirty="0" smtClean="0"/>
            <a:t>Признаки возрастного характера</a:t>
          </a:r>
          <a:endParaRPr lang="ru-RU" dirty="0"/>
        </a:p>
      </dgm:t>
    </dgm:pt>
    <dgm:pt modelId="{2E37A666-AF51-4EAB-AE9F-E76A7839E17A}" type="parTrans" cxnId="{25E11C0D-15CC-44CE-B8F3-61AB11460F6F}">
      <dgm:prSet/>
      <dgm:spPr/>
      <dgm:t>
        <a:bodyPr/>
        <a:lstStyle/>
        <a:p>
          <a:endParaRPr lang="ru-RU"/>
        </a:p>
      </dgm:t>
    </dgm:pt>
    <dgm:pt modelId="{1707F275-E9D1-46AA-8F1C-714F4CA51847}" type="sibTrans" cxnId="{25E11C0D-15CC-44CE-B8F3-61AB11460F6F}">
      <dgm:prSet/>
      <dgm:spPr/>
      <dgm:t>
        <a:bodyPr/>
        <a:lstStyle/>
        <a:p>
          <a:endParaRPr lang="ru-RU"/>
        </a:p>
      </dgm:t>
    </dgm:pt>
    <dgm:pt modelId="{BBFE7A90-FC02-40E4-8EF3-7B5747C1934A}">
      <dgm:prSet phldrT="[Текст]"/>
      <dgm:spPr/>
      <dgm:t>
        <a:bodyPr/>
        <a:lstStyle/>
        <a:p>
          <a:r>
            <a:rPr lang="ru-RU" dirty="0" smtClean="0"/>
            <a:t>Ситуативные признаки</a:t>
          </a:r>
          <a:endParaRPr lang="ru-RU" dirty="0"/>
        </a:p>
      </dgm:t>
    </dgm:pt>
    <dgm:pt modelId="{DB73A4D0-2F03-4008-BD53-4FC2FB36CCF9}" type="parTrans" cxnId="{A59F5A03-0555-42B1-BB8C-3AE32BDC66C6}">
      <dgm:prSet/>
      <dgm:spPr/>
      <dgm:t>
        <a:bodyPr/>
        <a:lstStyle/>
        <a:p>
          <a:endParaRPr lang="ru-RU"/>
        </a:p>
      </dgm:t>
    </dgm:pt>
    <dgm:pt modelId="{FAE11AE7-1424-4F4E-B5A3-3EC877B08478}" type="sibTrans" cxnId="{A59F5A03-0555-42B1-BB8C-3AE32BDC66C6}">
      <dgm:prSet/>
      <dgm:spPr/>
      <dgm:t>
        <a:bodyPr/>
        <a:lstStyle/>
        <a:p>
          <a:endParaRPr lang="ru-RU"/>
        </a:p>
      </dgm:t>
    </dgm:pt>
    <dgm:pt modelId="{B6073D7F-8CFF-4B99-B6EB-1AB42225CDC4}" type="pres">
      <dgm:prSet presAssocID="{D44A071E-6145-4DAD-AE68-56089DDF3C84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FB0BBD3-9367-468B-B3E5-6CFF2EEEEE1B}" type="pres">
      <dgm:prSet presAssocID="{A60D3E72-CF85-4002-A044-64C4F3073092}" presName="parentLin" presStyleCnt="0"/>
      <dgm:spPr/>
    </dgm:pt>
    <dgm:pt modelId="{D890FF91-4ACE-47CE-83FE-40AD6A91A424}" type="pres">
      <dgm:prSet presAssocID="{A60D3E72-CF85-4002-A044-64C4F3073092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A5DEE2BB-8E22-4316-8428-60E8DECE255A}" type="pres">
      <dgm:prSet presAssocID="{A60D3E72-CF85-4002-A044-64C4F3073092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FC38561-08F4-49E5-B198-A623A6BC20CD}" type="pres">
      <dgm:prSet presAssocID="{A60D3E72-CF85-4002-A044-64C4F3073092}" presName="negativeSpace" presStyleCnt="0"/>
      <dgm:spPr/>
    </dgm:pt>
    <dgm:pt modelId="{BA374F94-BC0F-44CB-905E-B41B6383ADAC}" type="pres">
      <dgm:prSet presAssocID="{A60D3E72-CF85-4002-A044-64C4F3073092}" presName="childText" presStyleLbl="conFgAcc1" presStyleIdx="0" presStyleCnt="3">
        <dgm:presLayoutVars>
          <dgm:bulletEnabled val="1"/>
        </dgm:presLayoutVars>
      </dgm:prSet>
      <dgm:spPr/>
    </dgm:pt>
    <dgm:pt modelId="{1DE722E1-EB6C-492E-AE93-336F9D0EE033}" type="pres">
      <dgm:prSet presAssocID="{07A7D249-9BBF-4C76-B02E-1F4905D1894F}" presName="spaceBetweenRectangles" presStyleCnt="0"/>
      <dgm:spPr/>
    </dgm:pt>
    <dgm:pt modelId="{358F1D59-7444-4343-BA31-BC093354A665}" type="pres">
      <dgm:prSet presAssocID="{AA3C74EE-9836-46DE-8801-55EA272EB76A}" presName="parentLin" presStyleCnt="0"/>
      <dgm:spPr/>
    </dgm:pt>
    <dgm:pt modelId="{8DFB846B-92B3-4F06-9AC4-99571C3A16B8}" type="pres">
      <dgm:prSet presAssocID="{AA3C74EE-9836-46DE-8801-55EA272EB76A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FEBC8A20-AA53-43FB-A560-8399EA5853F7}" type="pres">
      <dgm:prSet presAssocID="{AA3C74EE-9836-46DE-8801-55EA272EB76A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721A7A0-AEA7-4D88-8AC1-36A4CB83A110}" type="pres">
      <dgm:prSet presAssocID="{AA3C74EE-9836-46DE-8801-55EA272EB76A}" presName="negativeSpace" presStyleCnt="0"/>
      <dgm:spPr/>
    </dgm:pt>
    <dgm:pt modelId="{7969B80F-2CE5-4ED8-B910-31853EC34495}" type="pres">
      <dgm:prSet presAssocID="{AA3C74EE-9836-46DE-8801-55EA272EB76A}" presName="childText" presStyleLbl="conFgAcc1" presStyleIdx="1" presStyleCnt="3">
        <dgm:presLayoutVars>
          <dgm:bulletEnabled val="1"/>
        </dgm:presLayoutVars>
      </dgm:prSet>
      <dgm:spPr/>
    </dgm:pt>
    <dgm:pt modelId="{58A8CE91-D31B-459F-8B0A-FEA072598BE4}" type="pres">
      <dgm:prSet presAssocID="{1707F275-E9D1-46AA-8F1C-714F4CA51847}" presName="spaceBetweenRectangles" presStyleCnt="0"/>
      <dgm:spPr/>
    </dgm:pt>
    <dgm:pt modelId="{C5641A98-A7F6-4DC9-87D6-8D3B25A89958}" type="pres">
      <dgm:prSet presAssocID="{BBFE7A90-FC02-40E4-8EF3-7B5747C1934A}" presName="parentLin" presStyleCnt="0"/>
      <dgm:spPr/>
    </dgm:pt>
    <dgm:pt modelId="{3BE0A1F0-B121-4D67-A061-F299462ADCA9}" type="pres">
      <dgm:prSet presAssocID="{BBFE7A90-FC02-40E4-8EF3-7B5747C1934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712DF015-B78E-4F6C-9AEE-8359D30C1DC0}" type="pres">
      <dgm:prSet presAssocID="{BBFE7A90-FC02-40E4-8EF3-7B5747C1934A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9DFD9FD-F40D-4F1E-9A09-49CD8812EA5E}" type="pres">
      <dgm:prSet presAssocID="{BBFE7A90-FC02-40E4-8EF3-7B5747C1934A}" presName="negativeSpace" presStyleCnt="0"/>
      <dgm:spPr/>
    </dgm:pt>
    <dgm:pt modelId="{43CE7777-6A4B-418F-8FC8-D838972B4E44}" type="pres">
      <dgm:prSet presAssocID="{BBFE7A90-FC02-40E4-8EF3-7B5747C1934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C4380212-A80C-46B8-8154-C648EC6C7C96}" type="presOf" srcId="{BBFE7A90-FC02-40E4-8EF3-7B5747C1934A}" destId="{712DF015-B78E-4F6C-9AEE-8359D30C1DC0}" srcOrd="1" destOrd="0" presId="urn:microsoft.com/office/officeart/2005/8/layout/list1"/>
    <dgm:cxn modelId="{9D3C1869-6F75-4E37-8D86-FAE718631F78}" type="presOf" srcId="{A60D3E72-CF85-4002-A044-64C4F3073092}" destId="{D890FF91-4ACE-47CE-83FE-40AD6A91A424}" srcOrd="0" destOrd="0" presId="urn:microsoft.com/office/officeart/2005/8/layout/list1"/>
    <dgm:cxn modelId="{31A6C1A9-B83B-4ECF-89DD-80453FEC9B52}" type="presOf" srcId="{AA3C74EE-9836-46DE-8801-55EA272EB76A}" destId="{8DFB846B-92B3-4F06-9AC4-99571C3A16B8}" srcOrd="0" destOrd="0" presId="urn:microsoft.com/office/officeart/2005/8/layout/list1"/>
    <dgm:cxn modelId="{A59F5A03-0555-42B1-BB8C-3AE32BDC66C6}" srcId="{D44A071E-6145-4DAD-AE68-56089DDF3C84}" destId="{BBFE7A90-FC02-40E4-8EF3-7B5747C1934A}" srcOrd="2" destOrd="0" parTransId="{DB73A4D0-2F03-4008-BD53-4FC2FB36CCF9}" sibTransId="{FAE11AE7-1424-4F4E-B5A3-3EC877B08478}"/>
    <dgm:cxn modelId="{25E11C0D-15CC-44CE-B8F3-61AB11460F6F}" srcId="{D44A071E-6145-4DAD-AE68-56089DDF3C84}" destId="{AA3C74EE-9836-46DE-8801-55EA272EB76A}" srcOrd="1" destOrd="0" parTransId="{2E37A666-AF51-4EAB-AE9F-E76A7839E17A}" sibTransId="{1707F275-E9D1-46AA-8F1C-714F4CA51847}"/>
    <dgm:cxn modelId="{E1C324AD-F865-47DF-B289-C1F79AF8139D}" type="presOf" srcId="{A60D3E72-CF85-4002-A044-64C4F3073092}" destId="{A5DEE2BB-8E22-4316-8428-60E8DECE255A}" srcOrd="1" destOrd="0" presId="urn:microsoft.com/office/officeart/2005/8/layout/list1"/>
    <dgm:cxn modelId="{EF52FF5E-1644-4425-BDEF-1929ACD0ABD0}" type="presOf" srcId="{BBFE7A90-FC02-40E4-8EF3-7B5747C1934A}" destId="{3BE0A1F0-B121-4D67-A061-F299462ADCA9}" srcOrd="0" destOrd="0" presId="urn:microsoft.com/office/officeart/2005/8/layout/list1"/>
    <dgm:cxn modelId="{7DD90F2B-B5FA-4881-BA29-51DB49F3198C}" srcId="{D44A071E-6145-4DAD-AE68-56089DDF3C84}" destId="{A60D3E72-CF85-4002-A044-64C4F3073092}" srcOrd="0" destOrd="0" parTransId="{4C1F6BE8-7436-4E22-9183-DEBFC4982D46}" sibTransId="{07A7D249-9BBF-4C76-B02E-1F4905D1894F}"/>
    <dgm:cxn modelId="{62A6ED77-867A-4B89-8914-08B568145E85}" type="presOf" srcId="{D44A071E-6145-4DAD-AE68-56089DDF3C84}" destId="{B6073D7F-8CFF-4B99-B6EB-1AB42225CDC4}" srcOrd="0" destOrd="0" presId="urn:microsoft.com/office/officeart/2005/8/layout/list1"/>
    <dgm:cxn modelId="{A8B65AE2-4942-4E52-A4A7-796422A397B8}" type="presOf" srcId="{AA3C74EE-9836-46DE-8801-55EA272EB76A}" destId="{FEBC8A20-AA53-43FB-A560-8399EA5853F7}" srcOrd="1" destOrd="0" presId="urn:microsoft.com/office/officeart/2005/8/layout/list1"/>
    <dgm:cxn modelId="{44B37362-1D1D-41C0-A5C3-3F747B4C2356}" type="presParOf" srcId="{B6073D7F-8CFF-4B99-B6EB-1AB42225CDC4}" destId="{CFB0BBD3-9367-468B-B3E5-6CFF2EEEEE1B}" srcOrd="0" destOrd="0" presId="urn:microsoft.com/office/officeart/2005/8/layout/list1"/>
    <dgm:cxn modelId="{3D6F046C-03C0-468F-9A9F-EF3973F09C8E}" type="presParOf" srcId="{CFB0BBD3-9367-468B-B3E5-6CFF2EEEEE1B}" destId="{D890FF91-4ACE-47CE-83FE-40AD6A91A424}" srcOrd="0" destOrd="0" presId="urn:microsoft.com/office/officeart/2005/8/layout/list1"/>
    <dgm:cxn modelId="{1B08AABE-4FF9-4986-8483-AF75F0D97D84}" type="presParOf" srcId="{CFB0BBD3-9367-468B-B3E5-6CFF2EEEEE1B}" destId="{A5DEE2BB-8E22-4316-8428-60E8DECE255A}" srcOrd="1" destOrd="0" presId="urn:microsoft.com/office/officeart/2005/8/layout/list1"/>
    <dgm:cxn modelId="{324F8122-9FED-4C36-A8DC-F0E093CA2E38}" type="presParOf" srcId="{B6073D7F-8CFF-4B99-B6EB-1AB42225CDC4}" destId="{AFC38561-08F4-49E5-B198-A623A6BC20CD}" srcOrd="1" destOrd="0" presId="urn:microsoft.com/office/officeart/2005/8/layout/list1"/>
    <dgm:cxn modelId="{3B16556E-4788-4A6D-96DA-2470F7758EB7}" type="presParOf" srcId="{B6073D7F-8CFF-4B99-B6EB-1AB42225CDC4}" destId="{BA374F94-BC0F-44CB-905E-B41B6383ADAC}" srcOrd="2" destOrd="0" presId="urn:microsoft.com/office/officeart/2005/8/layout/list1"/>
    <dgm:cxn modelId="{D75B9911-4A06-45BB-B9DA-65716EBB3786}" type="presParOf" srcId="{B6073D7F-8CFF-4B99-B6EB-1AB42225CDC4}" destId="{1DE722E1-EB6C-492E-AE93-336F9D0EE033}" srcOrd="3" destOrd="0" presId="urn:microsoft.com/office/officeart/2005/8/layout/list1"/>
    <dgm:cxn modelId="{09453449-9A9F-482B-BB8A-1B060CFB3C45}" type="presParOf" srcId="{B6073D7F-8CFF-4B99-B6EB-1AB42225CDC4}" destId="{358F1D59-7444-4343-BA31-BC093354A665}" srcOrd="4" destOrd="0" presId="urn:microsoft.com/office/officeart/2005/8/layout/list1"/>
    <dgm:cxn modelId="{2A756257-459E-4AFA-AFED-27EFF359133D}" type="presParOf" srcId="{358F1D59-7444-4343-BA31-BC093354A665}" destId="{8DFB846B-92B3-4F06-9AC4-99571C3A16B8}" srcOrd="0" destOrd="0" presId="urn:microsoft.com/office/officeart/2005/8/layout/list1"/>
    <dgm:cxn modelId="{12718286-E348-4DFE-A4C9-67951A5A4EE4}" type="presParOf" srcId="{358F1D59-7444-4343-BA31-BC093354A665}" destId="{FEBC8A20-AA53-43FB-A560-8399EA5853F7}" srcOrd="1" destOrd="0" presId="urn:microsoft.com/office/officeart/2005/8/layout/list1"/>
    <dgm:cxn modelId="{826893B9-CC19-445F-9553-6CE832A0C55D}" type="presParOf" srcId="{B6073D7F-8CFF-4B99-B6EB-1AB42225CDC4}" destId="{E721A7A0-AEA7-4D88-8AC1-36A4CB83A110}" srcOrd="5" destOrd="0" presId="urn:microsoft.com/office/officeart/2005/8/layout/list1"/>
    <dgm:cxn modelId="{3AB66B95-0F1C-4CAA-AA71-134D76977417}" type="presParOf" srcId="{B6073D7F-8CFF-4B99-B6EB-1AB42225CDC4}" destId="{7969B80F-2CE5-4ED8-B910-31853EC34495}" srcOrd="6" destOrd="0" presId="urn:microsoft.com/office/officeart/2005/8/layout/list1"/>
    <dgm:cxn modelId="{BA2B998E-9992-419A-A506-A72621D54968}" type="presParOf" srcId="{B6073D7F-8CFF-4B99-B6EB-1AB42225CDC4}" destId="{58A8CE91-D31B-459F-8B0A-FEA072598BE4}" srcOrd="7" destOrd="0" presId="urn:microsoft.com/office/officeart/2005/8/layout/list1"/>
    <dgm:cxn modelId="{DB6C3E06-850A-4479-A0A6-8B572C331E02}" type="presParOf" srcId="{B6073D7F-8CFF-4B99-B6EB-1AB42225CDC4}" destId="{C5641A98-A7F6-4DC9-87D6-8D3B25A89958}" srcOrd="8" destOrd="0" presId="urn:microsoft.com/office/officeart/2005/8/layout/list1"/>
    <dgm:cxn modelId="{827D976B-A21D-4889-83F0-EAB3AD7E1EDD}" type="presParOf" srcId="{C5641A98-A7F6-4DC9-87D6-8D3B25A89958}" destId="{3BE0A1F0-B121-4D67-A061-F299462ADCA9}" srcOrd="0" destOrd="0" presId="urn:microsoft.com/office/officeart/2005/8/layout/list1"/>
    <dgm:cxn modelId="{72E10CF2-AE2B-454A-BEF3-2F52DB11DF75}" type="presParOf" srcId="{C5641A98-A7F6-4DC9-87D6-8D3B25A89958}" destId="{712DF015-B78E-4F6C-9AEE-8359D30C1DC0}" srcOrd="1" destOrd="0" presId="urn:microsoft.com/office/officeart/2005/8/layout/list1"/>
    <dgm:cxn modelId="{3E4FEE07-C253-4993-B625-431B3C346FBC}" type="presParOf" srcId="{B6073D7F-8CFF-4B99-B6EB-1AB42225CDC4}" destId="{39DFD9FD-F40D-4F1E-9A09-49CD8812EA5E}" srcOrd="9" destOrd="0" presId="urn:microsoft.com/office/officeart/2005/8/layout/list1"/>
    <dgm:cxn modelId="{7458135D-0838-4DC2-B4EA-BD98BEAC1F56}" type="presParOf" srcId="{B6073D7F-8CFF-4B99-B6EB-1AB42225CDC4}" destId="{43CE7777-6A4B-418F-8FC8-D838972B4E44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2.xml><?xml version="1.0" encoding="utf-8"?>
<dgm:dataModel xmlns:dgm="http://schemas.openxmlformats.org/drawingml/2006/diagram" xmlns:a="http://schemas.openxmlformats.org/drawingml/2006/main">
  <dgm:ptLst>
    <dgm:pt modelId="{347F84D8-DDD9-4B09-A566-36ED3EE385A3}" type="doc">
      <dgm:prSet loTypeId="urn:microsoft.com/office/officeart/2005/8/layout/hierarchy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A096906-1AD2-4444-9225-6E53955C1EA9}">
      <dgm:prSet phldrT="[Текст]"/>
      <dgm:spPr/>
      <dgm:t>
        <a:bodyPr/>
        <a:lstStyle/>
        <a:p>
          <a:r>
            <a:rPr lang="ru-RU" dirty="0" smtClean="0"/>
            <a:t>Социальных характер общения</a:t>
          </a:r>
          <a:endParaRPr lang="ru-RU" dirty="0"/>
        </a:p>
      </dgm:t>
    </dgm:pt>
    <dgm:pt modelId="{42BC496F-28FD-4934-A87C-93E1026CE6F3}" type="parTrans" cxnId="{6BB20B06-CFE4-4BAF-84AB-6EBC163F61A2}">
      <dgm:prSet/>
      <dgm:spPr/>
      <dgm:t>
        <a:bodyPr/>
        <a:lstStyle/>
        <a:p>
          <a:endParaRPr lang="ru-RU"/>
        </a:p>
      </dgm:t>
    </dgm:pt>
    <dgm:pt modelId="{EC35E6A1-6F91-4591-83AD-10D03412C371}" type="sibTrans" cxnId="{6BB20B06-CFE4-4BAF-84AB-6EBC163F61A2}">
      <dgm:prSet/>
      <dgm:spPr/>
      <dgm:t>
        <a:bodyPr/>
        <a:lstStyle/>
        <a:p>
          <a:endParaRPr lang="ru-RU"/>
        </a:p>
      </dgm:t>
    </dgm:pt>
    <dgm:pt modelId="{2416A7A1-ABB4-443D-BF64-5F4254407C15}">
      <dgm:prSet phldrT="[Текст]"/>
      <dgm:spPr/>
      <dgm:t>
        <a:bodyPr/>
        <a:lstStyle/>
        <a:p>
          <a:r>
            <a:rPr lang="ru-RU" dirty="0" smtClean="0"/>
            <a:t>Ребенок-ребенок</a:t>
          </a:r>
          <a:endParaRPr lang="ru-RU" dirty="0"/>
        </a:p>
      </dgm:t>
    </dgm:pt>
    <dgm:pt modelId="{2EE75953-9CB2-4B11-817A-BE08D6DC8954}" type="parTrans" cxnId="{1905E281-868E-4626-ACCF-F4B40728CA85}">
      <dgm:prSet/>
      <dgm:spPr/>
      <dgm:t>
        <a:bodyPr/>
        <a:lstStyle/>
        <a:p>
          <a:endParaRPr lang="ru-RU"/>
        </a:p>
      </dgm:t>
    </dgm:pt>
    <dgm:pt modelId="{1FD69858-3D53-48F2-9653-4C2EC99654E5}" type="sibTrans" cxnId="{1905E281-868E-4626-ACCF-F4B40728CA85}">
      <dgm:prSet/>
      <dgm:spPr/>
      <dgm:t>
        <a:bodyPr/>
        <a:lstStyle/>
        <a:p>
          <a:endParaRPr lang="ru-RU"/>
        </a:p>
      </dgm:t>
    </dgm:pt>
    <dgm:pt modelId="{A122EBC9-3C20-4E94-9605-B1415B19D5A9}">
      <dgm:prSet phldrT="[Текст]"/>
      <dgm:spPr/>
      <dgm:t>
        <a:bodyPr/>
        <a:lstStyle/>
        <a:p>
          <a:r>
            <a:rPr lang="ru-RU" dirty="0" smtClean="0"/>
            <a:t>Учитель-ученик, ребенок-логопед</a:t>
          </a:r>
          <a:endParaRPr lang="ru-RU" dirty="0"/>
        </a:p>
      </dgm:t>
    </dgm:pt>
    <dgm:pt modelId="{9940D1C4-16E9-4274-BC17-1C26AB957B86}" type="parTrans" cxnId="{0E9D74C8-AB85-45E0-9785-BDB6CA2774BA}">
      <dgm:prSet/>
      <dgm:spPr/>
      <dgm:t>
        <a:bodyPr/>
        <a:lstStyle/>
        <a:p>
          <a:endParaRPr lang="ru-RU"/>
        </a:p>
      </dgm:t>
    </dgm:pt>
    <dgm:pt modelId="{76BB1130-1FB9-4BF6-BCAF-AC8350BEED9C}" type="sibTrans" cxnId="{0E9D74C8-AB85-45E0-9785-BDB6CA2774BA}">
      <dgm:prSet/>
      <dgm:spPr/>
      <dgm:t>
        <a:bodyPr/>
        <a:lstStyle/>
        <a:p>
          <a:endParaRPr lang="ru-RU"/>
        </a:p>
      </dgm:t>
    </dgm:pt>
    <dgm:pt modelId="{D7A07299-AAFE-4BF0-B874-6DF52445D72B}" type="pres">
      <dgm:prSet presAssocID="{347F84D8-DDD9-4B09-A566-36ED3EE385A3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BE960DE8-216A-4595-9FBD-59495F37C602}" type="pres">
      <dgm:prSet presAssocID="{AA096906-1AD2-4444-9225-6E53955C1EA9}" presName="hierRoot1" presStyleCnt="0"/>
      <dgm:spPr/>
    </dgm:pt>
    <dgm:pt modelId="{E98E8144-7DE1-488A-AF2F-919AB4778725}" type="pres">
      <dgm:prSet presAssocID="{AA096906-1AD2-4444-9225-6E53955C1EA9}" presName="composite" presStyleCnt="0"/>
      <dgm:spPr/>
    </dgm:pt>
    <dgm:pt modelId="{38A2F251-2B74-42FC-ABDC-EAE0C0B1FC53}" type="pres">
      <dgm:prSet presAssocID="{AA096906-1AD2-4444-9225-6E53955C1EA9}" presName="background" presStyleLbl="node0" presStyleIdx="0" presStyleCnt="1"/>
      <dgm:spPr/>
    </dgm:pt>
    <dgm:pt modelId="{4CB3F2A7-DE1B-46EC-8325-4475C4272C7D}" type="pres">
      <dgm:prSet presAssocID="{AA096906-1AD2-4444-9225-6E53955C1EA9}" presName="text" presStyleLbl="fgAcc0" presStyleIdx="0" presStyleCnt="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D064C14-7FD1-4F5B-87E6-A998ACF780BC}" type="pres">
      <dgm:prSet presAssocID="{AA096906-1AD2-4444-9225-6E53955C1EA9}" presName="hierChild2" presStyleCnt="0"/>
      <dgm:spPr/>
    </dgm:pt>
    <dgm:pt modelId="{2B20D9EC-65E4-48C4-8016-16F53F493F18}" type="pres">
      <dgm:prSet presAssocID="{2EE75953-9CB2-4B11-817A-BE08D6DC8954}" presName="Name10" presStyleLbl="parChTrans1D2" presStyleIdx="0" presStyleCnt="2"/>
      <dgm:spPr/>
      <dgm:t>
        <a:bodyPr/>
        <a:lstStyle/>
        <a:p>
          <a:endParaRPr lang="ru-RU"/>
        </a:p>
      </dgm:t>
    </dgm:pt>
    <dgm:pt modelId="{E3B40CAD-07F3-4FAF-A9CD-F1896263C1D1}" type="pres">
      <dgm:prSet presAssocID="{2416A7A1-ABB4-443D-BF64-5F4254407C15}" presName="hierRoot2" presStyleCnt="0"/>
      <dgm:spPr/>
    </dgm:pt>
    <dgm:pt modelId="{CACD9CBC-3E81-46F6-B333-BBFFA37BC13E}" type="pres">
      <dgm:prSet presAssocID="{2416A7A1-ABB4-443D-BF64-5F4254407C15}" presName="composite2" presStyleCnt="0"/>
      <dgm:spPr/>
    </dgm:pt>
    <dgm:pt modelId="{F8E6982A-8B61-4394-B104-842D1A08450D}" type="pres">
      <dgm:prSet presAssocID="{2416A7A1-ABB4-443D-BF64-5F4254407C15}" presName="background2" presStyleLbl="node2" presStyleIdx="0" presStyleCnt="2"/>
      <dgm:spPr/>
    </dgm:pt>
    <dgm:pt modelId="{D6035129-38BE-46AC-BCDC-B5AEAC56226E}" type="pres">
      <dgm:prSet presAssocID="{2416A7A1-ABB4-443D-BF64-5F4254407C15}" presName="text2" presStyleLbl="fgAcc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85339F3-34C9-4946-8332-725EA2639ABC}" type="pres">
      <dgm:prSet presAssocID="{2416A7A1-ABB4-443D-BF64-5F4254407C15}" presName="hierChild3" presStyleCnt="0"/>
      <dgm:spPr/>
    </dgm:pt>
    <dgm:pt modelId="{39569224-4D0F-454F-BF66-07924928D383}" type="pres">
      <dgm:prSet presAssocID="{9940D1C4-16E9-4274-BC17-1C26AB957B86}" presName="Name10" presStyleLbl="parChTrans1D2" presStyleIdx="1" presStyleCnt="2"/>
      <dgm:spPr/>
      <dgm:t>
        <a:bodyPr/>
        <a:lstStyle/>
        <a:p>
          <a:endParaRPr lang="ru-RU"/>
        </a:p>
      </dgm:t>
    </dgm:pt>
    <dgm:pt modelId="{C98288B4-F59D-4C3A-B960-02B5ED80450F}" type="pres">
      <dgm:prSet presAssocID="{A122EBC9-3C20-4E94-9605-B1415B19D5A9}" presName="hierRoot2" presStyleCnt="0"/>
      <dgm:spPr/>
    </dgm:pt>
    <dgm:pt modelId="{10B87B35-AA19-4DF7-BE30-88779DC57F8E}" type="pres">
      <dgm:prSet presAssocID="{A122EBC9-3C20-4E94-9605-B1415B19D5A9}" presName="composite2" presStyleCnt="0"/>
      <dgm:spPr/>
    </dgm:pt>
    <dgm:pt modelId="{D2805A92-E0F2-409A-8626-B466033176DE}" type="pres">
      <dgm:prSet presAssocID="{A122EBC9-3C20-4E94-9605-B1415B19D5A9}" presName="background2" presStyleLbl="node2" presStyleIdx="1" presStyleCnt="2"/>
      <dgm:spPr/>
    </dgm:pt>
    <dgm:pt modelId="{1153E7DC-A186-47F8-A656-16706E0C88A2}" type="pres">
      <dgm:prSet presAssocID="{A122EBC9-3C20-4E94-9605-B1415B19D5A9}" presName="text2" presStyleLbl="fgAcc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A516FAE-675F-40BB-921A-31FC0977DFC9}" type="pres">
      <dgm:prSet presAssocID="{A122EBC9-3C20-4E94-9605-B1415B19D5A9}" presName="hierChild3" presStyleCnt="0"/>
      <dgm:spPr/>
    </dgm:pt>
  </dgm:ptLst>
  <dgm:cxnLst>
    <dgm:cxn modelId="{F91725C5-F467-4903-AC10-0EC076938C7B}" type="presOf" srcId="{AA096906-1AD2-4444-9225-6E53955C1EA9}" destId="{4CB3F2A7-DE1B-46EC-8325-4475C4272C7D}" srcOrd="0" destOrd="0" presId="urn:microsoft.com/office/officeart/2005/8/layout/hierarchy1"/>
    <dgm:cxn modelId="{7CEE9408-0093-462B-BC14-CE5C52B756B5}" type="presOf" srcId="{2416A7A1-ABB4-443D-BF64-5F4254407C15}" destId="{D6035129-38BE-46AC-BCDC-B5AEAC56226E}" srcOrd="0" destOrd="0" presId="urn:microsoft.com/office/officeart/2005/8/layout/hierarchy1"/>
    <dgm:cxn modelId="{1905E281-868E-4626-ACCF-F4B40728CA85}" srcId="{AA096906-1AD2-4444-9225-6E53955C1EA9}" destId="{2416A7A1-ABB4-443D-BF64-5F4254407C15}" srcOrd="0" destOrd="0" parTransId="{2EE75953-9CB2-4B11-817A-BE08D6DC8954}" sibTransId="{1FD69858-3D53-48F2-9653-4C2EC99654E5}"/>
    <dgm:cxn modelId="{6701F5CF-0539-4AB9-804E-A430203D89CF}" type="presOf" srcId="{347F84D8-DDD9-4B09-A566-36ED3EE385A3}" destId="{D7A07299-AAFE-4BF0-B874-6DF52445D72B}" srcOrd="0" destOrd="0" presId="urn:microsoft.com/office/officeart/2005/8/layout/hierarchy1"/>
    <dgm:cxn modelId="{0E9D74C8-AB85-45E0-9785-BDB6CA2774BA}" srcId="{AA096906-1AD2-4444-9225-6E53955C1EA9}" destId="{A122EBC9-3C20-4E94-9605-B1415B19D5A9}" srcOrd="1" destOrd="0" parTransId="{9940D1C4-16E9-4274-BC17-1C26AB957B86}" sibTransId="{76BB1130-1FB9-4BF6-BCAF-AC8350BEED9C}"/>
    <dgm:cxn modelId="{3C82D31F-F372-40DC-BD7D-A34D31D2A06F}" type="presOf" srcId="{9940D1C4-16E9-4274-BC17-1C26AB957B86}" destId="{39569224-4D0F-454F-BF66-07924928D383}" srcOrd="0" destOrd="0" presId="urn:microsoft.com/office/officeart/2005/8/layout/hierarchy1"/>
    <dgm:cxn modelId="{6BB20B06-CFE4-4BAF-84AB-6EBC163F61A2}" srcId="{347F84D8-DDD9-4B09-A566-36ED3EE385A3}" destId="{AA096906-1AD2-4444-9225-6E53955C1EA9}" srcOrd="0" destOrd="0" parTransId="{42BC496F-28FD-4934-A87C-93E1026CE6F3}" sibTransId="{EC35E6A1-6F91-4591-83AD-10D03412C371}"/>
    <dgm:cxn modelId="{6389C2C0-A17C-4054-AD17-24BF69AFC8FF}" type="presOf" srcId="{A122EBC9-3C20-4E94-9605-B1415B19D5A9}" destId="{1153E7DC-A186-47F8-A656-16706E0C88A2}" srcOrd="0" destOrd="0" presId="urn:microsoft.com/office/officeart/2005/8/layout/hierarchy1"/>
    <dgm:cxn modelId="{F44E54CE-F43D-4963-BD19-9D7AA0F6E995}" type="presOf" srcId="{2EE75953-9CB2-4B11-817A-BE08D6DC8954}" destId="{2B20D9EC-65E4-48C4-8016-16F53F493F18}" srcOrd="0" destOrd="0" presId="urn:microsoft.com/office/officeart/2005/8/layout/hierarchy1"/>
    <dgm:cxn modelId="{8164B3AB-952A-452B-AF11-4FB28C645819}" type="presParOf" srcId="{D7A07299-AAFE-4BF0-B874-6DF52445D72B}" destId="{BE960DE8-216A-4595-9FBD-59495F37C602}" srcOrd="0" destOrd="0" presId="urn:microsoft.com/office/officeart/2005/8/layout/hierarchy1"/>
    <dgm:cxn modelId="{0FA2B6B4-AAB5-4A8C-A4C9-8C94FF55453E}" type="presParOf" srcId="{BE960DE8-216A-4595-9FBD-59495F37C602}" destId="{E98E8144-7DE1-488A-AF2F-919AB4778725}" srcOrd="0" destOrd="0" presId="urn:microsoft.com/office/officeart/2005/8/layout/hierarchy1"/>
    <dgm:cxn modelId="{CD8966BC-0B6F-44D0-94C0-545E259442BB}" type="presParOf" srcId="{E98E8144-7DE1-488A-AF2F-919AB4778725}" destId="{38A2F251-2B74-42FC-ABDC-EAE0C0B1FC53}" srcOrd="0" destOrd="0" presId="urn:microsoft.com/office/officeart/2005/8/layout/hierarchy1"/>
    <dgm:cxn modelId="{FE27A01E-3F1D-4726-84D4-9E608D31C507}" type="presParOf" srcId="{E98E8144-7DE1-488A-AF2F-919AB4778725}" destId="{4CB3F2A7-DE1B-46EC-8325-4475C4272C7D}" srcOrd="1" destOrd="0" presId="urn:microsoft.com/office/officeart/2005/8/layout/hierarchy1"/>
    <dgm:cxn modelId="{4BD25CDB-4B0F-4B83-BBD7-B3D31FB1E101}" type="presParOf" srcId="{BE960DE8-216A-4595-9FBD-59495F37C602}" destId="{6D064C14-7FD1-4F5B-87E6-A998ACF780BC}" srcOrd="1" destOrd="0" presId="urn:microsoft.com/office/officeart/2005/8/layout/hierarchy1"/>
    <dgm:cxn modelId="{6CDCC803-861A-4A79-B2DB-AD3E7FFEE8EB}" type="presParOf" srcId="{6D064C14-7FD1-4F5B-87E6-A998ACF780BC}" destId="{2B20D9EC-65E4-48C4-8016-16F53F493F18}" srcOrd="0" destOrd="0" presId="urn:microsoft.com/office/officeart/2005/8/layout/hierarchy1"/>
    <dgm:cxn modelId="{84615EE1-5C62-41D4-9398-AB14266D788B}" type="presParOf" srcId="{6D064C14-7FD1-4F5B-87E6-A998ACF780BC}" destId="{E3B40CAD-07F3-4FAF-A9CD-F1896263C1D1}" srcOrd="1" destOrd="0" presId="urn:microsoft.com/office/officeart/2005/8/layout/hierarchy1"/>
    <dgm:cxn modelId="{AFAEE1AE-A054-48D7-8A98-C763E15A916D}" type="presParOf" srcId="{E3B40CAD-07F3-4FAF-A9CD-F1896263C1D1}" destId="{CACD9CBC-3E81-46F6-B333-BBFFA37BC13E}" srcOrd="0" destOrd="0" presId="urn:microsoft.com/office/officeart/2005/8/layout/hierarchy1"/>
    <dgm:cxn modelId="{73966AA3-1E5D-4778-B83C-518B61C87571}" type="presParOf" srcId="{CACD9CBC-3E81-46F6-B333-BBFFA37BC13E}" destId="{F8E6982A-8B61-4394-B104-842D1A08450D}" srcOrd="0" destOrd="0" presId="urn:microsoft.com/office/officeart/2005/8/layout/hierarchy1"/>
    <dgm:cxn modelId="{4730ABC9-42E4-4CE6-A84C-E590C60D9FFF}" type="presParOf" srcId="{CACD9CBC-3E81-46F6-B333-BBFFA37BC13E}" destId="{D6035129-38BE-46AC-BCDC-B5AEAC56226E}" srcOrd="1" destOrd="0" presId="urn:microsoft.com/office/officeart/2005/8/layout/hierarchy1"/>
    <dgm:cxn modelId="{387A1472-2AA1-4944-A6C6-357C258E0676}" type="presParOf" srcId="{E3B40CAD-07F3-4FAF-A9CD-F1896263C1D1}" destId="{185339F3-34C9-4946-8332-725EA2639ABC}" srcOrd="1" destOrd="0" presId="urn:microsoft.com/office/officeart/2005/8/layout/hierarchy1"/>
    <dgm:cxn modelId="{FAB0721E-BADD-473E-9465-3A8379616E80}" type="presParOf" srcId="{6D064C14-7FD1-4F5B-87E6-A998ACF780BC}" destId="{39569224-4D0F-454F-BF66-07924928D383}" srcOrd="2" destOrd="0" presId="urn:microsoft.com/office/officeart/2005/8/layout/hierarchy1"/>
    <dgm:cxn modelId="{242AED2D-DBA1-4F9E-B77B-94DAAE353BD3}" type="presParOf" srcId="{6D064C14-7FD1-4F5B-87E6-A998ACF780BC}" destId="{C98288B4-F59D-4C3A-B960-02B5ED80450F}" srcOrd="3" destOrd="0" presId="urn:microsoft.com/office/officeart/2005/8/layout/hierarchy1"/>
    <dgm:cxn modelId="{5807C874-552E-4377-A022-CC27A435BC7F}" type="presParOf" srcId="{C98288B4-F59D-4C3A-B960-02B5ED80450F}" destId="{10B87B35-AA19-4DF7-BE30-88779DC57F8E}" srcOrd="0" destOrd="0" presId="urn:microsoft.com/office/officeart/2005/8/layout/hierarchy1"/>
    <dgm:cxn modelId="{10A30C46-C1A9-409B-A3EB-2A559DD33ABA}" type="presParOf" srcId="{10B87B35-AA19-4DF7-BE30-88779DC57F8E}" destId="{D2805A92-E0F2-409A-8626-B466033176DE}" srcOrd="0" destOrd="0" presId="urn:microsoft.com/office/officeart/2005/8/layout/hierarchy1"/>
    <dgm:cxn modelId="{6AACB7C3-4C4F-43C0-B390-7CC9864F6C56}" type="presParOf" srcId="{10B87B35-AA19-4DF7-BE30-88779DC57F8E}" destId="{1153E7DC-A186-47F8-A656-16706E0C88A2}" srcOrd="1" destOrd="0" presId="urn:microsoft.com/office/officeart/2005/8/layout/hierarchy1"/>
    <dgm:cxn modelId="{CF8FAAEF-9826-45EA-870C-AA39B5E1AF69}" type="presParOf" srcId="{C98288B4-F59D-4C3A-B960-02B5ED80450F}" destId="{6A516FAE-675F-40BB-921A-31FC0977DFC9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3.xml><?xml version="1.0" encoding="utf-8"?>
<dgm:dataModel xmlns:dgm="http://schemas.openxmlformats.org/drawingml/2006/diagram" xmlns:a="http://schemas.openxmlformats.org/drawingml/2006/main">
  <dgm:ptLst>
    <dgm:pt modelId="{29A8317E-4FF7-422C-8559-ACA8C49AD322}" type="doc">
      <dgm:prSet loTypeId="urn:microsoft.com/office/officeart/2005/8/layout/hList3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91D7BFD0-E494-45D3-B76D-C68C82F6280B}">
      <dgm:prSet phldrT="[Текст]"/>
      <dgm:spPr/>
      <dgm:t>
        <a:bodyPr/>
        <a:lstStyle/>
        <a:p>
          <a:r>
            <a:rPr lang="ru-RU" dirty="0" smtClean="0"/>
            <a:t>Характеристики речевого общения</a:t>
          </a:r>
          <a:endParaRPr lang="ru-RU" dirty="0"/>
        </a:p>
      </dgm:t>
    </dgm:pt>
    <dgm:pt modelId="{8C184FA0-9323-423F-B2BA-F756E80D227C}" type="parTrans" cxnId="{B4293E6B-C79D-4A50-830F-82456D51DBFA}">
      <dgm:prSet/>
      <dgm:spPr/>
      <dgm:t>
        <a:bodyPr/>
        <a:lstStyle/>
        <a:p>
          <a:endParaRPr lang="ru-RU"/>
        </a:p>
      </dgm:t>
    </dgm:pt>
    <dgm:pt modelId="{B4C1463F-E192-4F91-B9DB-2B33ABAEB5C3}" type="sibTrans" cxnId="{B4293E6B-C79D-4A50-830F-82456D51DBFA}">
      <dgm:prSet/>
      <dgm:spPr/>
      <dgm:t>
        <a:bodyPr/>
        <a:lstStyle/>
        <a:p>
          <a:endParaRPr lang="ru-RU"/>
        </a:p>
      </dgm:t>
    </dgm:pt>
    <dgm:pt modelId="{B22C06B3-C9E0-488D-9FDB-685666E0EA80}">
      <dgm:prSet phldrT="[Текст]"/>
      <dgm:spPr/>
      <dgm:t>
        <a:bodyPr/>
        <a:lstStyle/>
        <a:p>
          <a:r>
            <a:rPr lang="ru-RU" dirty="0" smtClean="0"/>
            <a:t>Общий объем речевой продукции</a:t>
          </a:r>
          <a:endParaRPr lang="ru-RU" dirty="0"/>
        </a:p>
      </dgm:t>
    </dgm:pt>
    <dgm:pt modelId="{ACB9573F-06F3-4C9C-A609-5FD92CCC2853}" type="parTrans" cxnId="{A9F295B9-6513-45B5-A657-63F5AD988D65}">
      <dgm:prSet/>
      <dgm:spPr/>
      <dgm:t>
        <a:bodyPr/>
        <a:lstStyle/>
        <a:p>
          <a:endParaRPr lang="ru-RU"/>
        </a:p>
      </dgm:t>
    </dgm:pt>
    <dgm:pt modelId="{5CCE9D01-E1EA-44CB-897F-1F1ACDE3C734}" type="sibTrans" cxnId="{A9F295B9-6513-45B5-A657-63F5AD988D65}">
      <dgm:prSet/>
      <dgm:spPr/>
      <dgm:t>
        <a:bodyPr/>
        <a:lstStyle/>
        <a:p>
          <a:endParaRPr lang="ru-RU"/>
        </a:p>
      </dgm:t>
    </dgm:pt>
    <dgm:pt modelId="{C00BEB41-CEAC-497D-97DE-2DFB5A1C1C69}">
      <dgm:prSet phldrT="[Текст]"/>
      <dgm:spPr/>
      <dgm:t>
        <a:bodyPr/>
        <a:lstStyle/>
        <a:p>
          <a:r>
            <a:rPr lang="ru-RU" dirty="0" smtClean="0"/>
            <a:t>Степень использования различных лексических единиц </a:t>
          </a:r>
          <a:endParaRPr lang="ru-RU" dirty="0"/>
        </a:p>
      </dgm:t>
    </dgm:pt>
    <dgm:pt modelId="{84883CCA-C7A0-4C2C-8661-6826B387A607}" type="parTrans" cxnId="{186A5EEC-4BC0-4CDA-9E37-94B93A126DA6}">
      <dgm:prSet/>
      <dgm:spPr/>
      <dgm:t>
        <a:bodyPr/>
        <a:lstStyle/>
        <a:p>
          <a:endParaRPr lang="ru-RU"/>
        </a:p>
      </dgm:t>
    </dgm:pt>
    <dgm:pt modelId="{910BDDF0-00A6-41ED-9D40-9B9389C2DF5C}" type="sibTrans" cxnId="{186A5EEC-4BC0-4CDA-9E37-94B93A126DA6}">
      <dgm:prSet/>
      <dgm:spPr/>
      <dgm:t>
        <a:bodyPr/>
        <a:lstStyle/>
        <a:p>
          <a:endParaRPr lang="ru-RU"/>
        </a:p>
      </dgm:t>
    </dgm:pt>
    <dgm:pt modelId="{C24227B6-5401-46A4-B282-8A9111F583D1}">
      <dgm:prSet phldrT="[Текст]"/>
      <dgm:spPr/>
      <dgm:t>
        <a:bodyPr/>
        <a:lstStyle/>
        <a:p>
          <a:r>
            <a:rPr lang="ru-RU" dirty="0" smtClean="0"/>
            <a:t>Синтаксическая организация речи</a:t>
          </a:r>
          <a:endParaRPr lang="ru-RU" dirty="0"/>
        </a:p>
      </dgm:t>
    </dgm:pt>
    <dgm:pt modelId="{87A9D19F-10B4-4267-9169-69B97ACB3EE5}" type="parTrans" cxnId="{CA8C4A8C-2F7E-47C8-800B-BC9F6E2EF7F0}">
      <dgm:prSet/>
      <dgm:spPr/>
      <dgm:t>
        <a:bodyPr/>
        <a:lstStyle/>
        <a:p>
          <a:endParaRPr lang="ru-RU"/>
        </a:p>
      </dgm:t>
    </dgm:pt>
    <dgm:pt modelId="{B6556C97-D95B-455E-9B71-23544806F8F4}" type="sibTrans" cxnId="{CA8C4A8C-2F7E-47C8-800B-BC9F6E2EF7F0}">
      <dgm:prSet/>
      <dgm:spPr/>
      <dgm:t>
        <a:bodyPr/>
        <a:lstStyle/>
        <a:p>
          <a:endParaRPr lang="ru-RU"/>
        </a:p>
      </dgm:t>
    </dgm:pt>
    <dgm:pt modelId="{F78C1360-2F20-4A18-A1CC-9E2F62062F1F}">
      <dgm:prSet/>
      <dgm:spPr/>
    </dgm:pt>
    <dgm:pt modelId="{1F54554B-7A02-4583-9AB6-3DD1EBCAA95E}" type="parTrans" cxnId="{86A84C9D-0783-4AD3-BF1E-56D982AE032F}">
      <dgm:prSet/>
      <dgm:spPr/>
      <dgm:t>
        <a:bodyPr/>
        <a:lstStyle/>
        <a:p>
          <a:endParaRPr lang="ru-RU"/>
        </a:p>
      </dgm:t>
    </dgm:pt>
    <dgm:pt modelId="{37A2DA4F-F17C-4947-AD61-087729F1ADBF}" type="sibTrans" cxnId="{86A84C9D-0783-4AD3-BF1E-56D982AE032F}">
      <dgm:prSet/>
      <dgm:spPr/>
      <dgm:t>
        <a:bodyPr/>
        <a:lstStyle/>
        <a:p>
          <a:endParaRPr lang="ru-RU"/>
        </a:p>
      </dgm:t>
    </dgm:pt>
    <dgm:pt modelId="{B634E82B-6BD3-468D-BDF2-3C6E25B234E5}" type="pres">
      <dgm:prSet presAssocID="{29A8317E-4FF7-422C-8559-ACA8C49AD322}" presName="composite" presStyleCnt="0">
        <dgm:presLayoutVars>
          <dgm:chMax val="1"/>
          <dgm:dir/>
          <dgm:resizeHandles val="exact"/>
        </dgm:presLayoutVars>
      </dgm:prSet>
      <dgm:spPr/>
    </dgm:pt>
    <dgm:pt modelId="{98C8DE9D-71E9-4C79-BF1C-CF8D7C4A4480}" type="pres">
      <dgm:prSet presAssocID="{91D7BFD0-E494-45D3-B76D-C68C82F6280B}" presName="roof" presStyleLbl="dkBgShp" presStyleIdx="0" presStyleCnt="2"/>
      <dgm:spPr/>
      <dgm:t>
        <a:bodyPr/>
        <a:lstStyle/>
        <a:p>
          <a:endParaRPr lang="ru-RU"/>
        </a:p>
      </dgm:t>
    </dgm:pt>
    <dgm:pt modelId="{556E1C63-1827-44D6-B594-E1E466277084}" type="pres">
      <dgm:prSet presAssocID="{91D7BFD0-E494-45D3-B76D-C68C82F6280B}" presName="pillars" presStyleCnt="0"/>
      <dgm:spPr/>
    </dgm:pt>
    <dgm:pt modelId="{4592FC57-76FB-4AF5-BA88-7AF102F832E4}" type="pres">
      <dgm:prSet presAssocID="{91D7BFD0-E494-45D3-B76D-C68C82F6280B}" presName="pillar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FA2033E-2EDF-4572-A9D3-833782F839D8}" type="pres">
      <dgm:prSet presAssocID="{C00BEB41-CEAC-497D-97DE-2DFB5A1C1C69}" presName="pillarX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4B52299-5E59-4AB1-B7EE-81C2E9FBDA38}" type="pres">
      <dgm:prSet presAssocID="{C24227B6-5401-46A4-B282-8A9111F583D1}" presName="pillarX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E5B884E-4611-4045-83C5-91BF312D2921}" type="pres">
      <dgm:prSet presAssocID="{91D7BFD0-E494-45D3-B76D-C68C82F6280B}" presName="base" presStyleLbl="dkBgShp" presStyleIdx="1" presStyleCnt="2"/>
      <dgm:spPr/>
    </dgm:pt>
  </dgm:ptLst>
  <dgm:cxnLst>
    <dgm:cxn modelId="{B4293E6B-C79D-4A50-830F-82456D51DBFA}" srcId="{29A8317E-4FF7-422C-8559-ACA8C49AD322}" destId="{91D7BFD0-E494-45D3-B76D-C68C82F6280B}" srcOrd="0" destOrd="0" parTransId="{8C184FA0-9323-423F-B2BA-F756E80D227C}" sibTransId="{B4C1463F-E192-4F91-B9DB-2B33ABAEB5C3}"/>
    <dgm:cxn modelId="{2B1932D6-8681-4947-BBC8-F509BDC8D1A6}" type="presOf" srcId="{29A8317E-4FF7-422C-8559-ACA8C49AD322}" destId="{B634E82B-6BD3-468D-BDF2-3C6E25B234E5}" srcOrd="0" destOrd="0" presId="urn:microsoft.com/office/officeart/2005/8/layout/hList3"/>
    <dgm:cxn modelId="{186A5EEC-4BC0-4CDA-9E37-94B93A126DA6}" srcId="{91D7BFD0-E494-45D3-B76D-C68C82F6280B}" destId="{C00BEB41-CEAC-497D-97DE-2DFB5A1C1C69}" srcOrd="1" destOrd="0" parTransId="{84883CCA-C7A0-4C2C-8661-6826B387A607}" sibTransId="{910BDDF0-00A6-41ED-9D40-9B9389C2DF5C}"/>
    <dgm:cxn modelId="{7EA503A9-3DE0-4927-938A-0A80C9873D10}" type="presOf" srcId="{B22C06B3-C9E0-488D-9FDB-685666E0EA80}" destId="{4592FC57-76FB-4AF5-BA88-7AF102F832E4}" srcOrd="0" destOrd="0" presId="urn:microsoft.com/office/officeart/2005/8/layout/hList3"/>
    <dgm:cxn modelId="{57200F6E-8D46-45C7-B418-4104DE4D48AD}" type="presOf" srcId="{C24227B6-5401-46A4-B282-8A9111F583D1}" destId="{04B52299-5E59-4AB1-B7EE-81C2E9FBDA38}" srcOrd="0" destOrd="0" presId="urn:microsoft.com/office/officeart/2005/8/layout/hList3"/>
    <dgm:cxn modelId="{6816736D-2B74-471F-BAF4-F094627D4C56}" type="presOf" srcId="{91D7BFD0-E494-45D3-B76D-C68C82F6280B}" destId="{98C8DE9D-71E9-4C79-BF1C-CF8D7C4A4480}" srcOrd="0" destOrd="0" presId="urn:microsoft.com/office/officeart/2005/8/layout/hList3"/>
    <dgm:cxn modelId="{A9F295B9-6513-45B5-A657-63F5AD988D65}" srcId="{91D7BFD0-E494-45D3-B76D-C68C82F6280B}" destId="{B22C06B3-C9E0-488D-9FDB-685666E0EA80}" srcOrd="0" destOrd="0" parTransId="{ACB9573F-06F3-4C9C-A609-5FD92CCC2853}" sibTransId="{5CCE9D01-E1EA-44CB-897F-1F1ACDE3C734}"/>
    <dgm:cxn modelId="{CA8C4A8C-2F7E-47C8-800B-BC9F6E2EF7F0}" srcId="{91D7BFD0-E494-45D3-B76D-C68C82F6280B}" destId="{C24227B6-5401-46A4-B282-8A9111F583D1}" srcOrd="2" destOrd="0" parTransId="{87A9D19F-10B4-4267-9169-69B97ACB3EE5}" sibTransId="{B6556C97-D95B-455E-9B71-23544806F8F4}"/>
    <dgm:cxn modelId="{86A84C9D-0783-4AD3-BF1E-56D982AE032F}" srcId="{29A8317E-4FF7-422C-8559-ACA8C49AD322}" destId="{F78C1360-2F20-4A18-A1CC-9E2F62062F1F}" srcOrd="1" destOrd="0" parTransId="{1F54554B-7A02-4583-9AB6-3DD1EBCAA95E}" sibTransId="{37A2DA4F-F17C-4947-AD61-087729F1ADBF}"/>
    <dgm:cxn modelId="{B23CFA58-3042-4AA9-8DFC-DA1D3D1FA869}" type="presOf" srcId="{C00BEB41-CEAC-497D-97DE-2DFB5A1C1C69}" destId="{DFA2033E-2EDF-4572-A9D3-833782F839D8}" srcOrd="0" destOrd="0" presId="urn:microsoft.com/office/officeart/2005/8/layout/hList3"/>
    <dgm:cxn modelId="{36D6A260-7A55-43CF-9B68-11D07C747C95}" type="presParOf" srcId="{B634E82B-6BD3-468D-BDF2-3C6E25B234E5}" destId="{98C8DE9D-71E9-4C79-BF1C-CF8D7C4A4480}" srcOrd="0" destOrd="0" presId="urn:microsoft.com/office/officeart/2005/8/layout/hList3"/>
    <dgm:cxn modelId="{31DB1A6E-B223-46E1-8E2E-34B604CE129F}" type="presParOf" srcId="{B634E82B-6BD3-468D-BDF2-3C6E25B234E5}" destId="{556E1C63-1827-44D6-B594-E1E466277084}" srcOrd="1" destOrd="0" presId="urn:microsoft.com/office/officeart/2005/8/layout/hList3"/>
    <dgm:cxn modelId="{F07F30F1-5D2C-4644-A6BB-D1669821179C}" type="presParOf" srcId="{556E1C63-1827-44D6-B594-E1E466277084}" destId="{4592FC57-76FB-4AF5-BA88-7AF102F832E4}" srcOrd="0" destOrd="0" presId="urn:microsoft.com/office/officeart/2005/8/layout/hList3"/>
    <dgm:cxn modelId="{F0F103E4-EA91-496A-90EB-409DCFC1573D}" type="presParOf" srcId="{556E1C63-1827-44D6-B594-E1E466277084}" destId="{DFA2033E-2EDF-4572-A9D3-833782F839D8}" srcOrd="1" destOrd="0" presId="urn:microsoft.com/office/officeart/2005/8/layout/hList3"/>
    <dgm:cxn modelId="{5FDCFEB0-C449-4DCC-8A95-AF25D99630F7}" type="presParOf" srcId="{556E1C63-1827-44D6-B594-E1E466277084}" destId="{04B52299-5E59-4AB1-B7EE-81C2E9FBDA38}" srcOrd="2" destOrd="0" presId="urn:microsoft.com/office/officeart/2005/8/layout/hList3"/>
    <dgm:cxn modelId="{12ED2699-BCAA-4B6F-A91C-03398C5C87C9}" type="presParOf" srcId="{B634E82B-6BD3-468D-BDF2-3C6E25B234E5}" destId="{DE5B884E-4611-4045-83C5-91BF312D2921}" srcOrd="2" destOrd="0" presId="urn:microsoft.com/office/officeart/2005/8/layout/hList3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4.xml><?xml version="1.0" encoding="utf-8"?>
<dgm:dataModel xmlns:dgm="http://schemas.openxmlformats.org/drawingml/2006/diagram" xmlns:a="http://schemas.openxmlformats.org/drawingml/2006/main">
  <dgm:ptLst>
    <dgm:pt modelId="{9AE9D677-5CF8-4248-AB4B-928395512E31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FA1EFE5-7A26-4306-BF3D-0BA161CCE92F}">
      <dgm:prSet phldrT="[Текст]"/>
      <dgm:spPr/>
      <dgm:t>
        <a:bodyPr/>
        <a:lstStyle/>
        <a:p>
          <a:r>
            <a:rPr lang="ru-RU" dirty="0" smtClean="0"/>
            <a:t>Средства, выражающие субъективные намерения говорящего</a:t>
          </a:r>
          <a:endParaRPr lang="ru-RU" dirty="0"/>
        </a:p>
      </dgm:t>
    </dgm:pt>
    <dgm:pt modelId="{56BCEC5E-5216-4AC3-AF88-254501B8DF83}" type="parTrans" cxnId="{84DB66F9-0730-4D30-86B2-A193DA461516}">
      <dgm:prSet/>
      <dgm:spPr/>
      <dgm:t>
        <a:bodyPr/>
        <a:lstStyle/>
        <a:p>
          <a:endParaRPr lang="ru-RU"/>
        </a:p>
      </dgm:t>
    </dgm:pt>
    <dgm:pt modelId="{9D106486-154F-4BC3-B28D-2C7219323A49}" type="sibTrans" cxnId="{84DB66F9-0730-4D30-86B2-A193DA461516}">
      <dgm:prSet/>
      <dgm:spPr/>
      <dgm:t>
        <a:bodyPr/>
        <a:lstStyle/>
        <a:p>
          <a:endParaRPr lang="ru-RU"/>
        </a:p>
      </dgm:t>
    </dgm:pt>
    <dgm:pt modelId="{678AE896-6216-4F2E-9390-160032B4E13C}">
      <dgm:prSet phldrT="[Текст]"/>
      <dgm:spPr/>
      <dgm:t>
        <a:bodyPr/>
        <a:lstStyle/>
        <a:p>
          <a:endParaRPr lang="ru-RU" dirty="0"/>
        </a:p>
      </dgm:t>
    </dgm:pt>
    <dgm:pt modelId="{2FA87C26-AC7C-4CB7-9B83-292244E7234E}" type="parTrans" cxnId="{57D65834-CECC-4E93-8556-42D3CEF69F0D}">
      <dgm:prSet/>
      <dgm:spPr/>
      <dgm:t>
        <a:bodyPr/>
        <a:lstStyle/>
        <a:p>
          <a:endParaRPr lang="ru-RU"/>
        </a:p>
      </dgm:t>
    </dgm:pt>
    <dgm:pt modelId="{9ABB8957-365A-4E91-A188-341E8846B840}" type="sibTrans" cxnId="{57D65834-CECC-4E93-8556-42D3CEF69F0D}">
      <dgm:prSet/>
      <dgm:spPr/>
      <dgm:t>
        <a:bodyPr/>
        <a:lstStyle/>
        <a:p>
          <a:endParaRPr lang="ru-RU"/>
        </a:p>
      </dgm:t>
    </dgm:pt>
    <dgm:pt modelId="{AA3C4255-ADA4-4E03-B32A-D4ADD2421268}">
      <dgm:prSet phldrT="[Текст]"/>
      <dgm:spPr/>
      <dgm:t>
        <a:bodyPr/>
        <a:lstStyle/>
        <a:p>
          <a:r>
            <a:rPr lang="ru-RU" dirty="0" smtClean="0"/>
            <a:t>Средства, необходимые для выражения объективных характеристик ситуации </a:t>
          </a:r>
          <a:endParaRPr lang="ru-RU" dirty="0"/>
        </a:p>
      </dgm:t>
    </dgm:pt>
    <dgm:pt modelId="{087263DB-607D-4A2E-9827-2C643DF93518}" type="parTrans" cxnId="{A29D93E5-4E7B-4C6D-A1AE-CB18C5D0D561}">
      <dgm:prSet/>
      <dgm:spPr/>
      <dgm:t>
        <a:bodyPr/>
        <a:lstStyle/>
        <a:p>
          <a:endParaRPr lang="ru-RU"/>
        </a:p>
      </dgm:t>
    </dgm:pt>
    <dgm:pt modelId="{FA546AD5-E7E5-41C9-9FCA-379D7F72AE07}" type="sibTrans" cxnId="{A29D93E5-4E7B-4C6D-A1AE-CB18C5D0D561}">
      <dgm:prSet/>
      <dgm:spPr/>
      <dgm:t>
        <a:bodyPr/>
        <a:lstStyle/>
        <a:p>
          <a:endParaRPr lang="ru-RU"/>
        </a:p>
      </dgm:t>
    </dgm:pt>
    <dgm:pt modelId="{E8EA85FB-3C5B-4F6A-A3BF-6F660B7FB22E}">
      <dgm:prSet phldrT="[Текст]"/>
      <dgm:spPr/>
      <dgm:t>
        <a:bodyPr/>
        <a:lstStyle/>
        <a:p>
          <a:r>
            <a:rPr lang="ru-RU" dirty="0" smtClean="0"/>
            <a:t>общая информация, сиюминутная информация, передача факта или чьи-то слов, информация о себе или о третьем лице</a:t>
          </a:r>
          <a:endParaRPr lang="ru-RU" dirty="0"/>
        </a:p>
      </dgm:t>
    </dgm:pt>
    <dgm:pt modelId="{75F12A8E-D2EF-4C00-A62B-EF1659BF63B2}" type="parTrans" cxnId="{9C39FA22-E1D4-4DC4-8120-F7C7A2F4C3C5}">
      <dgm:prSet/>
      <dgm:spPr/>
      <dgm:t>
        <a:bodyPr/>
        <a:lstStyle/>
        <a:p>
          <a:endParaRPr lang="ru-RU"/>
        </a:p>
      </dgm:t>
    </dgm:pt>
    <dgm:pt modelId="{3E7E9BF1-1EAC-4A79-8556-05E827EBF8E1}" type="sibTrans" cxnId="{9C39FA22-E1D4-4DC4-8120-F7C7A2F4C3C5}">
      <dgm:prSet/>
      <dgm:spPr/>
      <dgm:t>
        <a:bodyPr/>
        <a:lstStyle/>
        <a:p>
          <a:endParaRPr lang="ru-RU"/>
        </a:p>
      </dgm:t>
    </dgm:pt>
    <dgm:pt modelId="{26543BF1-0758-45EE-8F20-38F563AE3E7E}" type="pres">
      <dgm:prSet presAssocID="{9AE9D677-5CF8-4248-AB4B-928395512E31}" presName="linear" presStyleCnt="0">
        <dgm:presLayoutVars>
          <dgm:animLvl val="lvl"/>
          <dgm:resizeHandles val="exact"/>
        </dgm:presLayoutVars>
      </dgm:prSet>
      <dgm:spPr/>
    </dgm:pt>
    <dgm:pt modelId="{D8E17582-995A-467B-9B2A-EA8CE35AF4E9}" type="pres">
      <dgm:prSet presAssocID="{EFA1EFE5-7A26-4306-BF3D-0BA161CCE92F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80785AD-7ED5-44AF-A169-27C7D19822A2}" type="pres">
      <dgm:prSet presAssocID="{EFA1EFE5-7A26-4306-BF3D-0BA161CCE92F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93014C2-09EF-4237-99F6-A41510DB677A}" type="pres">
      <dgm:prSet presAssocID="{AA3C4255-ADA4-4E03-B32A-D4ADD2421268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AF0C7D2-DF2D-46B8-BB89-22DF01805EDE}" type="pres">
      <dgm:prSet presAssocID="{AA3C4255-ADA4-4E03-B32A-D4ADD2421268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2835EC1-B845-4A62-B8FA-3ADAD8780C5A}" type="presOf" srcId="{678AE896-6216-4F2E-9390-160032B4E13C}" destId="{280785AD-7ED5-44AF-A169-27C7D19822A2}" srcOrd="0" destOrd="0" presId="urn:microsoft.com/office/officeart/2005/8/layout/vList2"/>
    <dgm:cxn modelId="{B025C6A5-E5CC-494B-908F-77BBB24F63FD}" type="presOf" srcId="{AA3C4255-ADA4-4E03-B32A-D4ADD2421268}" destId="{D93014C2-09EF-4237-99F6-A41510DB677A}" srcOrd="0" destOrd="0" presId="urn:microsoft.com/office/officeart/2005/8/layout/vList2"/>
    <dgm:cxn modelId="{9C39FA22-E1D4-4DC4-8120-F7C7A2F4C3C5}" srcId="{AA3C4255-ADA4-4E03-B32A-D4ADD2421268}" destId="{E8EA85FB-3C5B-4F6A-A3BF-6F660B7FB22E}" srcOrd="0" destOrd="0" parTransId="{75F12A8E-D2EF-4C00-A62B-EF1659BF63B2}" sibTransId="{3E7E9BF1-1EAC-4A79-8556-05E827EBF8E1}"/>
    <dgm:cxn modelId="{554B2E37-8B5D-48BB-939E-5E5DF73F9CF7}" type="presOf" srcId="{E8EA85FB-3C5B-4F6A-A3BF-6F660B7FB22E}" destId="{6AF0C7D2-DF2D-46B8-BB89-22DF01805EDE}" srcOrd="0" destOrd="0" presId="urn:microsoft.com/office/officeart/2005/8/layout/vList2"/>
    <dgm:cxn modelId="{57D65834-CECC-4E93-8556-42D3CEF69F0D}" srcId="{EFA1EFE5-7A26-4306-BF3D-0BA161CCE92F}" destId="{678AE896-6216-4F2E-9390-160032B4E13C}" srcOrd="0" destOrd="0" parTransId="{2FA87C26-AC7C-4CB7-9B83-292244E7234E}" sibTransId="{9ABB8957-365A-4E91-A188-341E8846B840}"/>
    <dgm:cxn modelId="{64E1A277-84CA-4868-BED4-5FF4EB61E849}" type="presOf" srcId="{EFA1EFE5-7A26-4306-BF3D-0BA161CCE92F}" destId="{D8E17582-995A-467B-9B2A-EA8CE35AF4E9}" srcOrd="0" destOrd="0" presId="urn:microsoft.com/office/officeart/2005/8/layout/vList2"/>
    <dgm:cxn modelId="{A29D93E5-4E7B-4C6D-A1AE-CB18C5D0D561}" srcId="{9AE9D677-5CF8-4248-AB4B-928395512E31}" destId="{AA3C4255-ADA4-4E03-B32A-D4ADD2421268}" srcOrd="1" destOrd="0" parTransId="{087263DB-607D-4A2E-9827-2C643DF93518}" sibTransId="{FA546AD5-E7E5-41C9-9FCA-379D7F72AE07}"/>
    <dgm:cxn modelId="{84DB66F9-0730-4D30-86B2-A193DA461516}" srcId="{9AE9D677-5CF8-4248-AB4B-928395512E31}" destId="{EFA1EFE5-7A26-4306-BF3D-0BA161CCE92F}" srcOrd="0" destOrd="0" parTransId="{56BCEC5E-5216-4AC3-AF88-254501B8DF83}" sibTransId="{9D106486-154F-4BC3-B28D-2C7219323A49}"/>
    <dgm:cxn modelId="{24601578-AA8A-4D33-A272-407FDA47180F}" type="presOf" srcId="{9AE9D677-5CF8-4248-AB4B-928395512E31}" destId="{26543BF1-0758-45EE-8F20-38F563AE3E7E}" srcOrd="0" destOrd="0" presId="urn:microsoft.com/office/officeart/2005/8/layout/vList2"/>
    <dgm:cxn modelId="{A5B80D51-CF69-4F97-B03B-2B6756D5E0F6}" type="presParOf" srcId="{26543BF1-0758-45EE-8F20-38F563AE3E7E}" destId="{D8E17582-995A-467B-9B2A-EA8CE35AF4E9}" srcOrd="0" destOrd="0" presId="urn:microsoft.com/office/officeart/2005/8/layout/vList2"/>
    <dgm:cxn modelId="{9B9D7E1F-0A54-4670-A022-D60A5CF47A55}" type="presParOf" srcId="{26543BF1-0758-45EE-8F20-38F563AE3E7E}" destId="{280785AD-7ED5-44AF-A169-27C7D19822A2}" srcOrd="1" destOrd="0" presId="urn:microsoft.com/office/officeart/2005/8/layout/vList2"/>
    <dgm:cxn modelId="{BD963682-E0FC-4B16-8181-7EE4720FD81A}" type="presParOf" srcId="{26543BF1-0758-45EE-8F20-38F563AE3E7E}" destId="{D93014C2-09EF-4237-99F6-A41510DB677A}" srcOrd="2" destOrd="0" presId="urn:microsoft.com/office/officeart/2005/8/layout/vList2"/>
    <dgm:cxn modelId="{7F349F7B-BE33-4ACC-B8A3-EE5EABA88BC0}" type="presParOf" srcId="{26543BF1-0758-45EE-8F20-38F563AE3E7E}" destId="{6AF0C7D2-DF2D-46B8-BB89-22DF01805EDE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36F2B071-936D-4637-B232-A6987AB98338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94575AA-2525-4587-830B-BC2A29BCCC3A}">
      <dgm:prSet phldrT="[Текст]"/>
      <dgm:spPr/>
      <dgm:t>
        <a:bodyPr/>
        <a:lstStyle/>
        <a:p>
          <a:r>
            <a:rPr lang="ru-RU" dirty="0" smtClean="0"/>
            <a:t>Состояние речевых средств</a:t>
          </a:r>
          <a:endParaRPr lang="ru-RU" dirty="0"/>
        </a:p>
      </dgm:t>
    </dgm:pt>
    <dgm:pt modelId="{5BFDED16-9677-4EF4-B63A-7FA7B873ACC9}" type="parTrans" cxnId="{5AA6F4D9-2F58-4889-A1C3-2F70644E8138}">
      <dgm:prSet/>
      <dgm:spPr/>
      <dgm:t>
        <a:bodyPr/>
        <a:lstStyle/>
        <a:p>
          <a:endParaRPr lang="ru-RU"/>
        </a:p>
      </dgm:t>
    </dgm:pt>
    <dgm:pt modelId="{1549D490-97D8-4DF0-B50C-3A0A650CA7A4}" type="sibTrans" cxnId="{5AA6F4D9-2F58-4889-A1C3-2F70644E8138}">
      <dgm:prSet/>
      <dgm:spPr/>
      <dgm:t>
        <a:bodyPr/>
        <a:lstStyle/>
        <a:p>
          <a:endParaRPr lang="ru-RU"/>
        </a:p>
      </dgm:t>
    </dgm:pt>
    <dgm:pt modelId="{CA218E60-3EEB-4A04-8F91-7696E81565BF}">
      <dgm:prSet phldrT="[Текст]" phldr="1"/>
      <dgm:spPr/>
      <dgm:t>
        <a:bodyPr/>
        <a:lstStyle/>
        <a:p>
          <a:endParaRPr lang="ru-RU"/>
        </a:p>
      </dgm:t>
    </dgm:pt>
    <dgm:pt modelId="{D36DE4AD-E019-4255-A205-9CDBE5378FC2}" type="parTrans" cxnId="{46824402-97F1-48C0-9BDA-AFD7D37686D4}">
      <dgm:prSet/>
      <dgm:spPr/>
      <dgm:t>
        <a:bodyPr/>
        <a:lstStyle/>
        <a:p>
          <a:endParaRPr lang="ru-RU"/>
        </a:p>
      </dgm:t>
    </dgm:pt>
    <dgm:pt modelId="{474407A8-3447-497E-9CDE-C810E9B25814}" type="sibTrans" cxnId="{46824402-97F1-48C0-9BDA-AFD7D37686D4}">
      <dgm:prSet/>
      <dgm:spPr/>
      <dgm:t>
        <a:bodyPr/>
        <a:lstStyle/>
        <a:p>
          <a:endParaRPr lang="ru-RU"/>
        </a:p>
      </dgm:t>
    </dgm:pt>
    <dgm:pt modelId="{407093EE-6FCA-4278-B639-C21708ED1E6C}">
      <dgm:prSet phldrT="[Текст]"/>
      <dgm:spPr/>
      <dgm:t>
        <a:bodyPr/>
        <a:lstStyle/>
        <a:p>
          <a:r>
            <a:rPr lang="ru-RU" dirty="0" smtClean="0"/>
            <a:t>Свойства речевого поведения</a:t>
          </a:r>
          <a:endParaRPr lang="ru-RU" dirty="0"/>
        </a:p>
      </dgm:t>
    </dgm:pt>
    <dgm:pt modelId="{8E2F6D47-5E28-4D32-A86E-B6C3688AFA59}" type="parTrans" cxnId="{B054FF2E-CC85-4E7A-809C-6B377C4E3C49}">
      <dgm:prSet/>
      <dgm:spPr/>
      <dgm:t>
        <a:bodyPr/>
        <a:lstStyle/>
        <a:p>
          <a:endParaRPr lang="ru-RU"/>
        </a:p>
      </dgm:t>
    </dgm:pt>
    <dgm:pt modelId="{3778107D-68D7-4F9B-A10B-1673036013DF}" type="sibTrans" cxnId="{B054FF2E-CC85-4E7A-809C-6B377C4E3C49}">
      <dgm:prSet/>
      <dgm:spPr/>
      <dgm:t>
        <a:bodyPr/>
        <a:lstStyle/>
        <a:p>
          <a:endParaRPr lang="ru-RU"/>
        </a:p>
      </dgm:t>
    </dgm:pt>
    <dgm:pt modelId="{031C1E78-1A82-43A5-B756-CBE102991A35}">
      <dgm:prSet phldrT="[Текст]" phldr="1"/>
      <dgm:spPr/>
      <dgm:t>
        <a:bodyPr/>
        <a:lstStyle/>
        <a:p>
          <a:endParaRPr lang="ru-RU"/>
        </a:p>
      </dgm:t>
    </dgm:pt>
    <dgm:pt modelId="{E6C80ED9-20E4-423B-9B74-ADF0EC5FC7E9}" type="parTrans" cxnId="{2A94C902-9025-4FED-B6C2-C143A0DF6EE9}">
      <dgm:prSet/>
      <dgm:spPr/>
      <dgm:t>
        <a:bodyPr/>
        <a:lstStyle/>
        <a:p>
          <a:endParaRPr lang="ru-RU"/>
        </a:p>
      </dgm:t>
    </dgm:pt>
    <dgm:pt modelId="{DF8BA10F-8A56-40F9-9A1A-74C9AE15F479}" type="sibTrans" cxnId="{2A94C902-9025-4FED-B6C2-C143A0DF6EE9}">
      <dgm:prSet/>
      <dgm:spPr/>
      <dgm:t>
        <a:bodyPr/>
        <a:lstStyle/>
        <a:p>
          <a:endParaRPr lang="ru-RU"/>
        </a:p>
      </dgm:t>
    </dgm:pt>
    <dgm:pt modelId="{67D6D81B-6A39-4B31-B260-15AC639A10A5}" type="pres">
      <dgm:prSet presAssocID="{36F2B071-936D-4637-B232-A6987AB9833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F46A2BE-546F-4F05-80BE-59E838357459}" type="pres">
      <dgm:prSet presAssocID="{494575AA-2525-4587-830B-BC2A29BCCC3A}" presName="parentText" presStyleLbl="node1" presStyleIdx="0" presStyleCnt="2" custLinFactNeighborX="-391" custLinFactNeighborY="6607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9BB2F55-C251-41E7-8F8D-93E1F4216284}" type="pres">
      <dgm:prSet presAssocID="{494575AA-2525-4587-830B-BC2A29BCCC3A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95EFBD2-AC5E-442F-8AB9-43C400365E7D}" type="pres">
      <dgm:prSet presAssocID="{407093EE-6FCA-4278-B639-C21708ED1E6C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2FBDC76-EE60-4F52-BAC7-F0E8B0B9FF15}" type="pres">
      <dgm:prSet presAssocID="{407093EE-6FCA-4278-B639-C21708ED1E6C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6824402-97F1-48C0-9BDA-AFD7D37686D4}" srcId="{494575AA-2525-4587-830B-BC2A29BCCC3A}" destId="{CA218E60-3EEB-4A04-8F91-7696E81565BF}" srcOrd="0" destOrd="0" parTransId="{D36DE4AD-E019-4255-A205-9CDBE5378FC2}" sibTransId="{474407A8-3447-497E-9CDE-C810E9B25814}"/>
    <dgm:cxn modelId="{6233BDF4-4D1B-417B-92A7-E49F3434DD9E}" type="presOf" srcId="{36F2B071-936D-4637-B232-A6987AB98338}" destId="{67D6D81B-6A39-4B31-B260-15AC639A10A5}" srcOrd="0" destOrd="0" presId="urn:microsoft.com/office/officeart/2005/8/layout/vList2"/>
    <dgm:cxn modelId="{FC1040F9-80CB-4EA1-8540-C33295D481F1}" type="presOf" srcId="{CA218E60-3EEB-4A04-8F91-7696E81565BF}" destId="{E9BB2F55-C251-41E7-8F8D-93E1F4216284}" srcOrd="0" destOrd="0" presId="urn:microsoft.com/office/officeart/2005/8/layout/vList2"/>
    <dgm:cxn modelId="{2A94C902-9025-4FED-B6C2-C143A0DF6EE9}" srcId="{407093EE-6FCA-4278-B639-C21708ED1E6C}" destId="{031C1E78-1A82-43A5-B756-CBE102991A35}" srcOrd="0" destOrd="0" parTransId="{E6C80ED9-20E4-423B-9B74-ADF0EC5FC7E9}" sibTransId="{DF8BA10F-8A56-40F9-9A1A-74C9AE15F479}"/>
    <dgm:cxn modelId="{6701C357-3198-416F-A712-F9F290A9570A}" type="presOf" srcId="{031C1E78-1A82-43A5-B756-CBE102991A35}" destId="{02FBDC76-EE60-4F52-BAC7-F0E8B0B9FF15}" srcOrd="0" destOrd="0" presId="urn:microsoft.com/office/officeart/2005/8/layout/vList2"/>
    <dgm:cxn modelId="{B054FF2E-CC85-4E7A-809C-6B377C4E3C49}" srcId="{36F2B071-936D-4637-B232-A6987AB98338}" destId="{407093EE-6FCA-4278-B639-C21708ED1E6C}" srcOrd="1" destOrd="0" parTransId="{8E2F6D47-5E28-4D32-A86E-B6C3688AFA59}" sibTransId="{3778107D-68D7-4F9B-A10B-1673036013DF}"/>
    <dgm:cxn modelId="{5AA6F4D9-2F58-4889-A1C3-2F70644E8138}" srcId="{36F2B071-936D-4637-B232-A6987AB98338}" destId="{494575AA-2525-4587-830B-BC2A29BCCC3A}" srcOrd="0" destOrd="0" parTransId="{5BFDED16-9677-4EF4-B63A-7FA7B873ACC9}" sibTransId="{1549D490-97D8-4DF0-B50C-3A0A650CA7A4}"/>
    <dgm:cxn modelId="{ACD1BA72-7CDF-4073-9FF3-07FC77B1265A}" type="presOf" srcId="{494575AA-2525-4587-830B-BC2A29BCCC3A}" destId="{2F46A2BE-546F-4F05-80BE-59E838357459}" srcOrd="0" destOrd="0" presId="urn:microsoft.com/office/officeart/2005/8/layout/vList2"/>
    <dgm:cxn modelId="{0547CE66-A0C3-423A-88DE-6A4F9AFFEDB2}" type="presOf" srcId="{407093EE-6FCA-4278-B639-C21708ED1E6C}" destId="{C95EFBD2-AC5E-442F-8AB9-43C400365E7D}" srcOrd="0" destOrd="0" presId="urn:microsoft.com/office/officeart/2005/8/layout/vList2"/>
    <dgm:cxn modelId="{7E8924ED-C8A6-4622-9F7F-7BC85F1142FC}" type="presParOf" srcId="{67D6D81B-6A39-4B31-B260-15AC639A10A5}" destId="{2F46A2BE-546F-4F05-80BE-59E838357459}" srcOrd="0" destOrd="0" presId="urn:microsoft.com/office/officeart/2005/8/layout/vList2"/>
    <dgm:cxn modelId="{96C76FD2-500B-47BC-96C1-05D8F7EF061C}" type="presParOf" srcId="{67D6D81B-6A39-4B31-B260-15AC639A10A5}" destId="{E9BB2F55-C251-41E7-8F8D-93E1F4216284}" srcOrd="1" destOrd="0" presId="urn:microsoft.com/office/officeart/2005/8/layout/vList2"/>
    <dgm:cxn modelId="{DC81238B-453E-4E55-BC0F-A0493A7200A4}" type="presParOf" srcId="{67D6D81B-6A39-4B31-B260-15AC639A10A5}" destId="{C95EFBD2-AC5E-442F-8AB9-43C400365E7D}" srcOrd="2" destOrd="0" presId="urn:microsoft.com/office/officeart/2005/8/layout/vList2"/>
    <dgm:cxn modelId="{305FA9EC-7B1B-4264-A398-609DEEBA13D3}" type="presParOf" srcId="{67D6D81B-6A39-4B31-B260-15AC639A10A5}" destId="{02FBDC76-EE60-4F52-BAC7-F0E8B0B9FF15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DDE665DC-09EA-4A18-8F21-56BB7CDB98CE}" type="doc">
      <dgm:prSet loTypeId="urn:microsoft.com/office/officeart/2005/8/layout/pyramid2" loCatId="pyramid" qsTypeId="urn:microsoft.com/office/officeart/2005/8/quickstyle/simple1" qsCatId="simple" csTypeId="urn:microsoft.com/office/officeart/2005/8/colors/accent1_2" csCatId="accent1" phldr="1"/>
      <dgm:spPr/>
    </dgm:pt>
    <dgm:pt modelId="{E9C27218-9184-414D-9D4D-6F76420F5D1E}">
      <dgm:prSet phldrT="[Текст]"/>
      <dgm:spPr/>
      <dgm:t>
        <a:bodyPr/>
        <a:lstStyle/>
        <a:p>
          <a:r>
            <a:rPr lang="ru-RU" dirty="0" smtClean="0"/>
            <a:t>Фонетическое недоразвитие</a:t>
          </a:r>
          <a:endParaRPr lang="ru-RU" dirty="0"/>
        </a:p>
      </dgm:t>
    </dgm:pt>
    <dgm:pt modelId="{1A4D9746-9943-48DD-A974-8E984EFE7EC5}" type="parTrans" cxnId="{39D655B5-15B9-427B-AC1D-63E77B23886C}">
      <dgm:prSet/>
      <dgm:spPr/>
      <dgm:t>
        <a:bodyPr/>
        <a:lstStyle/>
        <a:p>
          <a:endParaRPr lang="ru-RU"/>
        </a:p>
      </dgm:t>
    </dgm:pt>
    <dgm:pt modelId="{6AE0CC0B-FFA8-409D-A677-5A8E342F2BD7}" type="sibTrans" cxnId="{39D655B5-15B9-427B-AC1D-63E77B23886C}">
      <dgm:prSet/>
      <dgm:spPr/>
      <dgm:t>
        <a:bodyPr/>
        <a:lstStyle/>
        <a:p>
          <a:endParaRPr lang="ru-RU"/>
        </a:p>
      </dgm:t>
    </dgm:pt>
    <dgm:pt modelId="{12CDF0DB-EC65-41F4-BCA0-EF180A5CA4E8}">
      <dgm:prSet phldrT="[Текст]"/>
      <dgm:spPr/>
      <dgm:t>
        <a:bodyPr/>
        <a:lstStyle/>
        <a:p>
          <a:r>
            <a:rPr lang="ru-RU" dirty="0" smtClean="0"/>
            <a:t>Фонетико-фонематическое недоразвитие</a:t>
          </a:r>
          <a:endParaRPr lang="ru-RU" dirty="0"/>
        </a:p>
      </dgm:t>
    </dgm:pt>
    <dgm:pt modelId="{E655312C-22F1-455C-818C-371956BE90E9}" type="parTrans" cxnId="{EEA36982-09A4-49B0-BBC9-0FF7DCC498EE}">
      <dgm:prSet/>
      <dgm:spPr/>
      <dgm:t>
        <a:bodyPr/>
        <a:lstStyle/>
        <a:p>
          <a:endParaRPr lang="ru-RU"/>
        </a:p>
      </dgm:t>
    </dgm:pt>
    <dgm:pt modelId="{D429539F-802E-4983-A95D-C123E74C10C9}" type="sibTrans" cxnId="{EEA36982-09A4-49B0-BBC9-0FF7DCC498EE}">
      <dgm:prSet/>
      <dgm:spPr/>
      <dgm:t>
        <a:bodyPr/>
        <a:lstStyle/>
        <a:p>
          <a:endParaRPr lang="ru-RU"/>
        </a:p>
      </dgm:t>
    </dgm:pt>
    <dgm:pt modelId="{506278AD-B487-42BA-B96E-35A6351A2DCE}">
      <dgm:prSet phldrT="[Текст]"/>
      <dgm:spPr/>
      <dgm:t>
        <a:bodyPr/>
        <a:lstStyle/>
        <a:p>
          <a:r>
            <a:rPr lang="ru-RU" smtClean="0"/>
            <a:t>Общее недоразвитие речи</a:t>
          </a:r>
          <a:endParaRPr lang="ru-RU" dirty="0"/>
        </a:p>
      </dgm:t>
    </dgm:pt>
    <dgm:pt modelId="{8E03D56C-8FF9-4793-9692-E2631666DBA9}" type="parTrans" cxnId="{0E541E92-2517-46B1-9386-D20CF293969E}">
      <dgm:prSet/>
      <dgm:spPr/>
      <dgm:t>
        <a:bodyPr/>
        <a:lstStyle/>
        <a:p>
          <a:endParaRPr lang="ru-RU"/>
        </a:p>
      </dgm:t>
    </dgm:pt>
    <dgm:pt modelId="{3D183140-FCCA-4382-B294-B01C8FB5E2D5}" type="sibTrans" cxnId="{0E541E92-2517-46B1-9386-D20CF293969E}">
      <dgm:prSet/>
      <dgm:spPr/>
      <dgm:t>
        <a:bodyPr/>
        <a:lstStyle/>
        <a:p>
          <a:endParaRPr lang="ru-RU"/>
        </a:p>
      </dgm:t>
    </dgm:pt>
    <dgm:pt modelId="{82AC5EB2-C82C-48E7-8401-561E79BC06ED}" type="pres">
      <dgm:prSet presAssocID="{DDE665DC-09EA-4A18-8F21-56BB7CDB98CE}" presName="compositeShape" presStyleCnt="0">
        <dgm:presLayoutVars>
          <dgm:dir/>
          <dgm:resizeHandles/>
        </dgm:presLayoutVars>
      </dgm:prSet>
      <dgm:spPr/>
    </dgm:pt>
    <dgm:pt modelId="{8D785C00-E8FA-4A81-B798-612B64530961}" type="pres">
      <dgm:prSet presAssocID="{DDE665DC-09EA-4A18-8F21-56BB7CDB98CE}" presName="pyramid" presStyleLbl="node1" presStyleIdx="0" presStyleCnt="1"/>
      <dgm:spPr/>
    </dgm:pt>
    <dgm:pt modelId="{9473043D-DA24-4E07-956F-EDFC9651DE79}" type="pres">
      <dgm:prSet presAssocID="{DDE665DC-09EA-4A18-8F21-56BB7CDB98CE}" presName="theList" presStyleCnt="0"/>
      <dgm:spPr/>
    </dgm:pt>
    <dgm:pt modelId="{21DE0739-6CA2-4704-8BE5-27C64F512D67}" type="pres">
      <dgm:prSet presAssocID="{E9C27218-9184-414D-9D4D-6F76420F5D1E}" presName="aNode" presStyleLbl="fgAcc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5247CB1-92DB-4434-A351-B90893A4670E}" type="pres">
      <dgm:prSet presAssocID="{E9C27218-9184-414D-9D4D-6F76420F5D1E}" presName="aSpace" presStyleCnt="0"/>
      <dgm:spPr/>
    </dgm:pt>
    <dgm:pt modelId="{B3FA8A25-403F-474D-9E52-C54B2E02B978}" type="pres">
      <dgm:prSet presAssocID="{12CDF0DB-EC65-41F4-BCA0-EF180A5CA4E8}" presName="aNode" presStyleLbl="fgAcc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8F935FA-4365-4C1B-9635-F5C15813E3D1}" type="pres">
      <dgm:prSet presAssocID="{12CDF0DB-EC65-41F4-BCA0-EF180A5CA4E8}" presName="aSpace" presStyleCnt="0"/>
      <dgm:spPr/>
    </dgm:pt>
    <dgm:pt modelId="{00F0087B-5030-43B7-84AC-D11C793C5413}" type="pres">
      <dgm:prSet presAssocID="{506278AD-B487-42BA-B96E-35A6351A2DCE}" presName="aNode" presStyleLbl="fgAcc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EE71B2-C169-4655-9632-A6300CC3D326}" type="pres">
      <dgm:prSet presAssocID="{506278AD-B487-42BA-B96E-35A6351A2DCE}" presName="aSpace" presStyleCnt="0"/>
      <dgm:spPr/>
    </dgm:pt>
  </dgm:ptLst>
  <dgm:cxnLst>
    <dgm:cxn modelId="{AB59F410-E129-4C1B-9C73-BF28B5CFA4E6}" type="presOf" srcId="{12CDF0DB-EC65-41F4-BCA0-EF180A5CA4E8}" destId="{B3FA8A25-403F-474D-9E52-C54B2E02B978}" srcOrd="0" destOrd="0" presId="urn:microsoft.com/office/officeart/2005/8/layout/pyramid2"/>
    <dgm:cxn modelId="{EEA36982-09A4-49B0-BBC9-0FF7DCC498EE}" srcId="{DDE665DC-09EA-4A18-8F21-56BB7CDB98CE}" destId="{12CDF0DB-EC65-41F4-BCA0-EF180A5CA4E8}" srcOrd="1" destOrd="0" parTransId="{E655312C-22F1-455C-818C-371956BE90E9}" sibTransId="{D429539F-802E-4983-A95D-C123E74C10C9}"/>
    <dgm:cxn modelId="{0E541E92-2517-46B1-9386-D20CF293969E}" srcId="{DDE665DC-09EA-4A18-8F21-56BB7CDB98CE}" destId="{506278AD-B487-42BA-B96E-35A6351A2DCE}" srcOrd="2" destOrd="0" parTransId="{8E03D56C-8FF9-4793-9692-E2631666DBA9}" sibTransId="{3D183140-FCCA-4382-B294-B01C8FB5E2D5}"/>
    <dgm:cxn modelId="{148D2D5D-1A09-48E7-A9E5-9589CFC75CA1}" type="presOf" srcId="{E9C27218-9184-414D-9D4D-6F76420F5D1E}" destId="{21DE0739-6CA2-4704-8BE5-27C64F512D67}" srcOrd="0" destOrd="0" presId="urn:microsoft.com/office/officeart/2005/8/layout/pyramid2"/>
    <dgm:cxn modelId="{39D655B5-15B9-427B-AC1D-63E77B23886C}" srcId="{DDE665DC-09EA-4A18-8F21-56BB7CDB98CE}" destId="{E9C27218-9184-414D-9D4D-6F76420F5D1E}" srcOrd="0" destOrd="0" parTransId="{1A4D9746-9943-48DD-A974-8E984EFE7EC5}" sibTransId="{6AE0CC0B-FFA8-409D-A677-5A8E342F2BD7}"/>
    <dgm:cxn modelId="{F954AD89-2F45-411A-BB2E-612436BFF52C}" type="presOf" srcId="{DDE665DC-09EA-4A18-8F21-56BB7CDB98CE}" destId="{82AC5EB2-C82C-48E7-8401-561E79BC06ED}" srcOrd="0" destOrd="0" presId="urn:microsoft.com/office/officeart/2005/8/layout/pyramid2"/>
    <dgm:cxn modelId="{A21BC1E2-7FCC-412E-BC63-34D19A9D077F}" type="presOf" srcId="{506278AD-B487-42BA-B96E-35A6351A2DCE}" destId="{00F0087B-5030-43B7-84AC-D11C793C5413}" srcOrd="0" destOrd="0" presId="urn:microsoft.com/office/officeart/2005/8/layout/pyramid2"/>
    <dgm:cxn modelId="{8C5C8A8B-3184-4C68-AF2B-09D576020081}" type="presParOf" srcId="{82AC5EB2-C82C-48E7-8401-561E79BC06ED}" destId="{8D785C00-E8FA-4A81-B798-612B64530961}" srcOrd="0" destOrd="0" presId="urn:microsoft.com/office/officeart/2005/8/layout/pyramid2"/>
    <dgm:cxn modelId="{F974FD06-832C-472F-ADCC-B083F9678B15}" type="presParOf" srcId="{82AC5EB2-C82C-48E7-8401-561E79BC06ED}" destId="{9473043D-DA24-4E07-956F-EDFC9651DE79}" srcOrd="1" destOrd="0" presId="urn:microsoft.com/office/officeart/2005/8/layout/pyramid2"/>
    <dgm:cxn modelId="{B95AB137-3A9F-4CB4-A4DB-20EA20C9B1D0}" type="presParOf" srcId="{9473043D-DA24-4E07-956F-EDFC9651DE79}" destId="{21DE0739-6CA2-4704-8BE5-27C64F512D67}" srcOrd="0" destOrd="0" presId="urn:microsoft.com/office/officeart/2005/8/layout/pyramid2"/>
    <dgm:cxn modelId="{117BE7AA-43C6-4A07-BECF-1797C5CAD193}" type="presParOf" srcId="{9473043D-DA24-4E07-956F-EDFC9651DE79}" destId="{75247CB1-92DB-4434-A351-B90893A4670E}" srcOrd="1" destOrd="0" presId="urn:microsoft.com/office/officeart/2005/8/layout/pyramid2"/>
    <dgm:cxn modelId="{C7EC284E-BAC5-44F1-BE44-D61CE50F5C04}" type="presParOf" srcId="{9473043D-DA24-4E07-956F-EDFC9651DE79}" destId="{B3FA8A25-403F-474D-9E52-C54B2E02B978}" srcOrd="2" destOrd="0" presId="urn:microsoft.com/office/officeart/2005/8/layout/pyramid2"/>
    <dgm:cxn modelId="{493155B6-DACC-4F5B-8779-84485DE743DB}" type="presParOf" srcId="{9473043D-DA24-4E07-956F-EDFC9651DE79}" destId="{78F935FA-4365-4C1B-9635-F5C15813E3D1}" srcOrd="3" destOrd="0" presId="urn:microsoft.com/office/officeart/2005/8/layout/pyramid2"/>
    <dgm:cxn modelId="{D7EF47E2-5367-4C32-A1FB-1AA22276F191}" type="presParOf" srcId="{9473043D-DA24-4E07-956F-EDFC9651DE79}" destId="{00F0087B-5030-43B7-84AC-D11C793C5413}" srcOrd="4" destOrd="0" presId="urn:microsoft.com/office/officeart/2005/8/layout/pyramid2"/>
    <dgm:cxn modelId="{A5620B40-BAAE-4654-B5D8-F488DD484752}" type="presParOf" srcId="{9473043D-DA24-4E07-956F-EDFC9651DE79}" destId="{3CEE71B2-C169-4655-9632-A6300CC3D326}" srcOrd="5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93B306F7-7A54-4734-97E6-4FF37AACD985}" type="doc">
      <dgm:prSet loTypeId="urn:microsoft.com/office/officeart/2005/8/layout/pyramid1" loCatId="pyramid" qsTypeId="urn:microsoft.com/office/officeart/2005/8/quickstyle/simple1" qsCatId="simple" csTypeId="urn:microsoft.com/office/officeart/2005/8/colors/accent1_2" csCatId="accent1" phldr="1"/>
      <dgm:spPr/>
    </dgm:pt>
    <dgm:pt modelId="{8BB09C5D-F451-4FB6-A8F0-B9332955F71C}">
      <dgm:prSet phldrT="[Текст]"/>
      <dgm:spPr/>
      <dgm:t>
        <a:bodyPr/>
        <a:lstStyle/>
        <a:p>
          <a:r>
            <a:rPr lang="ru-RU" dirty="0" smtClean="0"/>
            <a:t>Регуляторные процессы</a:t>
          </a:r>
          <a:endParaRPr lang="ru-RU" dirty="0"/>
        </a:p>
      </dgm:t>
    </dgm:pt>
    <dgm:pt modelId="{8CB8AEE7-3476-4CCC-AE72-B0994C68492E}" type="parTrans" cxnId="{6FF4C7D6-7640-4607-9F60-45E9BD2D1E5A}">
      <dgm:prSet/>
      <dgm:spPr/>
      <dgm:t>
        <a:bodyPr/>
        <a:lstStyle/>
        <a:p>
          <a:endParaRPr lang="ru-RU"/>
        </a:p>
      </dgm:t>
    </dgm:pt>
    <dgm:pt modelId="{F02F48CF-352A-4978-81DF-1517E67B35FB}" type="sibTrans" cxnId="{6FF4C7D6-7640-4607-9F60-45E9BD2D1E5A}">
      <dgm:prSet/>
      <dgm:spPr/>
      <dgm:t>
        <a:bodyPr/>
        <a:lstStyle/>
        <a:p>
          <a:endParaRPr lang="ru-RU"/>
        </a:p>
      </dgm:t>
    </dgm:pt>
    <dgm:pt modelId="{333998DC-3AB4-425A-9DFD-4EEF62769798}">
      <dgm:prSet phldrT="[Текст]"/>
      <dgm:spPr/>
      <dgm:t>
        <a:bodyPr/>
        <a:lstStyle/>
        <a:p>
          <a:r>
            <a:rPr lang="ru-RU" dirty="0" smtClean="0"/>
            <a:t>Мотивация речевой деятельности</a:t>
          </a:r>
          <a:endParaRPr lang="ru-RU" dirty="0"/>
        </a:p>
      </dgm:t>
    </dgm:pt>
    <dgm:pt modelId="{1130987E-8D0E-49D0-A880-B73CF30F80D1}" type="parTrans" cxnId="{4303F889-493C-4537-A4B6-A374A4EA1733}">
      <dgm:prSet/>
      <dgm:spPr/>
      <dgm:t>
        <a:bodyPr/>
        <a:lstStyle/>
        <a:p>
          <a:endParaRPr lang="ru-RU"/>
        </a:p>
      </dgm:t>
    </dgm:pt>
    <dgm:pt modelId="{EDAA5471-3BDE-4610-85BA-F7E46345945D}" type="sibTrans" cxnId="{4303F889-493C-4537-A4B6-A374A4EA1733}">
      <dgm:prSet/>
      <dgm:spPr/>
      <dgm:t>
        <a:bodyPr/>
        <a:lstStyle/>
        <a:p>
          <a:endParaRPr lang="ru-RU"/>
        </a:p>
      </dgm:t>
    </dgm:pt>
    <dgm:pt modelId="{ED2891B0-A37B-4D4A-8D8C-8D259B7AD35C}">
      <dgm:prSet phldrT="[Текст]"/>
      <dgm:spPr/>
      <dgm:t>
        <a:bodyPr/>
        <a:lstStyle/>
        <a:p>
          <a:r>
            <a:rPr lang="ru-RU" dirty="0" smtClean="0"/>
            <a:t>Аффективно-волевая сфера</a:t>
          </a:r>
          <a:endParaRPr lang="ru-RU" dirty="0"/>
        </a:p>
      </dgm:t>
    </dgm:pt>
    <dgm:pt modelId="{4D800ED2-CA2C-45BC-86A8-E1BF6A477654}" type="parTrans" cxnId="{01C49E80-6760-453E-BBAF-25DAE450E9C0}">
      <dgm:prSet/>
      <dgm:spPr/>
      <dgm:t>
        <a:bodyPr/>
        <a:lstStyle/>
        <a:p>
          <a:endParaRPr lang="ru-RU"/>
        </a:p>
      </dgm:t>
    </dgm:pt>
    <dgm:pt modelId="{E31D4DB8-2238-4F98-AAA4-11CE9EDAC147}" type="sibTrans" cxnId="{01C49E80-6760-453E-BBAF-25DAE450E9C0}">
      <dgm:prSet/>
      <dgm:spPr/>
      <dgm:t>
        <a:bodyPr/>
        <a:lstStyle/>
        <a:p>
          <a:endParaRPr lang="ru-RU"/>
        </a:p>
      </dgm:t>
    </dgm:pt>
    <dgm:pt modelId="{9B049B34-2750-4334-A5E4-514DB5D26D99}" type="pres">
      <dgm:prSet presAssocID="{93B306F7-7A54-4734-97E6-4FF37AACD985}" presName="Name0" presStyleCnt="0">
        <dgm:presLayoutVars>
          <dgm:dir/>
          <dgm:animLvl val="lvl"/>
          <dgm:resizeHandles val="exact"/>
        </dgm:presLayoutVars>
      </dgm:prSet>
      <dgm:spPr/>
    </dgm:pt>
    <dgm:pt modelId="{1054E155-5A14-4805-A3E8-36E1C3B02B28}" type="pres">
      <dgm:prSet presAssocID="{8BB09C5D-F451-4FB6-A8F0-B9332955F71C}" presName="Name8" presStyleCnt="0"/>
      <dgm:spPr/>
    </dgm:pt>
    <dgm:pt modelId="{96ACC2D4-8306-49B8-82EB-4FB3F4F67148}" type="pres">
      <dgm:prSet presAssocID="{8BB09C5D-F451-4FB6-A8F0-B9332955F71C}" presName="level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520AA69-0A50-446C-A853-DCFCB7571B32}" type="pres">
      <dgm:prSet presAssocID="{8BB09C5D-F451-4FB6-A8F0-B9332955F71C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A0996F1-FC3B-4F80-8477-31F6A5DDFE28}" type="pres">
      <dgm:prSet presAssocID="{333998DC-3AB4-425A-9DFD-4EEF62769798}" presName="Name8" presStyleCnt="0"/>
      <dgm:spPr/>
    </dgm:pt>
    <dgm:pt modelId="{02532246-F539-42F1-9EA8-3D0A9BF87ACE}" type="pres">
      <dgm:prSet presAssocID="{333998DC-3AB4-425A-9DFD-4EEF62769798}" presName="level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07B95D9-F47D-4F9B-A0EB-AB986CA941F3}" type="pres">
      <dgm:prSet presAssocID="{333998DC-3AB4-425A-9DFD-4EEF62769798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EE3831E-8D32-4778-95A8-D68030EBE4C5}" type="pres">
      <dgm:prSet presAssocID="{ED2891B0-A37B-4D4A-8D8C-8D259B7AD35C}" presName="Name8" presStyleCnt="0"/>
      <dgm:spPr/>
    </dgm:pt>
    <dgm:pt modelId="{B2740E0D-CFA3-4FB6-A63C-04435BB6BCF1}" type="pres">
      <dgm:prSet presAssocID="{ED2891B0-A37B-4D4A-8D8C-8D259B7AD35C}" presName="level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7B79190-6C33-414B-A5C6-500A824AEB09}" type="pres">
      <dgm:prSet presAssocID="{ED2891B0-A37B-4D4A-8D8C-8D259B7AD35C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49F032A-ED9F-46DD-9FE6-9CE3C7DB4F82}" type="presOf" srcId="{8BB09C5D-F451-4FB6-A8F0-B9332955F71C}" destId="{96ACC2D4-8306-49B8-82EB-4FB3F4F67148}" srcOrd="0" destOrd="0" presId="urn:microsoft.com/office/officeart/2005/8/layout/pyramid1"/>
    <dgm:cxn modelId="{6FF4C7D6-7640-4607-9F60-45E9BD2D1E5A}" srcId="{93B306F7-7A54-4734-97E6-4FF37AACD985}" destId="{8BB09C5D-F451-4FB6-A8F0-B9332955F71C}" srcOrd="0" destOrd="0" parTransId="{8CB8AEE7-3476-4CCC-AE72-B0994C68492E}" sibTransId="{F02F48CF-352A-4978-81DF-1517E67B35FB}"/>
    <dgm:cxn modelId="{01C49E80-6760-453E-BBAF-25DAE450E9C0}" srcId="{93B306F7-7A54-4734-97E6-4FF37AACD985}" destId="{ED2891B0-A37B-4D4A-8D8C-8D259B7AD35C}" srcOrd="2" destOrd="0" parTransId="{4D800ED2-CA2C-45BC-86A8-E1BF6A477654}" sibTransId="{E31D4DB8-2238-4F98-AAA4-11CE9EDAC147}"/>
    <dgm:cxn modelId="{4303F889-493C-4537-A4B6-A374A4EA1733}" srcId="{93B306F7-7A54-4734-97E6-4FF37AACD985}" destId="{333998DC-3AB4-425A-9DFD-4EEF62769798}" srcOrd="1" destOrd="0" parTransId="{1130987E-8D0E-49D0-A880-B73CF30F80D1}" sibTransId="{EDAA5471-3BDE-4610-85BA-F7E46345945D}"/>
    <dgm:cxn modelId="{B8B4E97B-6B11-49B8-BFD6-A2789C4A0370}" type="presOf" srcId="{ED2891B0-A37B-4D4A-8D8C-8D259B7AD35C}" destId="{B2740E0D-CFA3-4FB6-A63C-04435BB6BCF1}" srcOrd="0" destOrd="0" presId="urn:microsoft.com/office/officeart/2005/8/layout/pyramid1"/>
    <dgm:cxn modelId="{96D819F1-C7FB-4CE6-906B-1EAA33630FEA}" type="presOf" srcId="{ED2891B0-A37B-4D4A-8D8C-8D259B7AD35C}" destId="{57B79190-6C33-414B-A5C6-500A824AEB09}" srcOrd="1" destOrd="0" presId="urn:microsoft.com/office/officeart/2005/8/layout/pyramid1"/>
    <dgm:cxn modelId="{17E36A2C-3DCA-451E-AB26-FD8B609C4EFA}" type="presOf" srcId="{333998DC-3AB4-425A-9DFD-4EEF62769798}" destId="{307B95D9-F47D-4F9B-A0EB-AB986CA941F3}" srcOrd="1" destOrd="0" presId="urn:microsoft.com/office/officeart/2005/8/layout/pyramid1"/>
    <dgm:cxn modelId="{3D5E9051-EB3C-4334-968E-FB79FD276B6E}" type="presOf" srcId="{333998DC-3AB4-425A-9DFD-4EEF62769798}" destId="{02532246-F539-42F1-9EA8-3D0A9BF87ACE}" srcOrd="0" destOrd="0" presId="urn:microsoft.com/office/officeart/2005/8/layout/pyramid1"/>
    <dgm:cxn modelId="{24D310CC-F794-4857-B80F-29E6B1C121DC}" type="presOf" srcId="{8BB09C5D-F451-4FB6-A8F0-B9332955F71C}" destId="{4520AA69-0A50-446C-A853-DCFCB7571B32}" srcOrd="1" destOrd="0" presId="urn:microsoft.com/office/officeart/2005/8/layout/pyramid1"/>
    <dgm:cxn modelId="{8BB609AA-D1F9-4AA6-BB17-A7CFC2010B6C}" type="presOf" srcId="{93B306F7-7A54-4734-97E6-4FF37AACD985}" destId="{9B049B34-2750-4334-A5E4-514DB5D26D99}" srcOrd="0" destOrd="0" presId="urn:microsoft.com/office/officeart/2005/8/layout/pyramid1"/>
    <dgm:cxn modelId="{3FFE7CDC-0448-474B-9139-77F82CAAB581}" type="presParOf" srcId="{9B049B34-2750-4334-A5E4-514DB5D26D99}" destId="{1054E155-5A14-4805-A3E8-36E1C3B02B28}" srcOrd="0" destOrd="0" presId="urn:microsoft.com/office/officeart/2005/8/layout/pyramid1"/>
    <dgm:cxn modelId="{A6E8B399-14BF-4626-B304-F3149A0EC549}" type="presParOf" srcId="{1054E155-5A14-4805-A3E8-36E1C3B02B28}" destId="{96ACC2D4-8306-49B8-82EB-4FB3F4F67148}" srcOrd="0" destOrd="0" presId="urn:microsoft.com/office/officeart/2005/8/layout/pyramid1"/>
    <dgm:cxn modelId="{8ED57909-7C9C-4B0F-A7FA-9944E3E64CF9}" type="presParOf" srcId="{1054E155-5A14-4805-A3E8-36E1C3B02B28}" destId="{4520AA69-0A50-446C-A853-DCFCB7571B32}" srcOrd="1" destOrd="0" presId="urn:microsoft.com/office/officeart/2005/8/layout/pyramid1"/>
    <dgm:cxn modelId="{B7A491A1-850C-45CD-A214-D0609AB4D194}" type="presParOf" srcId="{9B049B34-2750-4334-A5E4-514DB5D26D99}" destId="{AA0996F1-FC3B-4F80-8477-31F6A5DDFE28}" srcOrd="1" destOrd="0" presId="urn:microsoft.com/office/officeart/2005/8/layout/pyramid1"/>
    <dgm:cxn modelId="{F840C80D-09AD-41F6-A0EA-521FC862B696}" type="presParOf" srcId="{AA0996F1-FC3B-4F80-8477-31F6A5DDFE28}" destId="{02532246-F539-42F1-9EA8-3D0A9BF87ACE}" srcOrd="0" destOrd="0" presId="urn:microsoft.com/office/officeart/2005/8/layout/pyramid1"/>
    <dgm:cxn modelId="{5E0DC07E-8B39-4115-8692-C5C246A74224}" type="presParOf" srcId="{AA0996F1-FC3B-4F80-8477-31F6A5DDFE28}" destId="{307B95D9-F47D-4F9B-A0EB-AB986CA941F3}" srcOrd="1" destOrd="0" presId="urn:microsoft.com/office/officeart/2005/8/layout/pyramid1"/>
    <dgm:cxn modelId="{1A6E196E-C0C2-42CB-9288-F7A29BF4A024}" type="presParOf" srcId="{9B049B34-2750-4334-A5E4-514DB5D26D99}" destId="{7EE3831E-8D32-4778-95A8-D68030EBE4C5}" srcOrd="2" destOrd="0" presId="urn:microsoft.com/office/officeart/2005/8/layout/pyramid1"/>
    <dgm:cxn modelId="{55008DA7-6AB3-460A-9933-0DA76A28E08E}" type="presParOf" srcId="{7EE3831E-8D32-4778-95A8-D68030EBE4C5}" destId="{B2740E0D-CFA3-4FB6-A63C-04435BB6BCF1}" srcOrd="0" destOrd="0" presId="urn:microsoft.com/office/officeart/2005/8/layout/pyramid1"/>
    <dgm:cxn modelId="{D2B14D6B-7E6D-4AC3-BF9A-3EAA4C5C21FC}" type="presParOf" srcId="{7EE3831E-8D32-4778-95A8-D68030EBE4C5}" destId="{57B79190-6C33-414B-A5C6-500A824AEB09}" srcOrd="1" destOrd="0" presId="urn:microsoft.com/office/officeart/2005/8/layout/pyramid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B4B4071D-1BCE-4B6B-943A-C983F55D6301}" type="doc">
      <dgm:prSet loTypeId="urn:microsoft.com/office/officeart/2005/8/layout/hierarchy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8BFAD68F-779A-40DD-BFD4-467DD8FC26EC}">
      <dgm:prSet phldrT="[Текст]" custT="1"/>
      <dgm:spPr/>
      <dgm:t>
        <a:bodyPr/>
        <a:lstStyle/>
        <a:p>
          <a:r>
            <a:rPr lang="ru-RU" sz="4000" b="1" dirty="0" smtClean="0"/>
            <a:t>Актуально для логопедии</a:t>
          </a:r>
          <a:endParaRPr lang="ru-RU" sz="4000" b="1" dirty="0"/>
        </a:p>
      </dgm:t>
    </dgm:pt>
    <dgm:pt modelId="{7BD11855-5E7C-43D0-8A62-D428E46A4F2D}" type="parTrans" cxnId="{DDE237D6-D70F-41E7-A684-79F5F6AFD3B9}">
      <dgm:prSet/>
      <dgm:spPr/>
      <dgm:t>
        <a:bodyPr/>
        <a:lstStyle/>
        <a:p>
          <a:endParaRPr lang="ru-RU"/>
        </a:p>
      </dgm:t>
    </dgm:pt>
    <dgm:pt modelId="{1E8577FF-168A-4A9E-AD78-B4D855D32D9A}" type="sibTrans" cxnId="{DDE237D6-D70F-41E7-A684-79F5F6AFD3B9}">
      <dgm:prSet/>
      <dgm:spPr/>
      <dgm:t>
        <a:bodyPr/>
        <a:lstStyle/>
        <a:p>
          <a:endParaRPr lang="ru-RU"/>
        </a:p>
      </dgm:t>
    </dgm:pt>
    <dgm:pt modelId="{4CADCD5C-3DD7-456B-B76E-160088438891}">
      <dgm:prSet phldrT="[Текст]"/>
      <dgm:spPr/>
      <dgm:t>
        <a:bodyPr/>
        <a:lstStyle/>
        <a:p>
          <a:r>
            <a:rPr lang="ru-RU" dirty="0" smtClean="0"/>
            <a:t>Особая группа детей </a:t>
          </a:r>
          <a:endParaRPr lang="ru-RU" dirty="0"/>
        </a:p>
      </dgm:t>
    </dgm:pt>
    <dgm:pt modelId="{A0451CD1-CB08-49C5-972D-3CDF7D22E331}" type="parTrans" cxnId="{DE6CB7CB-5259-463E-8934-09679FD25A38}">
      <dgm:prSet/>
      <dgm:spPr/>
      <dgm:t>
        <a:bodyPr/>
        <a:lstStyle/>
        <a:p>
          <a:endParaRPr lang="ru-RU"/>
        </a:p>
      </dgm:t>
    </dgm:pt>
    <dgm:pt modelId="{881E5C8C-59F9-4051-8802-A25CC7D6B7DD}" type="sibTrans" cxnId="{DE6CB7CB-5259-463E-8934-09679FD25A38}">
      <dgm:prSet/>
      <dgm:spPr/>
      <dgm:t>
        <a:bodyPr/>
        <a:lstStyle/>
        <a:p>
          <a:endParaRPr lang="ru-RU"/>
        </a:p>
      </dgm:t>
    </dgm:pt>
    <dgm:pt modelId="{1C179B0C-2BD4-4DF2-BB67-A14920AAA4EF}">
      <dgm:prSet phldrT="[Текст]"/>
      <dgm:spPr/>
      <dgm:t>
        <a:bodyPr/>
        <a:lstStyle/>
        <a:p>
          <a:r>
            <a:rPr lang="ru-RU" dirty="0" smtClean="0"/>
            <a:t>Соотношение коммуникативных и речевых способностей</a:t>
          </a:r>
          <a:endParaRPr lang="ru-RU" dirty="0"/>
        </a:p>
      </dgm:t>
    </dgm:pt>
    <dgm:pt modelId="{6B2482F6-A495-4CDE-B8C4-73E54D2AC98E}" type="parTrans" cxnId="{260DB457-86BA-4091-AB70-A4D92F534254}">
      <dgm:prSet/>
      <dgm:spPr/>
      <dgm:t>
        <a:bodyPr/>
        <a:lstStyle/>
        <a:p>
          <a:endParaRPr lang="ru-RU"/>
        </a:p>
      </dgm:t>
    </dgm:pt>
    <dgm:pt modelId="{5CAC5D2C-70FD-4B62-A2BE-0B3BFC183D60}" type="sibTrans" cxnId="{260DB457-86BA-4091-AB70-A4D92F534254}">
      <dgm:prSet/>
      <dgm:spPr/>
      <dgm:t>
        <a:bodyPr/>
        <a:lstStyle/>
        <a:p>
          <a:endParaRPr lang="ru-RU"/>
        </a:p>
      </dgm:t>
    </dgm:pt>
    <dgm:pt modelId="{ED45CB21-C439-45B3-8662-DFCA8D6E2B18}" type="pres">
      <dgm:prSet presAssocID="{B4B4071D-1BCE-4B6B-943A-C983F55D6301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21BDE303-4BAB-4C54-BEFF-6F47154BD20B}" type="pres">
      <dgm:prSet presAssocID="{8BFAD68F-779A-40DD-BFD4-467DD8FC26EC}" presName="hierRoot1" presStyleCnt="0"/>
      <dgm:spPr/>
    </dgm:pt>
    <dgm:pt modelId="{51E1FA02-2B05-4CC9-B2ED-77433297854A}" type="pres">
      <dgm:prSet presAssocID="{8BFAD68F-779A-40DD-BFD4-467DD8FC26EC}" presName="composite" presStyleCnt="0"/>
      <dgm:spPr/>
    </dgm:pt>
    <dgm:pt modelId="{6B6F7EF1-80B0-4D8F-99BF-C1EB394508AC}" type="pres">
      <dgm:prSet presAssocID="{8BFAD68F-779A-40DD-BFD4-467DD8FC26EC}" presName="background" presStyleLbl="node0" presStyleIdx="0" presStyleCnt="1"/>
      <dgm:spPr/>
    </dgm:pt>
    <dgm:pt modelId="{1BF319BD-0FC9-43DC-8035-CFE7AEEDFB5A}" type="pres">
      <dgm:prSet presAssocID="{8BFAD68F-779A-40DD-BFD4-467DD8FC26EC}" presName="text" presStyleLbl="fgAcc0" presStyleIdx="0" presStyleCnt="1" custScaleX="448864" custScaleY="13558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A0A41FA-B3A2-45E3-BFC6-34AA960A0BC1}" type="pres">
      <dgm:prSet presAssocID="{8BFAD68F-779A-40DD-BFD4-467DD8FC26EC}" presName="hierChild2" presStyleCnt="0"/>
      <dgm:spPr/>
    </dgm:pt>
    <dgm:pt modelId="{1D7884DB-ADF0-411C-BF2D-DE4A3ED164A2}" type="pres">
      <dgm:prSet presAssocID="{A0451CD1-CB08-49C5-972D-3CDF7D22E331}" presName="Name10" presStyleLbl="parChTrans1D2" presStyleIdx="0" presStyleCnt="2"/>
      <dgm:spPr/>
      <dgm:t>
        <a:bodyPr/>
        <a:lstStyle/>
        <a:p>
          <a:endParaRPr lang="ru-RU"/>
        </a:p>
      </dgm:t>
    </dgm:pt>
    <dgm:pt modelId="{B3C4FFA5-6423-43AF-AFE9-E1684DFCD64F}" type="pres">
      <dgm:prSet presAssocID="{4CADCD5C-3DD7-456B-B76E-160088438891}" presName="hierRoot2" presStyleCnt="0"/>
      <dgm:spPr/>
    </dgm:pt>
    <dgm:pt modelId="{3CC5D8BE-7689-4E05-8606-E1B82F750565}" type="pres">
      <dgm:prSet presAssocID="{4CADCD5C-3DD7-456B-B76E-160088438891}" presName="composite2" presStyleCnt="0"/>
      <dgm:spPr/>
    </dgm:pt>
    <dgm:pt modelId="{5A8433F9-B41B-44BB-A84F-B7D8005AD4AB}" type="pres">
      <dgm:prSet presAssocID="{4CADCD5C-3DD7-456B-B76E-160088438891}" presName="background2" presStyleLbl="node2" presStyleIdx="0" presStyleCnt="2"/>
      <dgm:spPr/>
    </dgm:pt>
    <dgm:pt modelId="{269ED7D3-DC37-484B-A203-BE1822B27A6C}" type="pres">
      <dgm:prSet presAssocID="{4CADCD5C-3DD7-456B-B76E-160088438891}" presName="text2" presStyleLbl="fgAcc2" presStyleIdx="0" presStyleCnt="2" custScaleX="192990" custScaleY="15370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EDE3B49-794B-43D0-B35D-9258DDFB336B}" type="pres">
      <dgm:prSet presAssocID="{4CADCD5C-3DD7-456B-B76E-160088438891}" presName="hierChild3" presStyleCnt="0"/>
      <dgm:spPr/>
    </dgm:pt>
    <dgm:pt modelId="{9CB38F52-C73A-4438-B50A-B18487EEF692}" type="pres">
      <dgm:prSet presAssocID="{6B2482F6-A495-4CDE-B8C4-73E54D2AC98E}" presName="Name10" presStyleLbl="parChTrans1D2" presStyleIdx="1" presStyleCnt="2"/>
      <dgm:spPr/>
      <dgm:t>
        <a:bodyPr/>
        <a:lstStyle/>
        <a:p>
          <a:endParaRPr lang="ru-RU"/>
        </a:p>
      </dgm:t>
    </dgm:pt>
    <dgm:pt modelId="{8DD3921E-753B-4FB6-B353-335DB08395F5}" type="pres">
      <dgm:prSet presAssocID="{1C179B0C-2BD4-4DF2-BB67-A14920AAA4EF}" presName="hierRoot2" presStyleCnt="0"/>
      <dgm:spPr/>
    </dgm:pt>
    <dgm:pt modelId="{3B798A06-0C15-4A22-8216-B81B9615FC0B}" type="pres">
      <dgm:prSet presAssocID="{1C179B0C-2BD4-4DF2-BB67-A14920AAA4EF}" presName="composite2" presStyleCnt="0"/>
      <dgm:spPr/>
    </dgm:pt>
    <dgm:pt modelId="{17AE9059-8B36-486E-BC5E-4CBFE6269F75}" type="pres">
      <dgm:prSet presAssocID="{1C179B0C-2BD4-4DF2-BB67-A14920AAA4EF}" presName="background2" presStyleLbl="node2" presStyleIdx="1" presStyleCnt="2"/>
      <dgm:spPr/>
    </dgm:pt>
    <dgm:pt modelId="{C9E488A7-2046-42A0-919A-D1A1152A0F76}" type="pres">
      <dgm:prSet presAssocID="{1C179B0C-2BD4-4DF2-BB67-A14920AAA4EF}" presName="text2" presStyleLbl="fgAcc2" presStyleIdx="1" presStyleCnt="2" custScaleX="201205" custScaleY="15370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8F1E267C-38D8-43DB-9721-9B98B82BA86E}" type="pres">
      <dgm:prSet presAssocID="{1C179B0C-2BD4-4DF2-BB67-A14920AAA4EF}" presName="hierChild3" presStyleCnt="0"/>
      <dgm:spPr/>
    </dgm:pt>
  </dgm:ptLst>
  <dgm:cxnLst>
    <dgm:cxn modelId="{FEB9B6AF-81A7-4929-A007-06B827791208}" type="presOf" srcId="{B4B4071D-1BCE-4B6B-943A-C983F55D6301}" destId="{ED45CB21-C439-45B3-8662-DFCA8D6E2B18}" srcOrd="0" destOrd="0" presId="urn:microsoft.com/office/officeart/2005/8/layout/hierarchy1"/>
    <dgm:cxn modelId="{DDE237D6-D70F-41E7-A684-79F5F6AFD3B9}" srcId="{B4B4071D-1BCE-4B6B-943A-C983F55D6301}" destId="{8BFAD68F-779A-40DD-BFD4-467DD8FC26EC}" srcOrd="0" destOrd="0" parTransId="{7BD11855-5E7C-43D0-8A62-D428E46A4F2D}" sibTransId="{1E8577FF-168A-4A9E-AD78-B4D855D32D9A}"/>
    <dgm:cxn modelId="{9D94B4A9-A193-400D-BADE-4462B19C87CC}" type="presOf" srcId="{8BFAD68F-779A-40DD-BFD4-467DD8FC26EC}" destId="{1BF319BD-0FC9-43DC-8035-CFE7AEEDFB5A}" srcOrd="0" destOrd="0" presId="urn:microsoft.com/office/officeart/2005/8/layout/hierarchy1"/>
    <dgm:cxn modelId="{9642E17B-C423-44A2-8E3D-903937158452}" type="presOf" srcId="{4CADCD5C-3DD7-456B-B76E-160088438891}" destId="{269ED7D3-DC37-484B-A203-BE1822B27A6C}" srcOrd="0" destOrd="0" presId="urn:microsoft.com/office/officeart/2005/8/layout/hierarchy1"/>
    <dgm:cxn modelId="{A402582E-AA7F-4B9F-BC25-858FED5B1B9B}" type="presOf" srcId="{6B2482F6-A495-4CDE-B8C4-73E54D2AC98E}" destId="{9CB38F52-C73A-4438-B50A-B18487EEF692}" srcOrd="0" destOrd="0" presId="urn:microsoft.com/office/officeart/2005/8/layout/hierarchy1"/>
    <dgm:cxn modelId="{F40AE00A-6314-40B7-B2E5-81D9DCBB1005}" type="presOf" srcId="{A0451CD1-CB08-49C5-972D-3CDF7D22E331}" destId="{1D7884DB-ADF0-411C-BF2D-DE4A3ED164A2}" srcOrd="0" destOrd="0" presId="urn:microsoft.com/office/officeart/2005/8/layout/hierarchy1"/>
    <dgm:cxn modelId="{260DB457-86BA-4091-AB70-A4D92F534254}" srcId="{8BFAD68F-779A-40DD-BFD4-467DD8FC26EC}" destId="{1C179B0C-2BD4-4DF2-BB67-A14920AAA4EF}" srcOrd="1" destOrd="0" parTransId="{6B2482F6-A495-4CDE-B8C4-73E54D2AC98E}" sibTransId="{5CAC5D2C-70FD-4B62-A2BE-0B3BFC183D60}"/>
    <dgm:cxn modelId="{C9E7F4D6-1417-481E-8A6B-D0D5164B27F7}" type="presOf" srcId="{1C179B0C-2BD4-4DF2-BB67-A14920AAA4EF}" destId="{C9E488A7-2046-42A0-919A-D1A1152A0F76}" srcOrd="0" destOrd="0" presId="urn:microsoft.com/office/officeart/2005/8/layout/hierarchy1"/>
    <dgm:cxn modelId="{DE6CB7CB-5259-463E-8934-09679FD25A38}" srcId="{8BFAD68F-779A-40DD-BFD4-467DD8FC26EC}" destId="{4CADCD5C-3DD7-456B-B76E-160088438891}" srcOrd="0" destOrd="0" parTransId="{A0451CD1-CB08-49C5-972D-3CDF7D22E331}" sibTransId="{881E5C8C-59F9-4051-8802-A25CC7D6B7DD}"/>
    <dgm:cxn modelId="{A4584FDE-C25B-4B53-B858-C428AC2B4C2A}" type="presParOf" srcId="{ED45CB21-C439-45B3-8662-DFCA8D6E2B18}" destId="{21BDE303-4BAB-4C54-BEFF-6F47154BD20B}" srcOrd="0" destOrd="0" presId="urn:microsoft.com/office/officeart/2005/8/layout/hierarchy1"/>
    <dgm:cxn modelId="{B98226B8-F1C2-4719-BE05-0B33D5980002}" type="presParOf" srcId="{21BDE303-4BAB-4C54-BEFF-6F47154BD20B}" destId="{51E1FA02-2B05-4CC9-B2ED-77433297854A}" srcOrd="0" destOrd="0" presId="urn:microsoft.com/office/officeart/2005/8/layout/hierarchy1"/>
    <dgm:cxn modelId="{A9CC4B1A-405B-4FA5-A7DA-C2BB0D941C84}" type="presParOf" srcId="{51E1FA02-2B05-4CC9-B2ED-77433297854A}" destId="{6B6F7EF1-80B0-4D8F-99BF-C1EB394508AC}" srcOrd="0" destOrd="0" presId="urn:microsoft.com/office/officeart/2005/8/layout/hierarchy1"/>
    <dgm:cxn modelId="{AD79C934-AB61-43B3-ADE0-AF7F525022EA}" type="presParOf" srcId="{51E1FA02-2B05-4CC9-B2ED-77433297854A}" destId="{1BF319BD-0FC9-43DC-8035-CFE7AEEDFB5A}" srcOrd="1" destOrd="0" presId="urn:microsoft.com/office/officeart/2005/8/layout/hierarchy1"/>
    <dgm:cxn modelId="{A2D984D7-5DA6-4C43-88AB-F7B29B668731}" type="presParOf" srcId="{21BDE303-4BAB-4C54-BEFF-6F47154BD20B}" destId="{CA0A41FA-B3A2-45E3-BFC6-34AA960A0BC1}" srcOrd="1" destOrd="0" presId="urn:microsoft.com/office/officeart/2005/8/layout/hierarchy1"/>
    <dgm:cxn modelId="{50EBAC91-0700-4ED3-B736-532A055824A9}" type="presParOf" srcId="{CA0A41FA-B3A2-45E3-BFC6-34AA960A0BC1}" destId="{1D7884DB-ADF0-411C-BF2D-DE4A3ED164A2}" srcOrd="0" destOrd="0" presId="urn:microsoft.com/office/officeart/2005/8/layout/hierarchy1"/>
    <dgm:cxn modelId="{EF4E1E9E-0C2E-4EEB-BAA2-F801BD0934F0}" type="presParOf" srcId="{CA0A41FA-B3A2-45E3-BFC6-34AA960A0BC1}" destId="{B3C4FFA5-6423-43AF-AFE9-E1684DFCD64F}" srcOrd="1" destOrd="0" presId="urn:microsoft.com/office/officeart/2005/8/layout/hierarchy1"/>
    <dgm:cxn modelId="{3002CFF2-C20D-4B4C-B67C-72FB57451801}" type="presParOf" srcId="{B3C4FFA5-6423-43AF-AFE9-E1684DFCD64F}" destId="{3CC5D8BE-7689-4E05-8606-E1B82F750565}" srcOrd="0" destOrd="0" presId="urn:microsoft.com/office/officeart/2005/8/layout/hierarchy1"/>
    <dgm:cxn modelId="{346FBCBD-CA54-46DE-9864-F9954DAF0FFB}" type="presParOf" srcId="{3CC5D8BE-7689-4E05-8606-E1B82F750565}" destId="{5A8433F9-B41B-44BB-A84F-B7D8005AD4AB}" srcOrd="0" destOrd="0" presId="urn:microsoft.com/office/officeart/2005/8/layout/hierarchy1"/>
    <dgm:cxn modelId="{0126664E-C819-4225-A2F7-DCABD960839D}" type="presParOf" srcId="{3CC5D8BE-7689-4E05-8606-E1B82F750565}" destId="{269ED7D3-DC37-484B-A203-BE1822B27A6C}" srcOrd="1" destOrd="0" presId="urn:microsoft.com/office/officeart/2005/8/layout/hierarchy1"/>
    <dgm:cxn modelId="{F0C44615-12C6-4492-804B-0592B9853FC7}" type="presParOf" srcId="{B3C4FFA5-6423-43AF-AFE9-E1684DFCD64F}" destId="{4EDE3B49-794B-43D0-B35D-9258DDFB336B}" srcOrd="1" destOrd="0" presId="urn:microsoft.com/office/officeart/2005/8/layout/hierarchy1"/>
    <dgm:cxn modelId="{BF1E81E9-14AF-4D3A-9F8B-43A69C51D410}" type="presParOf" srcId="{CA0A41FA-B3A2-45E3-BFC6-34AA960A0BC1}" destId="{9CB38F52-C73A-4438-B50A-B18487EEF692}" srcOrd="2" destOrd="0" presId="urn:microsoft.com/office/officeart/2005/8/layout/hierarchy1"/>
    <dgm:cxn modelId="{BD2DA77A-BC8F-4FA8-979D-44B8F2F07865}" type="presParOf" srcId="{CA0A41FA-B3A2-45E3-BFC6-34AA960A0BC1}" destId="{8DD3921E-753B-4FB6-B353-335DB08395F5}" srcOrd="3" destOrd="0" presId="urn:microsoft.com/office/officeart/2005/8/layout/hierarchy1"/>
    <dgm:cxn modelId="{F0F2A08D-0657-4E86-906D-66E2B9F9E899}" type="presParOf" srcId="{8DD3921E-753B-4FB6-B353-335DB08395F5}" destId="{3B798A06-0C15-4A22-8216-B81B9615FC0B}" srcOrd="0" destOrd="0" presId="urn:microsoft.com/office/officeart/2005/8/layout/hierarchy1"/>
    <dgm:cxn modelId="{A8916499-CDA8-4D70-87AE-9C5DF73F6E48}" type="presParOf" srcId="{3B798A06-0C15-4A22-8216-B81B9615FC0B}" destId="{17AE9059-8B36-486E-BC5E-4CBFE6269F75}" srcOrd="0" destOrd="0" presId="urn:microsoft.com/office/officeart/2005/8/layout/hierarchy1"/>
    <dgm:cxn modelId="{FBB05FF6-5B91-4155-BECD-2BC301788F27}" type="presParOf" srcId="{3B798A06-0C15-4A22-8216-B81B9615FC0B}" destId="{C9E488A7-2046-42A0-919A-D1A1152A0F76}" srcOrd="1" destOrd="0" presId="urn:microsoft.com/office/officeart/2005/8/layout/hierarchy1"/>
    <dgm:cxn modelId="{6F21867A-9F76-49B5-BDC1-D45D994CD28A}" type="presParOf" srcId="{8DD3921E-753B-4FB6-B353-335DB08395F5}" destId="{8F1E267C-38D8-43DB-9721-9B98B82BA86E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5092E0FF-C963-469F-A472-C0937148BA9B}" type="doc">
      <dgm:prSet loTypeId="urn:microsoft.com/office/officeart/2005/8/layout/hierarchy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4BF052E-14F6-4C3A-B161-F69C26AB5D62}">
      <dgm:prSet phldrT="[Текст]" custT="1"/>
      <dgm:spPr/>
      <dgm:t>
        <a:bodyPr/>
        <a:lstStyle/>
        <a:p>
          <a:r>
            <a:rPr lang="ru-RU" sz="3200" dirty="0" smtClean="0"/>
            <a:t>Коммуникативные умения</a:t>
          </a:r>
          <a:endParaRPr lang="ru-RU" sz="3200" dirty="0"/>
        </a:p>
      </dgm:t>
    </dgm:pt>
    <dgm:pt modelId="{7BF1F56F-3194-4A31-926C-9A1FD5225CCB}" type="parTrans" cxnId="{6A394AE0-C48C-4780-AC3F-A8121A8539D4}">
      <dgm:prSet/>
      <dgm:spPr/>
      <dgm:t>
        <a:bodyPr/>
        <a:lstStyle/>
        <a:p>
          <a:endParaRPr lang="ru-RU"/>
        </a:p>
      </dgm:t>
    </dgm:pt>
    <dgm:pt modelId="{6C68FDCE-7E4C-4B99-B3FF-11C5E4A57FDC}" type="sibTrans" cxnId="{6A394AE0-C48C-4780-AC3F-A8121A8539D4}">
      <dgm:prSet/>
      <dgm:spPr/>
      <dgm:t>
        <a:bodyPr/>
        <a:lstStyle/>
        <a:p>
          <a:endParaRPr lang="ru-RU"/>
        </a:p>
      </dgm:t>
    </dgm:pt>
    <dgm:pt modelId="{EDAF862F-4AD9-47A8-ACAB-0F9780458A40}">
      <dgm:prSet phldrT="[Текст]"/>
      <dgm:spPr/>
      <dgm:t>
        <a:bodyPr/>
        <a:lstStyle/>
        <a:p>
          <a:r>
            <a:rPr lang="ru-RU" dirty="0" smtClean="0"/>
            <a:t>Информационно-коммуникативные</a:t>
          </a:r>
          <a:endParaRPr lang="ru-RU" dirty="0"/>
        </a:p>
      </dgm:t>
    </dgm:pt>
    <dgm:pt modelId="{1938F867-BF8B-459D-9303-F689022F7C3A}" type="parTrans" cxnId="{1839F66C-9CEA-4E09-A573-B760F13AC93F}">
      <dgm:prSet/>
      <dgm:spPr/>
      <dgm:t>
        <a:bodyPr/>
        <a:lstStyle/>
        <a:p>
          <a:endParaRPr lang="ru-RU"/>
        </a:p>
      </dgm:t>
    </dgm:pt>
    <dgm:pt modelId="{5E6790E1-9098-4388-BED7-FBC985F5A6A9}" type="sibTrans" cxnId="{1839F66C-9CEA-4E09-A573-B760F13AC93F}">
      <dgm:prSet/>
      <dgm:spPr/>
      <dgm:t>
        <a:bodyPr/>
        <a:lstStyle/>
        <a:p>
          <a:endParaRPr lang="ru-RU"/>
        </a:p>
      </dgm:t>
    </dgm:pt>
    <dgm:pt modelId="{01B88F52-F82E-480C-8A06-343FFDB1C74C}">
      <dgm:prSet phldrT="[Текст]"/>
      <dgm:spPr/>
      <dgm:t>
        <a:bodyPr/>
        <a:lstStyle/>
        <a:p>
          <a:r>
            <a:rPr lang="ru-RU" dirty="0" err="1" smtClean="0"/>
            <a:t>Регуляционно-коммуникативные</a:t>
          </a:r>
          <a:endParaRPr lang="ru-RU" dirty="0"/>
        </a:p>
      </dgm:t>
    </dgm:pt>
    <dgm:pt modelId="{A2DD5E2C-15C1-4AAC-B6F6-E1F315CACAC2}" type="parTrans" cxnId="{32C90670-F950-4D46-AE2C-D0D5650DC19A}">
      <dgm:prSet/>
      <dgm:spPr/>
      <dgm:t>
        <a:bodyPr/>
        <a:lstStyle/>
        <a:p>
          <a:endParaRPr lang="ru-RU"/>
        </a:p>
      </dgm:t>
    </dgm:pt>
    <dgm:pt modelId="{85EFBCF6-145C-495C-8288-37EAACFF4984}" type="sibTrans" cxnId="{32C90670-F950-4D46-AE2C-D0D5650DC19A}">
      <dgm:prSet/>
      <dgm:spPr/>
      <dgm:t>
        <a:bodyPr/>
        <a:lstStyle/>
        <a:p>
          <a:endParaRPr lang="ru-RU"/>
        </a:p>
      </dgm:t>
    </dgm:pt>
    <dgm:pt modelId="{917B18D5-060B-4E27-8A88-9A674D13371A}">
      <dgm:prSet phldrT="[Текст]"/>
      <dgm:spPr/>
      <dgm:t>
        <a:bodyPr/>
        <a:lstStyle/>
        <a:p>
          <a:r>
            <a:rPr lang="ru-RU" dirty="0" smtClean="0"/>
            <a:t>Аффективно-коммуникативные</a:t>
          </a:r>
          <a:endParaRPr lang="ru-RU" dirty="0"/>
        </a:p>
      </dgm:t>
    </dgm:pt>
    <dgm:pt modelId="{D41DCEDF-6705-4BDE-A73D-EEEC7A192B7A}" type="parTrans" cxnId="{991C6658-2597-492D-AA0A-4E637009EADB}">
      <dgm:prSet/>
      <dgm:spPr/>
      <dgm:t>
        <a:bodyPr/>
        <a:lstStyle/>
        <a:p>
          <a:endParaRPr lang="ru-RU"/>
        </a:p>
      </dgm:t>
    </dgm:pt>
    <dgm:pt modelId="{77590F3A-2237-4144-9F68-BDD913CCEDBE}" type="sibTrans" cxnId="{991C6658-2597-492D-AA0A-4E637009EADB}">
      <dgm:prSet/>
      <dgm:spPr/>
      <dgm:t>
        <a:bodyPr/>
        <a:lstStyle/>
        <a:p>
          <a:endParaRPr lang="ru-RU"/>
        </a:p>
      </dgm:t>
    </dgm:pt>
    <dgm:pt modelId="{6650BD48-2F54-4341-928A-99422E13A067}" type="pres">
      <dgm:prSet presAssocID="{5092E0FF-C963-469F-A472-C0937148BA9B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91619C3-BEF0-43A2-9304-B186E1F6439B}" type="pres">
      <dgm:prSet presAssocID="{44BF052E-14F6-4C3A-B161-F69C26AB5D62}" presName="hierRoot1" presStyleCnt="0"/>
      <dgm:spPr/>
    </dgm:pt>
    <dgm:pt modelId="{971B56D3-4239-4266-8DC5-B3C61CA5881C}" type="pres">
      <dgm:prSet presAssocID="{44BF052E-14F6-4C3A-B161-F69C26AB5D62}" presName="composite" presStyleCnt="0"/>
      <dgm:spPr/>
    </dgm:pt>
    <dgm:pt modelId="{990091EB-52AD-4025-9679-8EC116C116F6}" type="pres">
      <dgm:prSet presAssocID="{44BF052E-14F6-4C3A-B161-F69C26AB5D62}" presName="background" presStyleLbl="node0" presStyleIdx="0" presStyleCnt="1"/>
      <dgm:spPr/>
    </dgm:pt>
    <dgm:pt modelId="{06191EAD-D355-48BF-9C38-A1D3C6B0FCE5}" type="pres">
      <dgm:prSet presAssocID="{44BF052E-14F6-4C3A-B161-F69C26AB5D62}" presName="text" presStyleLbl="fgAcc0" presStyleIdx="0" presStyleCnt="1" custScaleX="331027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9CDA75EB-BC77-4742-A4F3-FA43D8507890}" type="pres">
      <dgm:prSet presAssocID="{44BF052E-14F6-4C3A-B161-F69C26AB5D62}" presName="hierChild2" presStyleCnt="0"/>
      <dgm:spPr/>
    </dgm:pt>
    <dgm:pt modelId="{9C1AF537-8C46-4839-A3DC-C3FEE27C6B55}" type="pres">
      <dgm:prSet presAssocID="{1938F867-BF8B-459D-9303-F689022F7C3A}" presName="Name10" presStyleLbl="parChTrans1D2" presStyleIdx="0" presStyleCnt="3"/>
      <dgm:spPr/>
      <dgm:t>
        <a:bodyPr/>
        <a:lstStyle/>
        <a:p>
          <a:endParaRPr lang="ru-RU"/>
        </a:p>
      </dgm:t>
    </dgm:pt>
    <dgm:pt modelId="{855CEBD1-D1C0-4530-A21F-47536BB595B6}" type="pres">
      <dgm:prSet presAssocID="{EDAF862F-4AD9-47A8-ACAB-0F9780458A40}" presName="hierRoot2" presStyleCnt="0"/>
      <dgm:spPr/>
    </dgm:pt>
    <dgm:pt modelId="{A0B22DB3-D862-4EBE-A77C-F595AAA8DC88}" type="pres">
      <dgm:prSet presAssocID="{EDAF862F-4AD9-47A8-ACAB-0F9780458A40}" presName="composite2" presStyleCnt="0"/>
      <dgm:spPr/>
    </dgm:pt>
    <dgm:pt modelId="{41544D90-9883-46F1-B8BA-1EDDD73D3F10}" type="pres">
      <dgm:prSet presAssocID="{EDAF862F-4AD9-47A8-ACAB-0F9780458A40}" presName="background2" presStyleLbl="node2" presStyleIdx="0" presStyleCnt="3"/>
      <dgm:spPr/>
    </dgm:pt>
    <dgm:pt modelId="{3F3D292D-92D6-481A-939D-93C918EE83C6}" type="pres">
      <dgm:prSet presAssocID="{EDAF862F-4AD9-47A8-ACAB-0F9780458A40}" presName="text2" presStyleLbl="fgAcc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7AC42A8-3217-46C5-A46D-783CB4C0314B}" type="pres">
      <dgm:prSet presAssocID="{EDAF862F-4AD9-47A8-ACAB-0F9780458A40}" presName="hierChild3" presStyleCnt="0"/>
      <dgm:spPr/>
    </dgm:pt>
    <dgm:pt modelId="{63CEDC42-0942-481D-AE44-E6ECB0E0991A}" type="pres">
      <dgm:prSet presAssocID="{A2DD5E2C-15C1-4AAC-B6F6-E1F315CACAC2}" presName="Name10" presStyleLbl="parChTrans1D2" presStyleIdx="1" presStyleCnt="3"/>
      <dgm:spPr/>
      <dgm:t>
        <a:bodyPr/>
        <a:lstStyle/>
        <a:p>
          <a:endParaRPr lang="ru-RU"/>
        </a:p>
      </dgm:t>
    </dgm:pt>
    <dgm:pt modelId="{D40EBFEB-BCC7-43AC-853A-169A8B16884B}" type="pres">
      <dgm:prSet presAssocID="{01B88F52-F82E-480C-8A06-343FFDB1C74C}" presName="hierRoot2" presStyleCnt="0"/>
      <dgm:spPr/>
    </dgm:pt>
    <dgm:pt modelId="{C10602E0-0146-438A-8103-FB35D3E8B730}" type="pres">
      <dgm:prSet presAssocID="{01B88F52-F82E-480C-8A06-343FFDB1C74C}" presName="composite2" presStyleCnt="0"/>
      <dgm:spPr/>
    </dgm:pt>
    <dgm:pt modelId="{8EFF0692-B967-4905-9358-7A33F6818F53}" type="pres">
      <dgm:prSet presAssocID="{01B88F52-F82E-480C-8A06-343FFDB1C74C}" presName="background2" presStyleLbl="node2" presStyleIdx="1" presStyleCnt="3"/>
      <dgm:spPr/>
    </dgm:pt>
    <dgm:pt modelId="{930C4EB0-A620-4BAC-BB93-173DA6B18121}" type="pres">
      <dgm:prSet presAssocID="{01B88F52-F82E-480C-8A06-343FFDB1C74C}" presName="text2" presStyleLbl="fgAcc2" presStyleIdx="1" presStyleCnt="3" custLinFactNeighborX="-629" custLinFactNeighborY="-57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C6CA05F-D7C2-4CDE-8472-B12D198F5A00}" type="pres">
      <dgm:prSet presAssocID="{01B88F52-F82E-480C-8A06-343FFDB1C74C}" presName="hierChild3" presStyleCnt="0"/>
      <dgm:spPr/>
    </dgm:pt>
    <dgm:pt modelId="{FD14FB94-1040-48B8-AB38-8432DF76E4BD}" type="pres">
      <dgm:prSet presAssocID="{D41DCEDF-6705-4BDE-A73D-EEEC7A192B7A}" presName="Name10" presStyleLbl="parChTrans1D2" presStyleIdx="2" presStyleCnt="3"/>
      <dgm:spPr/>
      <dgm:t>
        <a:bodyPr/>
        <a:lstStyle/>
        <a:p>
          <a:endParaRPr lang="ru-RU"/>
        </a:p>
      </dgm:t>
    </dgm:pt>
    <dgm:pt modelId="{D62218BE-641C-4653-BBA8-1DDB5E48F8EE}" type="pres">
      <dgm:prSet presAssocID="{917B18D5-060B-4E27-8A88-9A674D13371A}" presName="hierRoot2" presStyleCnt="0"/>
      <dgm:spPr/>
    </dgm:pt>
    <dgm:pt modelId="{12316EFD-0737-4E45-9F51-10F36BF93AE5}" type="pres">
      <dgm:prSet presAssocID="{917B18D5-060B-4E27-8A88-9A674D13371A}" presName="composite2" presStyleCnt="0"/>
      <dgm:spPr/>
    </dgm:pt>
    <dgm:pt modelId="{3AF8835A-C350-438D-B298-629F8B7B8BD1}" type="pres">
      <dgm:prSet presAssocID="{917B18D5-060B-4E27-8A88-9A674D13371A}" presName="background2" presStyleLbl="node2" presStyleIdx="2" presStyleCnt="3"/>
      <dgm:spPr/>
    </dgm:pt>
    <dgm:pt modelId="{DFBA8B1A-B5DB-4D3E-8B04-8892032651BC}" type="pres">
      <dgm:prSet presAssocID="{917B18D5-060B-4E27-8A88-9A674D13371A}" presName="text2" presStyleLbl="fgAcc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ECD0F668-0A3C-47EB-9612-CA8CF28B7232}" type="pres">
      <dgm:prSet presAssocID="{917B18D5-060B-4E27-8A88-9A674D13371A}" presName="hierChild3" presStyleCnt="0"/>
      <dgm:spPr/>
    </dgm:pt>
  </dgm:ptLst>
  <dgm:cxnLst>
    <dgm:cxn modelId="{1839F66C-9CEA-4E09-A573-B760F13AC93F}" srcId="{44BF052E-14F6-4C3A-B161-F69C26AB5D62}" destId="{EDAF862F-4AD9-47A8-ACAB-0F9780458A40}" srcOrd="0" destOrd="0" parTransId="{1938F867-BF8B-459D-9303-F689022F7C3A}" sibTransId="{5E6790E1-9098-4388-BED7-FBC985F5A6A9}"/>
    <dgm:cxn modelId="{991C6658-2597-492D-AA0A-4E637009EADB}" srcId="{44BF052E-14F6-4C3A-B161-F69C26AB5D62}" destId="{917B18D5-060B-4E27-8A88-9A674D13371A}" srcOrd="2" destOrd="0" parTransId="{D41DCEDF-6705-4BDE-A73D-EEEC7A192B7A}" sibTransId="{77590F3A-2237-4144-9F68-BDD913CCEDBE}"/>
    <dgm:cxn modelId="{17003AF5-1EBB-4333-8923-D704075B2746}" type="presOf" srcId="{44BF052E-14F6-4C3A-B161-F69C26AB5D62}" destId="{06191EAD-D355-48BF-9C38-A1D3C6B0FCE5}" srcOrd="0" destOrd="0" presId="urn:microsoft.com/office/officeart/2005/8/layout/hierarchy1"/>
    <dgm:cxn modelId="{4B51D1DF-C02A-4EFA-9442-2169FB4579E8}" type="presOf" srcId="{1938F867-BF8B-459D-9303-F689022F7C3A}" destId="{9C1AF537-8C46-4839-A3DC-C3FEE27C6B55}" srcOrd="0" destOrd="0" presId="urn:microsoft.com/office/officeart/2005/8/layout/hierarchy1"/>
    <dgm:cxn modelId="{F4B845E2-DDBD-49F4-A662-75C13C75FE35}" type="presOf" srcId="{5092E0FF-C963-469F-A472-C0937148BA9B}" destId="{6650BD48-2F54-4341-928A-99422E13A067}" srcOrd="0" destOrd="0" presId="urn:microsoft.com/office/officeart/2005/8/layout/hierarchy1"/>
    <dgm:cxn modelId="{DB25E1F8-1F17-4766-93EF-4BEBF27F4D35}" type="presOf" srcId="{01B88F52-F82E-480C-8A06-343FFDB1C74C}" destId="{930C4EB0-A620-4BAC-BB93-173DA6B18121}" srcOrd="0" destOrd="0" presId="urn:microsoft.com/office/officeart/2005/8/layout/hierarchy1"/>
    <dgm:cxn modelId="{3AD1551A-30D5-44C1-8365-E618AAF74DF7}" type="presOf" srcId="{917B18D5-060B-4E27-8A88-9A674D13371A}" destId="{DFBA8B1A-B5DB-4D3E-8B04-8892032651BC}" srcOrd="0" destOrd="0" presId="urn:microsoft.com/office/officeart/2005/8/layout/hierarchy1"/>
    <dgm:cxn modelId="{9F7B521E-9523-4D21-B66F-335ED32060E6}" type="presOf" srcId="{EDAF862F-4AD9-47A8-ACAB-0F9780458A40}" destId="{3F3D292D-92D6-481A-939D-93C918EE83C6}" srcOrd="0" destOrd="0" presId="urn:microsoft.com/office/officeart/2005/8/layout/hierarchy1"/>
    <dgm:cxn modelId="{6A394AE0-C48C-4780-AC3F-A8121A8539D4}" srcId="{5092E0FF-C963-469F-A472-C0937148BA9B}" destId="{44BF052E-14F6-4C3A-B161-F69C26AB5D62}" srcOrd="0" destOrd="0" parTransId="{7BF1F56F-3194-4A31-926C-9A1FD5225CCB}" sibTransId="{6C68FDCE-7E4C-4B99-B3FF-11C5E4A57FDC}"/>
    <dgm:cxn modelId="{B1AC6FD7-B166-4EB3-AB6D-9A80B904D736}" type="presOf" srcId="{D41DCEDF-6705-4BDE-A73D-EEEC7A192B7A}" destId="{FD14FB94-1040-48B8-AB38-8432DF76E4BD}" srcOrd="0" destOrd="0" presId="urn:microsoft.com/office/officeart/2005/8/layout/hierarchy1"/>
    <dgm:cxn modelId="{32C90670-F950-4D46-AE2C-D0D5650DC19A}" srcId="{44BF052E-14F6-4C3A-B161-F69C26AB5D62}" destId="{01B88F52-F82E-480C-8A06-343FFDB1C74C}" srcOrd="1" destOrd="0" parTransId="{A2DD5E2C-15C1-4AAC-B6F6-E1F315CACAC2}" sibTransId="{85EFBCF6-145C-495C-8288-37EAACFF4984}"/>
    <dgm:cxn modelId="{5C791D23-B56F-4F09-8A38-F8AC2E93FAD8}" type="presOf" srcId="{A2DD5E2C-15C1-4AAC-B6F6-E1F315CACAC2}" destId="{63CEDC42-0942-481D-AE44-E6ECB0E0991A}" srcOrd="0" destOrd="0" presId="urn:microsoft.com/office/officeart/2005/8/layout/hierarchy1"/>
    <dgm:cxn modelId="{58D0C3FE-523D-45F3-9DB1-C645BFB81E23}" type="presParOf" srcId="{6650BD48-2F54-4341-928A-99422E13A067}" destId="{091619C3-BEF0-43A2-9304-B186E1F6439B}" srcOrd="0" destOrd="0" presId="urn:microsoft.com/office/officeart/2005/8/layout/hierarchy1"/>
    <dgm:cxn modelId="{2FC20D74-4797-4F53-8124-AC4BF33FEB53}" type="presParOf" srcId="{091619C3-BEF0-43A2-9304-B186E1F6439B}" destId="{971B56D3-4239-4266-8DC5-B3C61CA5881C}" srcOrd="0" destOrd="0" presId="urn:microsoft.com/office/officeart/2005/8/layout/hierarchy1"/>
    <dgm:cxn modelId="{D420492C-0E7F-4848-A244-C4025BCCFFC0}" type="presParOf" srcId="{971B56D3-4239-4266-8DC5-B3C61CA5881C}" destId="{990091EB-52AD-4025-9679-8EC116C116F6}" srcOrd="0" destOrd="0" presId="urn:microsoft.com/office/officeart/2005/8/layout/hierarchy1"/>
    <dgm:cxn modelId="{4C8CAC25-63D7-4105-BB4C-873F6FB7327F}" type="presParOf" srcId="{971B56D3-4239-4266-8DC5-B3C61CA5881C}" destId="{06191EAD-D355-48BF-9C38-A1D3C6B0FCE5}" srcOrd="1" destOrd="0" presId="urn:microsoft.com/office/officeart/2005/8/layout/hierarchy1"/>
    <dgm:cxn modelId="{2509979E-CDF4-4BC6-B639-B5B1D782970E}" type="presParOf" srcId="{091619C3-BEF0-43A2-9304-B186E1F6439B}" destId="{9CDA75EB-BC77-4742-A4F3-FA43D8507890}" srcOrd="1" destOrd="0" presId="urn:microsoft.com/office/officeart/2005/8/layout/hierarchy1"/>
    <dgm:cxn modelId="{6036C67F-0303-4227-8140-459E4B4B5860}" type="presParOf" srcId="{9CDA75EB-BC77-4742-A4F3-FA43D8507890}" destId="{9C1AF537-8C46-4839-A3DC-C3FEE27C6B55}" srcOrd="0" destOrd="0" presId="urn:microsoft.com/office/officeart/2005/8/layout/hierarchy1"/>
    <dgm:cxn modelId="{582FA118-6215-48C8-85BB-E2A1651D957D}" type="presParOf" srcId="{9CDA75EB-BC77-4742-A4F3-FA43D8507890}" destId="{855CEBD1-D1C0-4530-A21F-47536BB595B6}" srcOrd="1" destOrd="0" presId="urn:microsoft.com/office/officeart/2005/8/layout/hierarchy1"/>
    <dgm:cxn modelId="{403E1460-8AA0-4789-A6A0-45B0599D0497}" type="presParOf" srcId="{855CEBD1-D1C0-4530-A21F-47536BB595B6}" destId="{A0B22DB3-D862-4EBE-A77C-F595AAA8DC88}" srcOrd="0" destOrd="0" presId="urn:microsoft.com/office/officeart/2005/8/layout/hierarchy1"/>
    <dgm:cxn modelId="{F4508ADC-90AD-431F-8B4D-52AE8A1B3E0D}" type="presParOf" srcId="{A0B22DB3-D862-4EBE-A77C-F595AAA8DC88}" destId="{41544D90-9883-46F1-B8BA-1EDDD73D3F10}" srcOrd="0" destOrd="0" presId="urn:microsoft.com/office/officeart/2005/8/layout/hierarchy1"/>
    <dgm:cxn modelId="{A31883AA-AB01-47F0-A8E2-D1F62F95A525}" type="presParOf" srcId="{A0B22DB3-D862-4EBE-A77C-F595AAA8DC88}" destId="{3F3D292D-92D6-481A-939D-93C918EE83C6}" srcOrd="1" destOrd="0" presId="urn:microsoft.com/office/officeart/2005/8/layout/hierarchy1"/>
    <dgm:cxn modelId="{E0073E66-AB63-464E-B2E1-EDB43E6CD8FD}" type="presParOf" srcId="{855CEBD1-D1C0-4530-A21F-47536BB595B6}" destId="{47AC42A8-3217-46C5-A46D-783CB4C0314B}" srcOrd="1" destOrd="0" presId="urn:microsoft.com/office/officeart/2005/8/layout/hierarchy1"/>
    <dgm:cxn modelId="{C9C42ED9-3CCA-4665-8590-91373C6707F7}" type="presParOf" srcId="{9CDA75EB-BC77-4742-A4F3-FA43D8507890}" destId="{63CEDC42-0942-481D-AE44-E6ECB0E0991A}" srcOrd="2" destOrd="0" presId="urn:microsoft.com/office/officeart/2005/8/layout/hierarchy1"/>
    <dgm:cxn modelId="{0DF4F7A4-20FA-49F4-95EB-1FF5F8EEB9DD}" type="presParOf" srcId="{9CDA75EB-BC77-4742-A4F3-FA43D8507890}" destId="{D40EBFEB-BCC7-43AC-853A-169A8B16884B}" srcOrd="3" destOrd="0" presId="urn:microsoft.com/office/officeart/2005/8/layout/hierarchy1"/>
    <dgm:cxn modelId="{35929EE0-7287-4163-9EF6-786D18D37385}" type="presParOf" srcId="{D40EBFEB-BCC7-43AC-853A-169A8B16884B}" destId="{C10602E0-0146-438A-8103-FB35D3E8B730}" srcOrd="0" destOrd="0" presId="urn:microsoft.com/office/officeart/2005/8/layout/hierarchy1"/>
    <dgm:cxn modelId="{9E484D14-9C07-42A8-9E94-92DBC8C22DBC}" type="presParOf" srcId="{C10602E0-0146-438A-8103-FB35D3E8B730}" destId="{8EFF0692-B967-4905-9358-7A33F6818F53}" srcOrd="0" destOrd="0" presId="urn:microsoft.com/office/officeart/2005/8/layout/hierarchy1"/>
    <dgm:cxn modelId="{455D4EC5-573D-47C0-A7C8-BE2EFCB48B4E}" type="presParOf" srcId="{C10602E0-0146-438A-8103-FB35D3E8B730}" destId="{930C4EB0-A620-4BAC-BB93-173DA6B18121}" srcOrd="1" destOrd="0" presId="urn:microsoft.com/office/officeart/2005/8/layout/hierarchy1"/>
    <dgm:cxn modelId="{45767443-F76C-4C9E-9C77-8910B2095C76}" type="presParOf" srcId="{D40EBFEB-BCC7-43AC-853A-169A8B16884B}" destId="{1C6CA05F-D7C2-4CDE-8472-B12D198F5A00}" srcOrd="1" destOrd="0" presId="urn:microsoft.com/office/officeart/2005/8/layout/hierarchy1"/>
    <dgm:cxn modelId="{AB6AE8B9-EC00-408C-BDCA-C351F120990A}" type="presParOf" srcId="{9CDA75EB-BC77-4742-A4F3-FA43D8507890}" destId="{FD14FB94-1040-48B8-AB38-8432DF76E4BD}" srcOrd="4" destOrd="0" presId="urn:microsoft.com/office/officeart/2005/8/layout/hierarchy1"/>
    <dgm:cxn modelId="{E692DFDB-F343-4AD5-B468-730ED8A4AE3F}" type="presParOf" srcId="{9CDA75EB-BC77-4742-A4F3-FA43D8507890}" destId="{D62218BE-641C-4653-BBA8-1DDB5E48F8EE}" srcOrd="5" destOrd="0" presId="urn:microsoft.com/office/officeart/2005/8/layout/hierarchy1"/>
    <dgm:cxn modelId="{49C55DEF-CD53-4EEC-A2AA-4EFF36D43ECE}" type="presParOf" srcId="{D62218BE-641C-4653-BBA8-1DDB5E48F8EE}" destId="{12316EFD-0737-4E45-9F51-10F36BF93AE5}" srcOrd="0" destOrd="0" presId="urn:microsoft.com/office/officeart/2005/8/layout/hierarchy1"/>
    <dgm:cxn modelId="{2B0B77A1-5CD8-4D65-900C-CF6D8FB61660}" type="presParOf" srcId="{12316EFD-0737-4E45-9F51-10F36BF93AE5}" destId="{3AF8835A-C350-438D-B298-629F8B7B8BD1}" srcOrd="0" destOrd="0" presId="urn:microsoft.com/office/officeart/2005/8/layout/hierarchy1"/>
    <dgm:cxn modelId="{A6765665-0B66-4067-A75E-10D20EA2FB72}" type="presParOf" srcId="{12316EFD-0737-4E45-9F51-10F36BF93AE5}" destId="{DFBA8B1A-B5DB-4D3E-8B04-8892032651BC}" srcOrd="1" destOrd="0" presId="urn:microsoft.com/office/officeart/2005/8/layout/hierarchy1"/>
    <dgm:cxn modelId="{D0B25951-CBD9-4616-B268-EFC768125C28}" type="presParOf" srcId="{D62218BE-641C-4653-BBA8-1DDB5E48F8EE}" destId="{ECD0F668-0A3C-47EB-9612-CA8CF28B7232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7338828A-33A5-4D88-999C-2F8DC26ACA99}" type="doc">
      <dgm:prSet loTypeId="urn:microsoft.com/office/officeart/2005/8/layout/vProcess5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7583E71A-24B7-4C0F-B737-BFF0CC929D3D}">
      <dgm:prSet phldrT="[Текст]"/>
      <dgm:spPr/>
      <dgm:t>
        <a:bodyPr/>
        <a:lstStyle/>
        <a:p>
          <a:r>
            <a:rPr lang="ru-RU" dirty="0" smtClean="0"/>
            <a:t>Качества проявляются стабильно</a:t>
          </a:r>
          <a:endParaRPr lang="ru-RU" dirty="0"/>
        </a:p>
      </dgm:t>
    </dgm:pt>
    <dgm:pt modelId="{3657C176-B2C1-4F09-9051-5806206DD76D}" type="parTrans" cxnId="{0D07E906-0B8F-4F0B-A9B3-52EFF129FED9}">
      <dgm:prSet/>
      <dgm:spPr/>
      <dgm:t>
        <a:bodyPr/>
        <a:lstStyle/>
        <a:p>
          <a:endParaRPr lang="ru-RU"/>
        </a:p>
      </dgm:t>
    </dgm:pt>
    <dgm:pt modelId="{EF967E49-5B61-489E-B2C7-20E17CA50BFE}" type="sibTrans" cxnId="{0D07E906-0B8F-4F0B-A9B3-52EFF129FED9}">
      <dgm:prSet/>
      <dgm:spPr/>
      <dgm:t>
        <a:bodyPr/>
        <a:lstStyle/>
        <a:p>
          <a:endParaRPr lang="ru-RU"/>
        </a:p>
      </dgm:t>
    </dgm:pt>
    <dgm:pt modelId="{A75DE60E-1591-456D-BCF6-B9574223C0D9}">
      <dgm:prSet phldrT="[Текст]"/>
      <dgm:spPr/>
      <dgm:t>
        <a:bodyPr/>
        <a:lstStyle/>
        <a:p>
          <a:r>
            <a:rPr lang="ru-RU" dirty="0" smtClean="0"/>
            <a:t>Качества проявляются в результате напоминания</a:t>
          </a:r>
          <a:endParaRPr lang="ru-RU" dirty="0"/>
        </a:p>
      </dgm:t>
    </dgm:pt>
    <dgm:pt modelId="{99EDF8B2-B3F9-4254-82B8-E60C0E0A1C17}" type="parTrans" cxnId="{6D470896-E185-40B1-AD78-C0D7C44CF98C}">
      <dgm:prSet/>
      <dgm:spPr/>
      <dgm:t>
        <a:bodyPr/>
        <a:lstStyle/>
        <a:p>
          <a:endParaRPr lang="ru-RU"/>
        </a:p>
      </dgm:t>
    </dgm:pt>
    <dgm:pt modelId="{D51FC138-F7D6-48A1-85F6-DE0449198081}" type="sibTrans" cxnId="{6D470896-E185-40B1-AD78-C0D7C44CF98C}">
      <dgm:prSet/>
      <dgm:spPr/>
      <dgm:t>
        <a:bodyPr/>
        <a:lstStyle/>
        <a:p>
          <a:endParaRPr lang="ru-RU"/>
        </a:p>
      </dgm:t>
    </dgm:pt>
    <dgm:pt modelId="{305955F3-5D66-4B59-8A1C-ED8A957086E2}">
      <dgm:prSet phldrT="[Текст]"/>
      <dgm:spPr/>
      <dgm:t>
        <a:bodyPr/>
        <a:lstStyle/>
        <a:p>
          <a:r>
            <a:rPr lang="ru-RU" dirty="0" smtClean="0"/>
            <a:t>Качества проявляются очень редко</a:t>
          </a:r>
          <a:endParaRPr lang="ru-RU" dirty="0"/>
        </a:p>
      </dgm:t>
    </dgm:pt>
    <dgm:pt modelId="{A8745FE8-5AE1-491B-82EC-D528BCA44968}" type="parTrans" cxnId="{0208F4AF-01BE-44DE-987A-99406963FCCD}">
      <dgm:prSet/>
      <dgm:spPr/>
      <dgm:t>
        <a:bodyPr/>
        <a:lstStyle/>
        <a:p>
          <a:endParaRPr lang="ru-RU"/>
        </a:p>
      </dgm:t>
    </dgm:pt>
    <dgm:pt modelId="{6EFE449C-3195-455F-BB3F-FEA83702A351}" type="sibTrans" cxnId="{0208F4AF-01BE-44DE-987A-99406963FCCD}">
      <dgm:prSet/>
      <dgm:spPr/>
      <dgm:t>
        <a:bodyPr/>
        <a:lstStyle/>
        <a:p>
          <a:endParaRPr lang="ru-RU"/>
        </a:p>
      </dgm:t>
    </dgm:pt>
    <dgm:pt modelId="{5D9F1888-27FA-45A2-9BBF-FB7D2BACF9F9}" type="pres">
      <dgm:prSet presAssocID="{7338828A-33A5-4D88-999C-2F8DC26ACA99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9F580AE-ACFF-4FDC-BB8D-CCFF3D336DC2}" type="pres">
      <dgm:prSet presAssocID="{7338828A-33A5-4D88-999C-2F8DC26ACA99}" presName="dummyMaxCanvas" presStyleCnt="0">
        <dgm:presLayoutVars/>
      </dgm:prSet>
      <dgm:spPr/>
    </dgm:pt>
    <dgm:pt modelId="{DE32296F-49C9-48E4-A1D5-7B0678150BCA}" type="pres">
      <dgm:prSet presAssocID="{7338828A-33A5-4D88-999C-2F8DC26ACA99}" presName="ThreeNodes_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039698F-8653-45DC-91BF-6461DD143300}" type="pres">
      <dgm:prSet presAssocID="{7338828A-33A5-4D88-999C-2F8DC26ACA99}" presName="ThreeNodes_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FDD68ED-B1D4-47A2-AA00-85EB4E7402C6}" type="pres">
      <dgm:prSet presAssocID="{7338828A-33A5-4D88-999C-2F8DC26ACA99}" presName="ThreeNodes_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5DA82EB-1308-4B51-A1BB-76CED01FF118}" type="pres">
      <dgm:prSet presAssocID="{7338828A-33A5-4D88-999C-2F8DC26ACA99}" presName="ThreeConn_1-2" presStyleLbl="fgAccFollow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F51A0A8-9F72-4859-8769-09DF82AF8A80}" type="pres">
      <dgm:prSet presAssocID="{7338828A-33A5-4D88-999C-2F8DC26ACA99}" presName="ThreeConn_2-3" presStyleLbl="f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5191063-4A13-48B6-AD02-D9583B028207}" type="pres">
      <dgm:prSet presAssocID="{7338828A-33A5-4D88-999C-2F8DC26ACA99}" presName="ThreeNodes_1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2CE46F4-F5A3-4F2B-81EC-26586911EB09}" type="pres">
      <dgm:prSet presAssocID="{7338828A-33A5-4D88-999C-2F8DC26ACA99}" presName="ThreeNodes_2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44D2082-2E12-4AD0-8E04-7C2916FAD22C}" type="pres">
      <dgm:prSet presAssocID="{7338828A-33A5-4D88-999C-2F8DC26ACA99}" presName="ThreeNodes_3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ABEDCE4-D3C8-4E15-BE5C-265EA249F5E6}" type="presOf" srcId="{305955F3-5D66-4B59-8A1C-ED8A957086E2}" destId="{6FDD68ED-B1D4-47A2-AA00-85EB4E7402C6}" srcOrd="0" destOrd="0" presId="urn:microsoft.com/office/officeart/2005/8/layout/vProcess5"/>
    <dgm:cxn modelId="{87DF6DD3-D97A-4064-A110-ED1B56EFF633}" type="presOf" srcId="{EF967E49-5B61-489E-B2C7-20E17CA50BFE}" destId="{15DA82EB-1308-4B51-A1BB-76CED01FF118}" srcOrd="0" destOrd="0" presId="urn:microsoft.com/office/officeart/2005/8/layout/vProcess5"/>
    <dgm:cxn modelId="{F6FD5A3D-745D-4C2B-A245-26B306312C8A}" type="presOf" srcId="{A75DE60E-1591-456D-BCF6-B9574223C0D9}" destId="{22CE46F4-F5A3-4F2B-81EC-26586911EB09}" srcOrd="1" destOrd="0" presId="urn:microsoft.com/office/officeart/2005/8/layout/vProcess5"/>
    <dgm:cxn modelId="{C4FD9064-516F-4AD9-9A7D-9C1EE309B8D7}" type="presOf" srcId="{A75DE60E-1591-456D-BCF6-B9574223C0D9}" destId="{D039698F-8653-45DC-91BF-6461DD143300}" srcOrd="0" destOrd="0" presId="urn:microsoft.com/office/officeart/2005/8/layout/vProcess5"/>
    <dgm:cxn modelId="{6D470896-E185-40B1-AD78-C0D7C44CF98C}" srcId="{7338828A-33A5-4D88-999C-2F8DC26ACA99}" destId="{A75DE60E-1591-456D-BCF6-B9574223C0D9}" srcOrd="1" destOrd="0" parTransId="{99EDF8B2-B3F9-4254-82B8-E60C0E0A1C17}" sibTransId="{D51FC138-F7D6-48A1-85F6-DE0449198081}"/>
    <dgm:cxn modelId="{B8ABB1D8-E7A1-43DC-AF60-D965E51B1AAC}" type="presOf" srcId="{305955F3-5D66-4B59-8A1C-ED8A957086E2}" destId="{244D2082-2E12-4AD0-8E04-7C2916FAD22C}" srcOrd="1" destOrd="0" presId="urn:microsoft.com/office/officeart/2005/8/layout/vProcess5"/>
    <dgm:cxn modelId="{0FA50429-785D-45ED-9022-CFF68038A845}" type="presOf" srcId="{7583E71A-24B7-4C0F-B737-BFF0CC929D3D}" destId="{B5191063-4A13-48B6-AD02-D9583B028207}" srcOrd="1" destOrd="0" presId="urn:microsoft.com/office/officeart/2005/8/layout/vProcess5"/>
    <dgm:cxn modelId="{757BA665-435B-4658-91FC-542A391EAE90}" type="presOf" srcId="{7338828A-33A5-4D88-999C-2F8DC26ACA99}" destId="{5D9F1888-27FA-45A2-9BBF-FB7D2BACF9F9}" srcOrd="0" destOrd="0" presId="urn:microsoft.com/office/officeart/2005/8/layout/vProcess5"/>
    <dgm:cxn modelId="{0D07E906-0B8F-4F0B-A9B3-52EFF129FED9}" srcId="{7338828A-33A5-4D88-999C-2F8DC26ACA99}" destId="{7583E71A-24B7-4C0F-B737-BFF0CC929D3D}" srcOrd="0" destOrd="0" parTransId="{3657C176-B2C1-4F09-9051-5806206DD76D}" sibTransId="{EF967E49-5B61-489E-B2C7-20E17CA50BFE}"/>
    <dgm:cxn modelId="{EDC28439-B0CD-4143-BE7D-73ED55FC72A3}" type="presOf" srcId="{7583E71A-24B7-4C0F-B737-BFF0CC929D3D}" destId="{DE32296F-49C9-48E4-A1D5-7B0678150BCA}" srcOrd="0" destOrd="0" presId="urn:microsoft.com/office/officeart/2005/8/layout/vProcess5"/>
    <dgm:cxn modelId="{888C070C-FD00-43E0-8684-807AEA17C68B}" type="presOf" srcId="{D51FC138-F7D6-48A1-85F6-DE0449198081}" destId="{4F51A0A8-9F72-4859-8769-09DF82AF8A80}" srcOrd="0" destOrd="0" presId="urn:microsoft.com/office/officeart/2005/8/layout/vProcess5"/>
    <dgm:cxn modelId="{0208F4AF-01BE-44DE-987A-99406963FCCD}" srcId="{7338828A-33A5-4D88-999C-2F8DC26ACA99}" destId="{305955F3-5D66-4B59-8A1C-ED8A957086E2}" srcOrd="2" destOrd="0" parTransId="{A8745FE8-5AE1-491B-82EC-D528BCA44968}" sibTransId="{6EFE449C-3195-455F-BB3F-FEA83702A351}"/>
    <dgm:cxn modelId="{AF2AE5D3-A9F2-4029-AB93-86F849AFD0FD}" type="presParOf" srcId="{5D9F1888-27FA-45A2-9BBF-FB7D2BACF9F9}" destId="{49F580AE-ACFF-4FDC-BB8D-CCFF3D336DC2}" srcOrd="0" destOrd="0" presId="urn:microsoft.com/office/officeart/2005/8/layout/vProcess5"/>
    <dgm:cxn modelId="{345610A4-F6F7-455E-AB67-FD511FA75B0C}" type="presParOf" srcId="{5D9F1888-27FA-45A2-9BBF-FB7D2BACF9F9}" destId="{DE32296F-49C9-48E4-A1D5-7B0678150BCA}" srcOrd="1" destOrd="0" presId="urn:microsoft.com/office/officeart/2005/8/layout/vProcess5"/>
    <dgm:cxn modelId="{D073783D-C123-40EB-AC15-86E325785F6F}" type="presParOf" srcId="{5D9F1888-27FA-45A2-9BBF-FB7D2BACF9F9}" destId="{D039698F-8653-45DC-91BF-6461DD143300}" srcOrd="2" destOrd="0" presId="urn:microsoft.com/office/officeart/2005/8/layout/vProcess5"/>
    <dgm:cxn modelId="{7139F8AB-AC20-46F2-8935-7406A32AA5A9}" type="presParOf" srcId="{5D9F1888-27FA-45A2-9BBF-FB7D2BACF9F9}" destId="{6FDD68ED-B1D4-47A2-AA00-85EB4E7402C6}" srcOrd="3" destOrd="0" presId="urn:microsoft.com/office/officeart/2005/8/layout/vProcess5"/>
    <dgm:cxn modelId="{F545B80A-56F3-41AB-9CBA-ACAE75790542}" type="presParOf" srcId="{5D9F1888-27FA-45A2-9BBF-FB7D2BACF9F9}" destId="{15DA82EB-1308-4B51-A1BB-76CED01FF118}" srcOrd="4" destOrd="0" presId="urn:microsoft.com/office/officeart/2005/8/layout/vProcess5"/>
    <dgm:cxn modelId="{3CF1752B-814D-4248-8DA3-EB178D639FCF}" type="presParOf" srcId="{5D9F1888-27FA-45A2-9BBF-FB7D2BACF9F9}" destId="{4F51A0A8-9F72-4859-8769-09DF82AF8A80}" srcOrd="5" destOrd="0" presId="urn:microsoft.com/office/officeart/2005/8/layout/vProcess5"/>
    <dgm:cxn modelId="{AA041027-7597-4A26-8363-7AB7BD5F5C4E}" type="presParOf" srcId="{5D9F1888-27FA-45A2-9BBF-FB7D2BACF9F9}" destId="{B5191063-4A13-48B6-AD02-D9583B028207}" srcOrd="6" destOrd="0" presId="urn:microsoft.com/office/officeart/2005/8/layout/vProcess5"/>
    <dgm:cxn modelId="{FDDC49B3-ADCF-4ABF-8C9D-8E0785D8428E}" type="presParOf" srcId="{5D9F1888-27FA-45A2-9BBF-FB7D2BACF9F9}" destId="{22CE46F4-F5A3-4F2B-81EC-26586911EB09}" srcOrd="7" destOrd="0" presId="urn:microsoft.com/office/officeart/2005/8/layout/vProcess5"/>
    <dgm:cxn modelId="{6DF833F4-E30B-4DD8-A7DA-E11C8BDAECBB}" type="presParOf" srcId="{5D9F1888-27FA-45A2-9BBF-FB7D2BACF9F9}" destId="{244D2082-2E12-4AD0-8E04-7C2916FAD22C}" srcOrd="8" destOrd="0" presId="urn:microsoft.com/office/officeart/2005/8/layout/vProcess5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1A0A5724-1871-4D48-8D28-EAE7B9A6C418}" type="doc">
      <dgm:prSet loTypeId="urn:microsoft.com/office/officeart/2005/8/layout/vList6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79AAE2D2-1BB0-4363-A35B-E28BDF0CF21A}">
      <dgm:prSet phldrT="[Текст]"/>
      <dgm:spPr/>
      <dgm:t>
        <a:bodyPr/>
        <a:lstStyle/>
        <a:p>
          <a:r>
            <a:rPr lang="ru-RU" dirty="0" smtClean="0"/>
            <a:t>Коммуникативная ситуация</a:t>
          </a:r>
          <a:endParaRPr lang="ru-RU" dirty="0"/>
        </a:p>
      </dgm:t>
    </dgm:pt>
    <dgm:pt modelId="{EF8019D9-2268-43AA-921F-1727A91689BF}" type="parTrans" cxnId="{199ACC40-680D-432E-A099-7FC4D704234D}">
      <dgm:prSet/>
      <dgm:spPr/>
      <dgm:t>
        <a:bodyPr/>
        <a:lstStyle/>
        <a:p>
          <a:endParaRPr lang="ru-RU"/>
        </a:p>
      </dgm:t>
    </dgm:pt>
    <dgm:pt modelId="{12EDB517-1E11-4521-962A-C0A88C3614F2}" type="sibTrans" cxnId="{199ACC40-680D-432E-A099-7FC4D704234D}">
      <dgm:prSet/>
      <dgm:spPr/>
      <dgm:t>
        <a:bodyPr/>
        <a:lstStyle/>
        <a:p>
          <a:endParaRPr lang="ru-RU"/>
        </a:p>
      </dgm:t>
    </dgm:pt>
    <dgm:pt modelId="{51A4D26F-6442-4640-ABD4-28B36D2342BF}">
      <dgm:prSet phldrT="[Текст]"/>
      <dgm:spPr/>
      <dgm:t>
        <a:bodyPr/>
        <a:lstStyle/>
        <a:p>
          <a:r>
            <a:rPr lang="ru-RU" dirty="0" smtClean="0"/>
            <a:t>Фонетический материал</a:t>
          </a:r>
          <a:endParaRPr lang="ru-RU" dirty="0"/>
        </a:p>
      </dgm:t>
    </dgm:pt>
    <dgm:pt modelId="{F1B84E0F-D946-4D4D-B260-DB0D7CF8E290}" type="parTrans" cxnId="{BC9B57FF-0CCF-4A81-9F25-FE1814EE1EB9}">
      <dgm:prSet/>
      <dgm:spPr/>
      <dgm:t>
        <a:bodyPr/>
        <a:lstStyle/>
        <a:p>
          <a:endParaRPr lang="ru-RU"/>
        </a:p>
      </dgm:t>
    </dgm:pt>
    <dgm:pt modelId="{14A80760-2E09-4F74-AB4F-D161449F72D0}" type="sibTrans" cxnId="{BC9B57FF-0CCF-4A81-9F25-FE1814EE1EB9}">
      <dgm:prSet/>
      <dgm:spPr/>
      <dgm:t>
        <a:bodyPr/>
        <a:lstStyle/>
        <a:p>
          <a:endParaRPr lang="ru-RU"/>
        </a:p>
      </dgm:t>
    </dgm:pt>
    <dgm:pt modelId="{367B610D-1A55-4885-B998-67C41BEDE405}">
      <dgm:prSet phldrT="[Текст]"/>
      <dgm:spPr/>
      <dgm:t>
        <a:bodyPr/>
        <a:lstStyle/>
        <a:p>
          <a:r>
            <a:rPr lang="ru-RU" dirty="0" smtClean="0"/>
            <a:t>Лексико-грамматический материал</a:t>
          </a:r>
          <a:endParaRPr lang="ru-RU" dirty="0"/>
        </a:p>
      </dgm:t>
    </dgm:pt>
    <dgm:pt modelId="{44F275BC-AAD1-458E-A635-424505578C09}" type="parTrans" cxnId="{808EBF97-BE70-434D-AD62-5BB6CC330810}">
      <dgm:prSet/>
      <dgm:spPr/>
      <dgm:t>
        <a:bodyPr/>
        <a:lstStyle/>
        <a:p>
          <a:endParaRPr lang="ru-RU"/>
        </a:p>
      </dgm:t>
    </dgm:pt>
    <dgm:pt modelId="{E432C77F-2298-4860-82D0-E8DEB41B92F9}" type="sibTrans" cxnId="{808EBF97-BE70-434D-AD62-5BB6CC330810}">
      <dgm:prSet/>
      <dgm:spPr/>
      <dgm:t>
        <a:bodyPr/>
        <a:lstStyle/>
        <a:p>
          <a:endParaRPr lang="ru-RU"/>
        </a:p>
      </dgm:t>
    </dgm:pt>
    <dgm:pt modelId="{524925F1-DAC6-48B4-84DC-9BFA3CB1E52A}">
      <dgm:prSet phldrT="[Текст]"/>
      <dgm:spPr/>
      <dgm:t>
        <a:bodyPr/>
        <a:lstStyle/>
        <a:p>
          <a:r>
            <a:rPr lang="ru-RU" dirty="0" smtClean="0"/>
            <a:t>Коммуникативные потребности </a:t>
          </a:r>
          <a:endParaRPr lang="ru-RU" dirty="0"/>
        </a:p>
      </dgm:t>
    </dgm:pt>
    <dgm:pt modelId="{39F11BA0-5FAF-4881-AE04-FDD7142A2D60}" type="parTrans" cxnId="{1337C82E-5A7D-439B-A5DF-73FB6CF80F2E}">
      <dgm:prSet/>
      <dgm:spPr/>
      <dgm:t>
        <a:bodyPr/>
        <a:lstStyle/>
        <a:p>
          <a:endParaRPr lang="ru-RU"/>
        </a:p>
      </dgm:t>
    </dgm:pt>
    <dgm:pt modelId="{36D9BC15-BB56-4367-9936-744B62E9E165}" type="sibTrans" cxnId="{1337C82E-5A7D-439B-A5DF-73FB6CF80F2E}">
      <dgm:prSet/>
      <dgm:spPr/>
      <dgm:t>
        <a:bodyPr/>
        <a:lstStyle/>
        <a:p>
          <a:endParaRPr lang="ru-RU"/>
        </a:p>
      </dgm:t>
    </dgm:pt>
    <dgm:pt modelId="{8F609FE7-8D28-415D-A323-C581BE273FCA}">
      <dgm:prSet phldrT="[Текст]"/>
      <dgm:spPr/>
      <dgm:t>
        <a:bodyPr/>
        <a:lstStyle/>
        <a:p>
          <a:r>
            <a:rPr lang="ru-RU" dirty="0" smtClean="0"/>
            <a:t>Сфера общения</a:t>
          </a:r>
          <a:endParaRPr lang="ru-RU" dirty="0"/>
        </a:p>
      </dgm:t>
    </dgm:pt>
    <dgm:pt modelId="{5DBE3AF7-8CFF-416D-A863-0DE0A172605C}" type="parTrans" cxnId="{762F1143-101D-4AE0-A49B-841E22525CFA}">
      <dgm:prSet/>
      <dgm:spPr/>
      <dgm:t>
        <a:bodyPr/>
        <a:lstStyle/>
        <a:p>
          <a:endParaRPr lang="ru-RU"/>
        </a:p>
      </dgm:t>
    </dgm:pt>
    <dgm:pt modelId="{6B384D27-3A03-4842-8FFE-633F1404ED46}" type="sibTrans" cxnId="{762F1143-101D-4AE0-A49B-841E22525CFA}">
      <dgm:prSet/>
      <dgm:spPr/>
      <dgm:t>
        <a:bodyPr/>
        <a:lstStyle/>
        <a:p>
          <a:endParaRPr lang="ru-RU"/>
        </a:p>
      </dgm:t>
    </dgm:pt>
    <dgm:pt modelId="{A0B3E363-BD80-48A5-A0A4-946BCB12886E}">
      <dgm:prSet phldrT="[Текст]"/>
      <dgm:spPr/>
      <dgm:t>
        <a:bodyPr/>
        <a:lstStyle/>
        <a:p>
          <a:r>
            <a:rPr lang="ru-RU" dirty="0" smtClean="0"/>
            <a:t>Цели коррекционного обучения</a:t>
          </a:r>
          <a:endParaRPr lang="ru-RU" dirty="0"/>
        </a:p>
      </dgm:t>
    </dgm:pt>
    <dgm:pt modelId="{26D957BE-E72B-4B58-AF75-D15B65F91453}" type="parTrans" cxnId="{DAB2ED30-CBAE-44BD-8F8C-192B88CD7B21}">
      <dgm:prSet/>
      <dgm:spPr/>
      <dgm:t>
        <a:bodyPr/>
        <a:lstStyle/>
        <a:p>
          <a:endParaRPr lang="ru-RU"/>
        </a:p>
      </dgm:t>
    </dgm:pt>
    <dgm:pt modelId="{1597CCB7-160C-47AA-A071-B503E9679968}" type="sibTrans" cxnId="{DAB2ED30-CBAE-44BD-8F8C-192B88CD7B21}">
      <dgm:prSet/>
      <dgm:spPr/>
      <dgm:t>
        <a:bodyPr/>
        <a:lstStyle/>
        <a:p>
          <a:endParaRPr lang="ru-RU"/>
        </a:p>
      </dgm:t>
    </dgm:pt>
    <dgm:pt modelId="{A70460F4-D6A7-4823-9CC9-856DB8A646BB}" type="pres">
      <dgm:prSet presAssocID="{1A0A5724-1871-4D48-8D28-EAE7B9A6C418}" presName="Name0" presStyleCnt="0">
        <dgm:presLayoutVars>
          <dgm:dir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A0583095-DE49-4782-9904-3302E8D84A76}" type="pres">
      <dgm:prSet presAssocID="{79AAE2D2-1BB0-4363-A35B-E28BDF0CF21A}" presName="linNode" presStyleCnt="0"/>
      <dgm:spPr/>
    </dgm:pt>
    <dgm:pt modelId="{BDDCB864-D5FE-49D9-80D9-AC62BDFAC9AA}" type="pres">
      <dgm:prSet presAssocID="{79AAE2D2-1BB0-4363-A35B-E28BDF0CF21A}" presName="parentShp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736A06A-3F06-45C7-B914-4BAED6A5823D}" type="pres">
      <dgm:prSet presAssocID="{79AAE2D2-1BB0-4363-A35B-E28BDF0CF21A}" presName="childShp" presStyleLbl="bgAccFollow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D603DE4-B3AA-49E8-981A-FCF0B41799CF}" type="pres">
      <dgm:prSet presAssocID="{12EDB517-1E11-4521-962A-C0A88C3614F2}" presName="spacing" presStyleCnt="0"/>
      <dgm:spPr/>
    </dgm:pt>
    <dgm:pt modelId="{E1BA00A5-061C-4DA5-86E3-2DFE71065AAC}" type="pres">
      <dgm:prSet presAssocID="{524925F1-DAC6-48B4-84DC-9BFA3CB1E52A}" presName="linNode" presStyleCnt="0"/>
      <dgm:spPr/>
    </dgm:pt>
    <dgm:pt modelId="{9F1EDA22-9578-4B0A-89D0-2E6F24BBE6B0}" type="pres">
      <dgm:prSet presAssocID="{524925F1-DAC6-48B4-84DC-9BFA3CB1E52A}" presName="parentShp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C653D8-F9E5-408D-80A0-1B8600344430}" type="pres">
      <dgm:prSet presAssocID="{524925F1-DAC6-48B4-84DC-9BFA3CB1E52A}" presName="childShp" presStyleLbl="b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6848319-DE91-43F3-B7DF-61F9B78D1AA0}" type="presOf" srcId="{1A0A5724-1871-4D48-8D28-EAE7B9A6C418}" destId="{A70460F4-D6A7-4823-9CC9-856DB8A646BB}" srcOrd="0" destOrd="0" presId="urn:microsoft.com/office/officeart/2005/8/layout/vList6"/>
    <dgm:cxn modelId="{199ACC40-680D-432E-A099-7FC4D704234D}" srcId="{1A0A5724-1871-4D48-8D28-EAE7B9A6C418}" destId="{79AAE2D2-1BB0-4363-A35B-E28BDF0CF21A}" srcOrd="0" destOrd="0" parTransId="{EF8019D9-2268-43AA-921F-1727A91689BF}" sibTransId="{12EDB517-1E11-4521-962A-C0A88C3614F2}"/>
    <dgm:cxn modelId="{762F1143-101D-4AE0-A49B-841E22525CFA}" srcId="{524925F1-DAC6-48B4-84DC-9BFA3CB1E52A}" destId="{8F609FE7-8D28-415D-A323-C581BE273FCA}" srcOrd="0" destOrd="0" parTransId="{5DBE3AF7-8CFF-416D-A863-0DE0A172605C}" sibTransId="{6B384D27-3A03-4842-8FFE-633F1404ED46}"/>
    <dgm:cxn modelId="{A911A0D7-2926-446C-ACBE-E316AB13FFE2}" type="presOf" srcId="{79AAE2D2-1BB0-4363-A35B-E28BDF0CF21A}" destId="{BDDCB864-D5FE-49D9-80D9-AC62BDFAC9AA}" srcOrd="0" destOrd="0" presId="urn:microsoft.com/office/officeart/2005/8/layout/vList6"/>
    <dgm:cxn modelId="{C35D24BF-2DD5-471D-B0EC-48B607C7D6CD}" type="presOf" srcId="{8F609FE7-8D28-415D-A323-C581BE273FCA}" destId="{61C653D8-F9E5-408D-80A0-1B8600344430}" srcOrd="0" destOrd="0" presId="urn:microsoft.com/office/officeart/2005/8/layout/vList6"/>
    <dgm:cxn modelId="{808EBF97-BE70-434D-AD62-5BB6CC330810}" srcId="{79AAE2D2-1BB0-4363-A35B-E28BDF0CF21A}" destId="{367B610D-1A55-4885-B998-67C41BEDE405}" srcOrd="1" destOrd="0" parTransId="{44F275BC-AAD1-458E-A635-424505578C09}" sibTransId="{E432C77F-2298-4860-82D0-E8DEB41B92F9}"/>
    <dgm:cxn modelId="{DAB2ED30-CBAE-44BD-8F8C-192B88CD7B21}" srcId="{524925F1-DAC6-48B4-84DC-9BFA3CB1E52A}" destId="{A0B3E363-BD80-48A5-A0A4-946BCB12886E}" srcOrd="1" destOrd="0" parTransId="{26D957BE-E72B-4B58-AF75-D15B65F91453}" sibTransId="{1597CCB7-160C-47AA-A071-B503E9679968}"/>
    <dgm:cxn modelId="{F9129401-1784-45D9-A4EE-3864843B0BAF}" type="presOf" srcId="{367B610D-1A55-4885-B998-67C41BEDE405}" destId="{B736A06A-3F06-45C7-B914-4BAED6A5823D}" srcOrd="0" destOrd="1" presId="urn:microsoft.com/office/officeart/2005/8/layout/vList6"/>
    <dgm:cxn modelId="{9A196430-864B-4B28-B9B8-3F843E29CDA3}" type="presOf" srcId="{524925F1-DAC6-48B4-84DC-9BFA3CB1E52A}" destId="{9F1EDA22-9578-4B0A-89D0-2E6F24BBE6B0}" srcOrd="0" destOrd="0" presId="urn:microsoft.com/office/officeart/2005/8/layout/vList6"/>
    <dgm:cxn modelId="{BC9B57FF-0CCF-4A81-9F25-FE1814EE1EB9}" srcId="{79AAE2D2-1BB0-4363-A35B-E28BDF0CF21A}" destId="{51A4D26F-6442-4640-ABD4-28B36D2342BF}" srcOrd="0" destOrd="0" parTransId="{F1B84E0F-D946-4D4D-B260-DB0D7CF8E290}" sibTransId="{14A80760-2E09-4F74-AB4F-D161449F72D0}"/>
    <dgm:cxn modelId="{72C794CA-AA18-4FFD-8A87-E631732714F9}" type="presOf" srcId="{51A4D26F-6442-4640-ABD4-28B36D2342BF}" destId="{B736A06A-3F06-45C7-B914-4BAED6A5823D}" srcOrd="0" destOrd="0" presId="urn:microsoft.com/office/officeart/2005/8/layout/vList6"/>
    <dgm:cxn modelId="{1337C82E-5A7D-439B-A5DF-73FB6CF80F2E}" srcId="{1A0A5724-1871-4D48-8D28-EAE7B9A6C418}" destId="{524925F1-DAC6-48B4-84DC-9BFA3CB1E52A}" srcOrd="1" destOrd="0" parTransId="{39F11BA0-5FAF-4881-AE04-FDD7142A2D60}" sibTransId="{36D9BC15-BB56-4367-9936-744B62E9E165}"/>
    <dgm:cxn modelId="{40DE42D6-6532-4B3B-B728-5E832BFCCC39}" type="presOf" srcId="{A0B3E363-BD80-48A5-A0A4-946BCB12886E}" destId="{61C653D8-F9E5-408D-80A0-1B8600344430}" srcOrd="0" destOrd="1" presId="urn:microsoft.com/office/officeart/2005/8/layout/vList6"/>
    <dgm:cxn modelId="{E638958B-B10C-4E82-BD70-0A9C9A1EAAAA}" type="presParOf" srcId="{A70460F4-D6A7-4823-9CC9-856DB8A646BB}" destId="{A0583095-DE49-4782-9904-3302E8D84A76}" srcOrd="0" destOrd="0" presId="urn:microsoft.com/office/officeart/2005/8/layout/vList6"/>
    <dgm:cxn modelId="{0D18D739-3528-40EE-8E8D-9FB965D3D6F6}" type="presParOf" srcId="{A0583095-DE49-4782-9904-3302E8D84A76}" destId="{BDDCB864-D5FE-49D9-80D9-AC62BDFAC9AA}" srcOrd="0" destOrd="0" presId="urn:microsoft.com/office/officeart/2005/8/layout/vList6"/>
    <dgm:cxn modelId="{021C1E36-C53B-4249-BAC5-40580D7817BC}" type="presParOf" srcId="{A0583095-DE49-4782-9904-3302E8D84A76}" destId="{B736A06A-3F06-45C7-B914-4BAED6A5823D}" srcOrd="1" destOrd="0" presId="urn:microsoft.com/office/officeart/2005/8/layout/vList6"/>
    <dgm:cxn modelId="{D21CE19E-6022-47B1-958B-40CE97E8C43B}" type="presParOf" srcId="{A70460F4-D6A7-4823-9CC9-856DB8A646BB}" destId="{BD603DE4-B3AA-49E8-981A-FCF0B41799CF}" srcOrd="1" destOrd="0" presId="urn:microsoft.com/office/officeart/2005/8/layout/vList6"/>
    <dgm:cxn modelId="{A8C7FE07-9E4D-4F1C-A83B-18DBE5DB9C58}" type="presParOf" srcId="{A70460F4-D6A7-4823-9CC9-856DB8A646BB}" destId="{E1BA00A5-061C-4DA5-86E3-2DFE71065AAC}" srcOrd="2" destOrd="0" presId="urn:microsoft.com/office/officeart/2005/8/layout/vList6"/>
    <dgm:cxn modelId="{6BB95EC7-3365-4479-84DE-E8559C6659D3}" type="presParOf" srcId="{E1BA00A5-061C-4DA5-86E3-2DFE71065AAC}" destId="{9F1EDA22-9578-4B0A-89D0-2E6F24BBE6B0}" srcOrd="0" destOrd="0" presId="urn:microsoft.com/office/officeart/2005/8/layout/vList6"/>
    <dgm:cxn modelId="{14BDF7A1-02F1-4FB3-96AB-B54B9B659870}" type="presParOf" srcId="{E1BA00A5-061C-4DA5-86E3-2DFE71065AAC}" destId="{61C653D8-F9E5-408D-80A0-1B8600344430}" srcOrd="1" destOrd="0" presId="urn:microsoft.com/office/officeart/2005/8/layout/vList6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3A9F2CF6-F731-4043-851D-EB2E27CC7567}" type="doc">
      <dgm:prSet loTypeId="urn:microsoft.com/office/officeart/2005/8/layout/cycle2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008BD513-C931-461A-B077-3D8D266F0A4C}">
      <dgm:prSet phldrT="[Текст]"/>
      <dgm:spPr/>
      <dgm:t>
        <a:bodyPr/>
        <a:lstStyle/>
        <a:p>
          <a:r>
            <a:rPr lang="ru-RU" dirty="0" smtClean="0"/>
            <a:t>синтаксис</a:t>
          </a:r>
          <a:endParaRPr lang="ru-RU" dirty="0"/>
        </a:p>
      </dgm:t>
    </dgm:pt>
    <dgm:pt modelId="{FEDF2779-19DA-4F1E-8C69-6CBBB97A04A7}" type="parTrans" cxnId="{BB2FA868-90C5-4F8F-9252-5082B93A1659}">
      <dgm:prSet/>
      <dgm:spPr/>
      <dgm:t>
        <a:bodyPr/>
        <a:lstStyle/>
        <a:p>
          <a:endParaRPr lang="ru-RU"/>
        </a:p>
      </dgm:t>
    </dgm:pt>
    <dgm:pt modelId="{E97E3301-F201-4D3C-B405-069DA2B39548}" type="sibTrans" cxnId="{BB2FA868-90C5-4F8F-9252-5082B93A1659}">
      <dgm:prSet/>
      <dgm:spPr/>
      <dgm:t>
        <a:bodyPr/>
        <a:lstStyle/>
        <a:p>
          <a:endParaRPr lang="ru-RU"/>
        </a:p>
      </dgm:t>
    </dgm:pt>
    <dgm:pt modelId="{649F430D-D6FD-4721-AD87-4EE95A028906}">
      <dgm:prSet phldrT="[Текст]"/>
      <dgm:spPr/>
      <dgm:t>
        <a:bodyPr/>
        <a:lstStyle/>
        <a:p>
          <a:r>
            <a:rPr lang="ru-RU" dirty="0" smtClean="0"/>
            <a:t>морфология</a:t>
          </a:r>
          <a:endParaRPr lang="ru-RU" dirty="0"/>
        </a:p>
      </dgm:t>
    </dgm:pt>
    <dgm:pt modelId="{14D584FC-B9A6-499E-BE08-1429D9A34705}" type="parTrans" cxnId="{B2D22163-74C7-4996-B071-6A723A6FAB52}">
      <dgm:prSet/>
      <dgm:spPr/>
      <dgm:t>
        <a:bodyPr/>
        <a:lstStyle/>
        <a:p>
          <a:endParaRPr lang="ru-RU"/>
        </a:p>
      </dgm:t>
    </dgm:pt>
    <dgm:pt modelId="{46B1FF28-3133-422A-B38D-06A119E1973D}" type="sibTrans" cxnId="{B2D22163-74C7-4996-B071-6A723A6FAB52}">
      <dgm:prSet/>
      <dgm:spPr/>
      <dgm:t>
        <a:bodyPr/>
        <a:lstStyle/>
        <a:p>
          <a:endParaRPr lang="ru-RU"/>
        </a:p>
      </dgm:t>
    </dgm:pt>
    <dgm:pt modelId="{CADA5F7D-96A0-42BC-901F-5067BD1DDB4E}">
      <dgm:prSet phldrT="[Текст]"/>
      <dgm:spPr/>
      <dgm:t>
        <a:bodyPr/>
        <a:lstStyle/>
        <a:p>
          <a:r>
            <a:rPr lang="ru-RU" dirty="0" smtClean="0"/>
            <a:t>прагматика</a:t>
          </a:r>
          <a:endParaRPr lang="ru-RU" dirty="0"/>
        </a:p>
      </dgm:t>
    </dgm:pt>
    <dgm:pt modelId="{9397DD12-AB30-4AD3-8DBF-389C5957D29D}" type="parTrans" cxnId="{14F26D98-3813-46E8-8EAF-85415EBC2D5E}">
      <dgm:prSet/>
      <dgm:spPr/>
      <dgm:t>
        <a:bodyPr/>
        <a:lstStyle/>
        <a:p>
          <a:endParaRPr lang="ru-RU"/>
        </a:p>
      </dgm:t>
    </dgm:pt>
    <dgm:pt modelId="{82BD263C-C240-4B0C-B72D-51A2AFC6959E}" type="sibTrans" cxnId="{14F26D98-3813-46E8-8EAF-85415EBC2D5E}">
      <dgm:prSet/>
      <dgm:spPr/>
      <dgm:t>
        <a:bodyPr/>
        <a:lstStyle/>
        <a:p>
          <a:endParaRPr lang="ru-RU"/>
        </a:p>
      </dgm:t>
    </dgm:pt>
    <dgm:pt modelId="{C2D28FC4-D891-4D2C-B106-8D635429FBCC}">
      <dgm:prSet phldrT="[Текст]"/>
      <dgm:spPr/>
      <dgm:t>
        <a:bodyPr/>
        <a:lstStyle/>
        <a:p>
          <a:r>
            <a:rPr lang="ru-RU" dirty="0" smtClean="0"/>
            <a:t>семантика</a:t>
          </a:r>
          <a:endParaRPr lang="ru-RU" dirty="0"/>
        </a:p>
      </dgm:t>
    </dgm:pt>
    <dgm:pt modelId="{5C10D4D0-E070-42F4-B352-44E46CA86290}" type="parTrans" cxnId="{BEDC47F6-9DC2-4389-A497-B0D19FE09C2B}">
      <dgm:prSet/>
      <dgm:spPr/>
      <dgm:t>
        <a:bodyPr/>
        <a:lstStyle/>
        <a:p>
          <a:endParaRPr lang="ru-RU"/>
        </a:p>
      </dgm:t>
    </dgm:pt>
    <dgm:pt modelId="{3C63530A-D9D2-4EBA-882E-F7774702FF03}" type="sibTrans" cxnId="{BEDC47F6-9DC2-4389-A497-B0D19FE09C2B}">
      <dgm:prSet/>
      <dgm:spPr/>
      <dgm:t>
        <a:bodyPr/>
        <a:lstStyle/>
        <a:p>
          <a:endParaRPr lang="ru-RU"/>
        </a:p>
      </dgm:t>
    </dgm:pt>
    <dgm:pt modelId="{587081D5-B5FF-4E9C-AE45-6B72074CE7BB}">
      <dgm:prSet phldrT="[Текст]"/>
      <dgm:spPr/>
      <dgm:t>
        <a:bodyPr/>
        <a:lstStyle/>
        <a:p>
          <a:r>
            <a:rPr lang="ru-RU" dirty="0" smtClean="0"/>
            <a:t>фонология</a:t>
          </a:r>
          <a:endParaRPr lang="ru-RU" dirty="0"/>
        </a:p>
      </dgm:t>
    </dgm:pt>
    <dgm:pt modelId="{7003AA4D-D478-47E7-984B-341A62FD9C22}" type="parTrans" cxnId="{0563DEAD-D4FE-44DE-81BF-F759983A3203}">
      <dgm:prSet/>
      <dgm:spPr/>
      <dgm:t>
        <a:bodyPr/>
        <a:lstStyle/>
        <a:p>
          <a:endParaRPr lang="ru-RU"/>
        </a:p>
      </dgm:t>
    </dgm:pt>
    <dgm:pt modelId="{40615D1F-0A03-4E52-BDF5-DA050394C253}" type="sibTrans" cxnId="{0563DEAD-D4FE-44DE-81BF-F759983A3203}">
      <dgm:prSet/>
      <dgm:spPr/>
      <dgm:t>
        <a:bodyPr/>
        <a:lstStyle/>
        <a:p>
          <a:endParaRPr lang="ru-RU"/>
        </a:p>
      </dgm:t>
    </dgm:pt>
    <dgm:pt modelId="{CE8FEB97-EB38-4B0A-99A1-45851188021A}" type="pres">
      <dgm:prSet presAssocID="{3A9F2CF6-F731-4043-851D-EB2E27CC7567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A7840ECF-01E7-4F28-9B77-F7FF57DCCCD8}" type="pres">
      <dgm:prSet presAssocID="{008BD513-C931-461A-B077-3D8D266F0A4C}" presName="node" presStyleLbl="node1" presStyleIdx="0" presStyleCnt="5" custScaleX="146406" custScaleY="14329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BB3D4E0-30D4-44EA-8D4E-31622A282017}" type="pres">
      <dgm:prSet presAssocID="{E97E3301-F201-4D3C-B405-069DA2B39548}" presName="sibTrans" presStyleLbl="sibTrans2D1" presStyleIdx="0" presStyleCnt="5"/>
      <dgm:spPr/>
      <dgm:t>
        <a:bodyPr/>
        <a:lstStyle/>
        <a:p>
          <a:endParaRPr lang="ru-RU"/>
        </a:p>
      </dgm:t>
    </dgm:pt>
    <dgm:pt modelId="{532FBCBD-91DE-4C49-AC54-9E37F60CB4B4}" type="pres">
      <dgm:prSet presAssocID="{E97E3301-F201-4D3C-B405-069DA2B39548}" presName="connectorText" presStyleLbl="sibTrans2D1" presStyleIdx="0" presStyleCnt="5"/>
      <dgm:spPr/>
      <dgm:t>
        <a:bodyPr/>
        <a:lstStyle/>
        <a:p>
          <a:endParaRPr lang="ru-RU"/>
        </a:p>
      </dgm:t>
    </dgm:pt>
    <dgm:pt modelId="{0187E3AB-1101-4577-AE37-B3C3A1568888}" type="pres">
      <dgm:prSet presAssocID="{649F430D-D6FD-4721-AD87-4EE95A028906}" presName="node" presStyleLbl="node1" presStyleIdx="1" presStyleCnt="5" custScaleX="143780" custScaleY="13322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D5EB15-3EEE-4A99-8FE2-1A571E860970}" type="pres">
      <dgm:prSet presAssocID="{46B1FF28-3133-422A-B38D-06A119E1973D}" presName="sibTrans" presStyleLbl="sibTrans2D1" presStyleIdx="1" presStyleCnt="5"/>
      <dgm:spPr/>
      <dgm:t>
        <a:bodyPr/>
        <a:lstStyle/>
        <a:p>
          <a:endParaRPr lang="ru-RU"/>
        </a:p>
      </dgm:t>
    </dgm:pt>
    <dgm:pt modelId="{07A502CE-AF3B-4B67-B47D-0024110714B5}" type="pres">
      <dgm:prSet presAssocID="{46B1FF28-3133-422A-B38D-06A119E1973D}" presName="connectorText" presStyleLbl="sibTrans2D1" presStyleIdx="1" presStyleCnt="5"/>
      <dgm:spPr/>
      <dgm:t>
        <a:bodyPr/>
        <a:lstStyle/>
        <a:p>
          <a:endParaRPr lang="ru-RU"/>
        </a:p>
      </dgm:t>
    </dgm:pt>
    <dgm:pt modelId="{64A53D6A-8D87-4280-A1B8-0283AD032F86}" type="pres">
      <dgm:prSet presAssocID="{CADA5F7D-96A0-42BC-901F-5067BD1DDB4E}" presName="node" presStyleLbl="node1" presStyleIdx="2" presStyleCnt="5" custScaleX="143512" custScaleY="14992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6D42E31-7AA0-43BB-830F-45E40EEF8692}" type="pres">
      <dgm:prSet presAssocID="{82BD263C-C240-4B0C-B72D-51A2AFC6959E}" presName="sibTrans" presStyleLbl="sibTrans2D1" presStyleIdx="2" presStyleCnt="5"/>
      <dgm:spPr/>
      <dgm:t>
        <a:bodyPr/>
        <a:lstStyle/>
        <a:p>
          <a:endParaRPr lang="ru-RU"/>
        </a:p>
      </dgm:t>
    </dgm:pt>
    <dgm:pt modelId="{977CD164-E7D0-4634-8740-AFF449AA390A}" type="pres">
      <dgm:prSet presAssocID="{82BD263C-C240-4B0C-B72D-51A2AFC6959E}" presName="connectorText" presStyleLbl="sibTrans2D1" presStyleIdx="2" presStyleCnt="5"/>
      <dgm:spPr/>
      <dgm:t>
        <a:bodyPr/>
        <a:lstStyle/>
        <a:p>
          <a:endParaRPr lang="ru-RU"/>
        </a:p>
      </dgm:t>
    </dgm:pt>
    <dgm:pt modelId="{E004EB09-C8E7-441A-9774-0F66D2AD3487}" type="pres">
      <dgm:prSet presAssocID="{C2D28FC4-D891-4D2C-B106-8D635429FBCC}" presName="node" presStyleLbl="node1" presStyleIdx="3" presStyleCnt="5" custScaleX="141562" custScaleY="14722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E6CCC7A-DA6E-4086-9D57-128856DE2978}" type="pres">
      <dgm:prSet presAssocID="{3C63530A-D9D2-4EBA-882E-F7774702FF03}" presName="sibTrans" presStyleLbl="sibTrans2D1" presStyleIdx="3" presStyleCnt="5"/>
      <dgm:spPr/>
      <dgm:t>
        <a:bodyPr/>
        <a:lstStyle/>
        <a:p>
          <a:endParaRPr lang="ru-RU"/>
        </a:p>
      </dgm:t>
    </dgm:pt>
    <dgm:pt modelId="{74F32375-94AD-40AA-B192-F05A77BB5F5D}" type="pres">
      <dgm:prSet presAssocID="{3C63530A-D9D2-4EBA-882E-F7774702FF03}" presName="connectorText" presStyleLbl="sibTrans2D1" presStyleIdx="3" presStyleCnt="5"/>
      <dgm:spPr/>
      <dgm:t>
        <a:bodyPr/>
        <a:lstStyle/>
        <a:p>
          <a:endParaRPr lang="ru-RU"/>
        </a:p>
      </dgm:t>
    </dgm:pt>
    <dgm:pt modelId="{D5352D00-F47A-418E-BAB0-4F85C339BA08}" type="pres">
      <dgm:prSet presAssocID="{587081D5-B5FF-4E9C-AE45-6B72074CE7BB}" presName="node" presStyleLbl="node1" presStyleIdx="4" presStyleCnt="5" custScaleX="150007" custScaleY="14643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5795AD4-927F-48E1-8ADD-92EDE3CE76E1}" type="pres">
      <dgm:prSet presAssocID="{40615D1F-0A03-4E52-BDF5-DA050394C253}" presName="sibTrans" presStyleLbl="sibTrans2D1" presStyleIdx="4" presStyleCnt="5"/>
      <dgm:spPr/>
      <dgm:t>
        <a:bodyPr/>
        <a:lstStyle/>
        <a:p>
          <a:endParaRPr lang="ru-RU"/>
        </a:p>
      </dgm:t>
    </dgm:pt>
    <dgm:pt modelId="{787322C3-B461-44A8-813D-D22FCD8B01DA}" type="pres">
      <dgm:prSet presAssocID="{40615D1F-0A03-4E52-BDF5-DA050394C253}" presName="connectorText" presStyleLbl="sibTrans2D1" presStyleIdx="4" presStyleCnt="5"/>
      <dgm:spPr/>
      <dgm:t>
        <a:bodyPr/>
        <a:lstStyle/>
        <a:p>
          <a:endParaRPr lang="ru-RU"/>
        </a:p>
      </dgm:t>
    </dgm:pt>
  </dgm:ptLst>
  <dgm:cxnLst>
    <dgm:cxn modelId="{BEDC47F6-9DC2-4389-A497-B0D19FE09C2B}" srcId="{3A9F2CF6-F731-4043-851D-EB2E27CC7567}" destId="{C2D28FC4-D891-4D2C-B106-8D635429FBCC}" srcOrd="3" destOrd="0" parTransId="{5C10D4D0-E070-42F4-B352-44E46CA86290}" sibTransId="{3C63530A-D9D2-4EBA-882E-F7774702FF03}"/>
    <dgm:cxn modelId="{7C492355-7B77-431D-88C4-B99014139D1A}" type="presOf" srcId="{46B1FF28-3133-422A-B38D-06A119E1973D}" destId="{1ED5EB15-3EEE-4A99-8FE2-1A571E860970}" srcOrd="0" destOrd="0" presId="urn:microsoft.com/office/officeart/2005/8/layout/cycle2"/>
    <dgm:cxn modelId="{BB2FA868-90C5-4F8F-9252-5082B93A1659}" srcId="{3A9F2CF6-F731-4043-851D-EB2E27CC7567}" destId="{008BD513-C931-461A-B077-3D8D266F0A4C}" srcOrd="0" destOrd="0" parTransId="{FEDF2779-19DA-4F1E-8C69-6CBBB97A04A7}" sibTransId="{E97E3301-F201-4D3C-B405-069DA2B39548}"/>
    <dgm:cxn modelId="{B2D22163-74C7-4996-B071-6A723A6FAB52}" srcId="{3A9F2CF6-F731-4043-851D-EB2E27CC7567}" destId="{649F430D-D6FD-4721-AD87-4EE95A028906}" srcOrd="1" destOrd="0" parTransId="{14D584FC-B9A6-499E-BE08-1429D9A34705}" sibTransId="{46B1FF28-3133-422A-B38D-06A119E1973D}"/>
    <dgm:cxn modelId="{4818B560-6978-40E2-B5D6-D65A2780A7C6}" type="presOf" srcId="{3C63530A-D9D2-4EBA-882E-F7774702FF03}" destId="{7E6CCC7A-DA6E-4086-9D57-128856DE2978}" srcOrd="0" destOrd="0" presId="urn:microsoft.com/office/officeart/2005/8/layout/cycle2"/>
    <dgm:cxn modelId="{19687B99-9DA7-452C-82EE-C8387F1CC5D4}" type="presOf" srcId="{CADA5F7D-96A0-42BC-901F-5067BD1DDB4E}" destId="{64A53D6A-8D87-4280-A1B8-0283AD032F86}" srcOrd="0" destOrd="0" presId="urn:microsoft.com/office/officeart/2005/8/layout/cycle2"/>
    <dgm:cxn modelId="{3BEF6BFD-1C95-43DD-AE8B-950E972D6A9A}" type="presOf" srcId="{649F430D-D6FD-4721-AD87-4EE95A028906}" destId="{0187E3AB-1101-4577-AE37-B3C3A1568888}" srcOrd="0" destOrd="0" presId="urn:microsoft.com/office/officeart/2005/8/layout/cycle2"/>
    <dgm:cxn modelId="{C7D63597-57E4-419B-8D48-DBC1E8EE0971}" type="presOf" srcId="{587081D5-B5FF-4E9C-AE45-6B72074CE7BB}" destId="{D5352D00-F47A-418E-BAB0-4F85C339BA08}" srcOrd="0" destOrd="0" presId="urn:microsoft.com/office/officeart/2005/8/layout/cycle2"/>
    <dgm:cxn modelId="{E9520794-A807-4F5C-8070-FC6682D4A53C}" type="presOf" srcId="{40615D1F-0A03-4E52-BDF5-DA050394C253}" destId="{787322C3-B461-44A8-813D-D22FCD8B01DA}" srcOrd="1" destOrd="0" presId="urn:microsoft.com/office/officeart/2005/8/layout/cycle2"/>
    <dgm:cxn modelId="{8A401813-A783-4AA1-8852-56C1C1C3E0AC}" type="presOf" srcId="{C2D28FC4-D891-4D2C-B106-8D635429FBCC}" destId="{E004EB09-C8E7-441A-9774-0F66D2AD3487}" srcOrd="0" destOrd="0" presId="urn:microsoft.com/office/officeart/2005/8/layout/cycle2"/>
    <dgm:cxn modelId="{4BC9AE37-1D6E-4823-A5C0-86DFFD0CDCF2}" type="presOf" srcId="{3A9F2CF6-F731-4043-851D-EB2E27CC7567}" destId="{CE8FEB97-EB38-4B0A-99A1-45851188021A}" srcOrd="0" destOrd="0" presId="urn:microsoft.com/office/officeart/2005/8/layout/cycle2"/>
    <dgm:cxn modelId="{14F26D98-3813-46E8-8EAF-85415EBC2D5E}" srcId="{3A9F2CF6-F731-4043-851D-EB2E27CC7567}" destId="{CADA5F7D-96A0-42BC-901F-5067BD1DDB4E}" srcOrd="2" destOrd="0" parTransId="{9397DD12-AB30-4AD3-8DBF-389C5957D29D}" sibTransId="{82BD263C-C240-4B0C-B72D-51A2AFC6959E}"/>
    <dgm:cxn modelId="{756D87FA-E335-4536-951F-D517CD28BFDA}" type="presOf" srcId="{40615D1F-0A03-4E52-BDF5-DA050394C253}" destId="{05795AD4-927F-48E1-8ADD-92EDE3CE76E1}" srcOrd="0" destOrd="0" presId="urn:microsoft.com/office/officeart/2005/8/layout/cycle2"/>
    <dgm:cxn modelId="{2FD1E04C-E6EC-4FF3-8331-DAA21872343E}" type="presOf" srcId="{82BD263C-C240-4B0C-B72D-51A2AFC6959E}" destId="{F6D42E31-7AA0-43BB-830F-45E40EEF8692}" srcOrd="0" destOrd="0" presId="urn:microsoft.com/office/officeart/2005/8/layout/cycle2"/>
    <dgm:cxn modelId="{AF472D33-A337-4F77-B893-4E720B30BB8D}" type="presOf" srcId="{E97E3301-F201-4D3C-B405-069DA2B39548}" destId="{4BB3D4E0-30D4-44EA-8D4E-31622A282017}" srcOrd="0" destOrd="0" presId="urn:microsoft.com/office/officeart/2005/8/layout/cycle2"/>
    <dgm:cxn modelId="{0563DEAD-D4FE-44DE-81BF-F759983A3203}" srcId="{3A9F2CF6-F731-4043-851D-EB2E27CC7567}" destId="{587081D5-B5FF-4E9C-AE45-6B72074CE7BB}" srcOrd="4" destOrd="0" parTransId="{7003AA4D-D478-47E7-984B-341A62FD9C22}" sibTransId="{40615D1F-0A03-4E52-BDF5-DA050394C253}"/>
    <dgm:cxn modelId="{1E96C67A-7FE0-4533-934E-6A293725194B}" type="presOf" srcId="{3C63530A-D9D2-4EBA-882E-F7774702FF03}" destId="{74F32375-94AD-40AA-B192-F05A77BB5F5D}" srcOrd="1" destOrd="0" presId="urn:microsoft.com/office/officeart/2005/8/layout/cycle2"/>
    <dgm:cxn modelId="{337F5AD6-3512-403F-8057-12AD63614539}" type="presOf" srcId="{E97E3301-F201-4D3C-B405-069DA2B39548}" destId="{532FBCBD-91DE-4C49-AC54-9E37F60CB4B4}" srcOrd="1" destOrd="0" presId="urn:microsoft.com/office/officeart/2005/8/layout/cycle2"/>
    <dgm:cxn modelId="{554BE5F3-4740-4B06-AC14-442A969BBDED}" type="presOf" srcId="{46B1FF28-3133-422A-B38D-06A119E1973D}" destId="{07A502CE-AF3B-4B67-B47D-0024110714B5}" srcOrd="1" destOrd="0" presId="urn:microsoft.com/office/officeart/2005/8/layout/cycle2"/>
    <dgm:cxn modelId="{F71FF157-13D3-43BF-AB82-42EFF431C334}" type="presOf" srcId="{008BD513-C931-461A-B077-3D8D266F0A4C}" destId="{A7840ECF-01E7-4F28-9B77-F7FF57DCCCD8}" srcOrd="0" destOrd="0" presId="urn:microsoft.com/office/officeart/2005/8/layout/cycle2"/>
    <dgm:cxn modelId="{BECB311D-1E8B-4227-9894-C893D6130CF8}" type="presOf" srcId="{82BD263C-C240-4B0C-B72D-51A2AFC6959E}" destId="{977CD164-E7D0-4634-8740-AFF449AA390A}" srcOrd="1" destOrd="0" presId="urn:microsoft.com/office/officeart/2005/8/layout/cycle2"/>
    <dgm:cxn modelId="{9AC9C2C5-BFCE-43D2-9E8E-9029C7185132}" type="presParOf" srcId="{CE8FEB97-EB38-4B0A-99A1-45851188021A}" destId="{A7840ECF-01E7-4F28-9B77-F7FF57DCCCD8}" srcOrd="0" destOrd="0" presId="urn:microsoft.com/office/officeart/2005/8/layout/cycle2"/>
    <dgm:cxn modelId="{492D06E3-F366-4DA5-B3F6-8085544C715F}" type="presParOf" srcId="{CE8FEB97-EB38-4B0A-99A1-45851188021A}" destId="{4BB3D4E0-30D4-44EA-8D4E-31622A282017}" srcOrd="1" destOrd="0" presId="urn:microsoft.com/office/officeart/2005/8/layout/cycle2"/>
    <dgm:cxn modelId="{48EA9D48-F8F5-455A-8976-B498C91DF95C}" type="presParOf" srcId="{4BB3D4E0-30D4-44EA-8D4E-31622A282017}" destId="{532FBCBD-91DE-4C49-AC54-9E37F60CB4B4}" srcOrd="0" destOrd="0" presId="urn:microsoft.com/office/officeart/2005/8/layout/cycle2"/>
    <dgm:cxn modelId="{6363C987-3F9E-4A39-9801-4E96441829D3}" type="presParOf" srcId="{CE8FEB97-EB38-4B0A-99A1-45851188021A}" destId="{0187E3AB-1101-4577-AE37-B3C3A1568888}" srcOrd="2" destOrd="0" presId="urn:microsoft.com/office/officeart/2005/8/layout/cycle2"/>
    <dgm:cxn modelId="{212D596E-4A54-4D94-87FF-1373B6620B56}" type="presParOf" srcId="{CE8FEB97-EB38-4B0A-99A1-45851188021A}" destId="{1ED5EB15-3EEE-4A99-8FE2-1A571E860970}" srcOrd="3" destOrd="0" presId="urn:microsoft.com/office/officeart/2005/8/layout/cycle2"/>
    <dgm:cxn modelId="{0DA051E8-2CEF-4CD2-A4FE-BA65A448ACDB}" type="presParOf" srcId="{1ED5EB15-3EEE-4A99-8FE2-1A571E860970}" destId="{07A502CE-AF3B-4B67-B47D-0024110714B5}" srcOrd="0" destOrd="0" presId="urn:microsoft.com/office/officeart/2005/8/layout/cycle2"/>
    <dgm:cxn modelId="{BD753690-5255-46C7-9522-E9A2A6CDF4CD}" type="presParOf" srcId="{CE8FEB97-EB38-4B0A-99A1-45851188021A}" destId="{64A53D6A-8D87-4280-A1B8-0283AD032F86}" srcOrd="4" destOrd="0" presId="urn:microsoft.com/office/officeart/2005/8/layout/cycle2"/>
    <dgm:cxn modelId="{AA9A572A-17FC-4225-901C-FE2C6BAE8784}" type="presParOf" srcId="{CE8FEB97-EB38-4B0A-99A1-45851188021A}" destId="{F6D42E31-7AA0-43BB-830F-45E40EEF8692}" srcOrd="5" destOrd="0" presId="urn:microsoft.com/office/officeart/2005/8/layout/cycle2"/>
    <dgm:cxn modelId="{9B6E97EE-E5C0-4035-B491-00AC53C2DED3}" type="presParOf" srcId="{F6D42E31-7AA0-43BB-830F-45E40EEF8692}" destId="{977CD164-E7D0-4634-8740-AFF449AA390A}" srcOrd="0" destOrd="0" presId="urn:microsoft.com/office/officeart/2005/8/layout/cycle2"/>
    <dgm:cxn modelId="{57A861D6-F17A-43B7-8A4D-14CD374D30B1}" type="presParOf" srcId="{CE8FEB97-EB38-4B0A-99A1-45851188021A}" destId="{E004EB09-C8E7-441A-9774-0F66D2AD3487}" srcOrd="6" destOrd="0" presId="urn:microsoft.com/office/officeart/2005/8/layout/cycle2"/>
    <dgm:cxn modelId="{C284E188-B2BA-4A0D-AE41-7195A5EAC9B1}" type="presParOf" srcId="{CE8FEB97-EB38-4B0A-99A1-45851188021A}" destId="{7E6CCC7A-DA6E-4086-9D57-128856DE2978}" srcOrd="7" destOrd="0" presId="urn:microsoft.com/office/officeart/2005/8/layout/cycle2"/>
    <dgm:cxn modelId="{465755B4-7F4E-44C5-ACE4-C897C422C317}" type="presParOf" srcId="{7E6CCC7A-DA6E-4086-9D57-128856DE2978}" destId="{74F32375-94AD-40AA-B192-F05A77BB5F5D}" srcOrd="0" destOrd="0" presId="urn:microsoft.com/office/officeart/2005/8/layout/cycle2"/>
    <dgm:cxn modelId="{7321D18E-CEB7-4AC1-B781-7574BEF814B9}" type="presParOf" srcId="{CE8FEB97-EB38-4B0A-99A1-45851188021A}" destId="{D5352D00-F47A-418E-BAB0-4F85C339BA08}" srcOrd="8" destOrd="0" presId="urn:microsoft.com/office/officeart/2005/8/layout/cycle2"/>
    <dgm:cxn modelId="{08D6B56A-7010-4C0E-AC06-39A95BCEDAF9}" type="presParOf" srcId="{CE8FEB97-EB38-4B0A-99A1-45851188021A}" destId="{05795AD4-927F-48E1-8ADD-92EDE3CE76E1}" srcOrd="9" destOrd="0" presId="urn:microsoft.com/office/officeart/2005/8/layout/cycle2"/>
    <dgm:cxn modelId="{B917CCCA-1DA9-4F35-8756-F454682CAAF5}" type="presParOf" srcId="{05795AD4-927F-48E1-8ADD-92EDE3CE76E1}" destId="{787322C3-B461-44A8-813D-D22FCD8B01DA}" srcOrd="0" destOrd="0" presId="urn:microsoft.com/office/officeart/2005/8/layout/cycle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76138A6F-69E1-4C46-825D-CCE2FAFE982F}">
      <dsp:nvSpPr>
        <dsp:cNvPr id="0" name=""/>
        <dsp:cNvSpPr/>
      </dsp:nvSpPr>
      <dsp:spPr>
        <a:xfrm>
          <a:off x="1372671" y="1748403"/>
          <a:ext cx="2570745" cy="1714687"/>
        </a:xfrm>
        <a:prstGeom prst="rect">
          <a:avLst/>
        </a:prstGeom>
        <a:solidFill>
          <a:schemeClr val="accent1">
            <a:alpha val="90000"/>
            <a:tint val="4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42240" rIns="142240" bIns="142240" numCol="1" spcCol="1270" anchor="ctr" anchorCtr="0">
          <a:noAutofit/>
        </a:bodyPr>
        <a:lstStyle/>
        <a:p>
          <a:pPr lvl="0" algn="l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линико-педагогическая классификация</a:t>
          </a:r>
          <a:endParaRPr lang="ru-RU" sz="2000" kern="1200" dirty="0"/>
        </a:p>
      </dsp:txBody>
      <dsp:txXfrm>
        <a:off x="1783990" y="1748403"/>
        <a:ext cx="2159426" cy="1714687"/>
      </dsp:txXfrm>
    </dsp:sp>
    <dsp:sp modelId="{2DDFE4C8-B33E-4185-BE39-03F29548F845}">
      <dsp:nvSpPr>
        <dsp:cNvPr id="0" name=""/>
        <dsp:cNvSpPr/>
      </dsp:nvSpPr>
      <dsp:spPr>
        <a:xfrm>
          <a:off x="1607" y="1062871"/>
          <a:ext cx="1713830" cy="1713830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err="1" smtClean="0"/>
            <a:t>Этиопатогенез</a:t>
          </a:r>
          <a:endParaRPr lang="ru-RU" sz="2000" kern="1200" dirty="0"/>
        </a:p>
      </dsp:txBody>
      <dsp:txXfrm>
        <a:off x="1607" y="1062871"/>
        <a:ext cx="1713830" cy="1713830"/>
      </dsp:txXfrm>
    </dsp:sp>
    <dsp:sp modelId="{BB7AC5D0-064D-41D3-A1CC-03CE6F5849AA}">
      <dsp:nvSpPr>
        <dsp:cNvPr id="0" name=""/>
        <dsp:cNvSpPr/>
      </dsp:nvSpPr>
      <dsp:spPr>
        <a:xfrm>
          <a:off x="5657247" y="1748403"/>
          <a:ext cx="2570745" cy="1714687"/>
        </a:xfrm>
        <a:prstGeom prst="rect">
          <a:avLst/>
        </a:prstGeom>
        <a:solidFill>
          <a:schemeClr val="accent1">
            <a:alpha val="90000"/>
            <a:tint val="4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42240" rIns="142240" bIns="142240" numCol="1" spcCol="1270" anchor="ctr" anchorCtr="0">
          <a:noAutofit/>
        </a:bodyPr>
        <a:lstStyle/>
        <a:p>
          <a:pPr lvl="0" algn="l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Психолого-педагогическая классификация</a:t>
          </a:r>
          <a:endParaRPr lang="ru-RU" sz="2000" kern="1200" dirty="0"/>
        </a:p>
      </dsp:txBody>
      <dsp:txXfrm>
        <a:off x="6068566" y="1748403"/>
        <a:ext cx="2159426" cy="1714687"/>
      </dsp:txXfrm>
    </dsp:sp>
    <dsp:sp modelId="{F42D4993-042D-4A05-9F72-5C51C78AE00C}">
      <dsp:nvSpPr>
        <dsp:cNvPr id="0" name=""/>
        <dsp:cNvSpPr/>
      </dsp:nvSpPr>
      <dsp:spPr>
        <a:xfrm>
          <a:off x="4286183" y="1062871"/>
          <a:ext cx="1713830" cy="1713830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kern="1200" dirty="0" smtClean="0"/>
            <a:t>Системность речи</a:t>
          </a:r>
          <a:endParaRPr lang="ru-RU" sz="1400" kern="1200" dirty="0"/>
        </a:p>
      </dsp:txBody>
      <dsp:txXfrm>
        <a:off x="4286183" y="1062871"/>
        <a:ext cx="1713830" cy="1713830"/>
      </dsp:txXfrm>
    </dsp:sp>
  </dsp:spTree>
</dsp:drawing>
</file>

<file path=ppt/diagrams/drawing10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00D08FC1-9BAE-4408-824E-654FE8ED84FB}">
      <dsp:nvSpPr>
        <dsp:cNvPr id="0" name=""/>
        <dsp:cNvSpPr/>
      </dsp:nvSpPr>
      <dsp:spPr>
        <a:xfrm>
          <a:off x="0" y="4431"/>
          <a:ext cx="8229600" cy="167894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3350" tIns="133350" rIns="133350" bIns="133350" numCol="1" spcCol="1270" anchor="ctr" anchorCtr="0">
          <a:noAutofit/>
        </a:bodyPr>
        <a:lstStyle/>
        <a:p>
          <a:pPr lvl="0" algn="l" defTabSz="1555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500" kern="1200" dirty="0" err="1" smtClean="0"/>
            <a:t>Подчинненость</a:t>
          </a:r>
          <a:r>
            <a:rPr lang="ru-RU" sz="3500" kern="1200" dirty="0" smtClean="0"/>
            <a:t> отбора языкового материала задачам общения</a:t>
          </a:r>
          <a:endParaRPr lang="ru-RU" sz="3500" kern="1200" dirty="0"/>
        </a:p>
      </dsp:txBody>
      <dsp:txXfrm>
        <a:off x="0" y="4431"/>
        <a:ext cx="8229600" cy="1678949"/>
      </dsp:txXfrm>
    </dsp:sp>
    <dsp:sp modelId="{EC53B916-B228-43C2-8B9F-06143E265028}">
      <dsp:nvSpPr>
        <dsp:cNvPr id="0" name=""/>
        <dsp:cNvSpPr/>
      </dsp:nvSpPr>
      <dsp:spPr>
        <a:xfrm>
          <a:off x="0" y="1683381"/>
          <a:ext cx="8229600" cy="57960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44450" rIns="248920" bIns="44450" numCol="1" spcCol="1270" anchor="t" anchorCtr="0">
          <a:noAutofit/>
        </a:bodyPr>
        <a:lstStyle/>
        <a:p>
          <a:pPr marL="228600" lvl="1" indent="-228600" algn="l" defTabSz="120015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ru-RU" sz="2700" kern="1200"/>
        </a:p>
      </dsp:txBody>
      <dsp:txXfrm>
        <a:off x="0" y="1683381"/>
        <a:ext cx="8229600" cy="579600"/>
      </dsp:txXfrm>
    </dsp:sp>
    <dsp:sp modelId="{19EC25EF-E6C5-4731-B157-E00331F52457}">
      <dsp:nvSpPr>
        <dsp:cNvPr id="0" name=""/>
        <dsp:cNvSpPr/>
      </dsp:nvSpPr>
      <dsp:spPr>
        <a:xfrm>
          <a:off x="0" y="2262981"/>
          <a:ext cx="8229600" cy="167894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3350" tIns="133350" rIns="133350" bIns="133350" numCol="1" spcCol="1270" anchor="ctr" anchorCtr="0">
          <a:noAutofit/>
        </a:bodyPr>
        <a:lstStyle/>
        <a:p>
          <a:pPr lvl="0" algn="l" defTabSz="1555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500" kern="1200" dirty="0" smtClean="0"/>
            <a:t>Минимизация отбора языковых явлений</a:t>
          </a:r>
          <a:endParaRPr lang="ru-RU" sz="3500" kern="1200" dirty="0"/>
        </a:p>
      </dsp:txBody>
      <dsp:txXfrm>
        <a:off x="0" y="2262981"/>
        <a:ext cx="8229600" cy="1678949"/>
      </dsp:txXfrm>
    </dsp:sp>
    <dsp:sp modelId="{451272E3-7976-4FB2-A9B2-47290F741A7F}">
      <dsp:nvSpPr>
        <dsp:cNvPr id="0" name=""/>
        <dsp:cNvSpPr/>
      </dsp:nvSpPr>
      <dsp:spPr>
        <a:xfrm>
          <a:off x="0" y="3941930"/>
          <a:ext cx="8229600" cy="57960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44450" rIns="248920" bIns="44450" numCol="1" spcCol="1270" anchor="t" anchorCtr="0">
          <a:noAutofit/>
        </a:bodyPr>
        <a:lstStyle/>
        <a:p>
          <a:pPr marL="228600" lvl="1" indent="-228600" algn="l" defTabSz="120015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ru-RU" sz="2700" kern="1200"/>
        </a:p>
      </dsp:txBody>
      <dsp:txXfrm>
        <a:off x="0" y="3941930"/>
        <a:ext cx="8229600" cy="579600"/>
      </dsp:txXfrm>
    </dsp:sp>
  </dsp:spTree>
</dsp:drawing>
</file>

<file path=ppt/diagrams/drawing1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A374F94-BC0F-44CB-905E-B41B6383ADAC}">
      <dsp:nvSpPr>
        <dsp:cNvPr id="0" name=""/>
        <dsp:cNvSpPr/>
      </dsp:nvSpPr>
      <dsp:spPr>
        <a:xfrm>
          <a:off x="0" y="1049061"/>
          <a:ext cx="8229600" cy="6048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A5DEE2BB-8E22-4316-8428-60E8DECE255A}">
      <dsp:nvSpPr>
        <dsp:cNvPr id="0" name=""/>
        <dsp:cNvSpPr/>
      </dsp:nvSpPr>
      <dsp:spPr>
        <a:xfrm>
          <a:off x="411480" y="694821"/>
          <a:ext cx="5760720" cy="7084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Признаки социального характера</a:t>
          </a:r>
          <a:endParaRPr lang="ru-RU" sz="2400" kern="1200" dirty="0"/>
        </a:p>
      </dsp:txBody>
      <dsp:txXfrm>
        <a:off x="411480" y="694821"/>
        <a:ext cx="5760720" cy="708480"/>
      </dsp:txXfrm>
    </dsp:sp>
    <dsp:sp modelId="{7969B80F-2CE5-4ED8-B910-31853EC34495}">
      <dsp:nvSpPr>
        <dsp:cNvPr id="0" name=""/>
        <dsp:cNvSpPr/>
      </dsp:nvSpPr>
      <dsp:spPr>
        <a:xfrm>
          <a:off x="0" y="2137701"/>
          <a:ext cx="8229600" cy="6048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EBC8A20-AA53-43FB-A560-8399EA5853F7}">
      <dsp:nvSpPr>
        <dsp:cNvPr id="0" name=""/>
        <dsp:cNvSpPr/>
      </dsp:nvSpPr>
      <dsp:spPr>
        <a:xfrm>
          <a:off x="411480" y="1783461"/>
          <a:ext cx="5760720" cy="7084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Признаки возрастного характера</a:t>
          </a:r>
          <a:endParaRPr lang="ru-RU" sz="2400" kern="1200" dirty="0"/>
        </a:p>
      </dsp:txBody>
      <dsp:txXfrm>
        <a:off x="411480" y="1783461"/>
        <a:ext cx="5760720" cy="708480"/>
      </dsp:txXfrm>
    </dsp:sp>
    <dsp:sp modelId="{43CE7777-6A4B-418F-8FC8-D838972B4E44}">
      <dsp:nvSpPr>
        <dsp:cNvPr id="0" name=""/>
        <dsp:cNvSpPr/>
      </dsp:nvSpPr>
      <dsp:spPr>
        <a:xfrm>
          <a:off x="0" y="3226341"/>
          <a:ext cx="8229600" cy="6048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12DF015-B78E-4F6C-9AEE-8359D30C1DC0}">
      <dsp:nvSpPr>
        <dsp:cNvPr id="0" name=""/>
        <dsp:cNvSpPr/>
      </dsp:nvSpPr>
      <dsp:spPr>
        <a:xfrm>
          <a:off x="411480" y="2872100"/>
          <a:ext cx="5760720" cy="7084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Ситуативные признаки</a:t>
          </a:r>
          <a:endParaRPr lang="ru-RU" sz="2400" kern="1200" dirty="0"/>
        </a:p>
      </dsp:txBody>
      <dsp:txXfrm>
        <a:off x="411480" y="2872100"/>
        <a:ext cx="5760720" cy="708480"/>
      </dsp:txXfrm>
    </dsp:sp>
  </dsp:spTree>
</dsp:drawing>
</file>

<file path=ppt/diagrams/drawing1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39569224-4D0F-454F-BF66-07924928D383}">
      <dsp:nvSpPr>
        <dsp:cNvPr id="0" name=""/>
        <dsp:cNvSpPr/>
      </dsp:nvSpPr>
      <dsp:spPr>
        <a:xfrm>
          <a:off x="3963910" y="1724683"/>
          <a:ext cx="1659783" cy="789905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538297"/>
              </a:lnTo>
              <a:lnTo>
                <a:pt x="1659783" y="538297"/>
              </a:lnTo>
              <a:lnTo>
                <a:pt x="1659783" y="789905"/>
              </a:lnTo>
            </a:path>
          </a:pathLst>
        </a:custGeom>
        <a:noFill/>
        <a:ln w="55000" cap="flat" cmpd="thickThin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2B20D9EC-65E4-48C4-8016-16F53F493F18}">
      <dsp:nvSpPr>
        <dsp:cNvPr id="0" name=""/>
        <dsp:cNvSpPr/>
      </dsp:nvSpPr>
      <dsp:spPr>
        <a:xfrm>
          <a:off x="2304127" y="1724683"/>
          <a:ext cx="1659783" cy="789905"/>
        </a:xfrm>
        <a:custGeom>
          <a:avLst/>
          <a:gdLst/>
          <a:ahLst/>
          <a:cxnLst/>
          <a:rect l="0" t="0" r="0" b="0"/>
          <a:pathLst>
            <a:path>
              <a:moveTo>
                <a:pt x="1659783" y="0"/>
              </a:moveTo>
              <a:lnTo>
                <a:pt x="1659783" y="538297"/>
              </a:lnTo>
              <a:lnTo>
                <a:pt x="0" y="538297"/>
              </a:lnTo>
              <a:lnTo>
                <a:pt x="0" y="789905"/>
              </a:lnTo>
            </a:path>
          </a:pathLst>
        </a:custGeom>
        <a:noFill/>
        <a:ln w="55000" cap="flat" cmpd="thickThin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8A2F251-2B74-42FC-ABDC-EAE0C0B1FC53}">
      <dsp:nvSpPr>
        <dsp:cNvPr id="0" name=""/>
        <dsp:cNvSpPr/>
      </dsp:nvSpPr>
      <dsp:spPr>
        <a:xfrm>
          <a:off x="2605906" y="17"/>
          <a:ext cx="2716009" cy="1724665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4CB3F2A7-DE1B-46EC-8325-4475C4272C7D}">
      <dsp:nvSpPr>
        <dsp:cNvPr id="0" name=""/>
        <dsp:cNvSpPr/>
      </dsp:nvSpPr>
      <dsp:spPr>
        <a:xfrm>
          <a:off x="2907684" y="286707"/>
          <a:ext cx="2716009" cy="1724665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300" kern="1200" dirty="0" smtClean="0"/>
            <a:t>Социальных характер общения</a:t>
          </a:r>
          <a:endParaRPr lang="ru-RU" sz="2300" kern="1200" dirty="0"/>
        </a:p>
      </dsp:txBody>
      <dsp:txXfrm>
        <a:off x="2907684" y="286707"/>
        <a:ext cx="2716009" cy="1724665"/>
      </dsp:txXfrm>
    </dsp:sp>
    <dsp:sp modelId="{F8E6982A-8B61-4394-B104-842D1A08450D}">
      <dsp:nvSpPr>
        <dsp:cNvPr id="0" name=""/>
        <dsp:cNvSpPr/>
      </dsp:nvSpPr>
      <dsp:spPr>
        <a:xfrm>
          <a:off x="946122" y="2514589"/>
          <a:ext cx="2716009" cy="1724665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6035129-38BE-46AC-BCDC-B5AEAC56226E}">
      <dsp:nvSpPr>
        <dsp:cNvPr id="0" name=""/>
        <dsp:cNvSpPr/>
      </dsp:nvSpPr>
      <dsp:spPr>
        <a:xfrm>
          <a:off x="1247901" y="2801278"/>
          <a:ext cx="2716009" cy="1724665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300" kern="1200" dirty="0" smtClean="0"/>
            <a:t>Ребенок-ребенок</a:t>
          </a:r>
          <a:endParaRPr lang="ru-RU" sz="2300" kern="1200" dirty="0"/>
        </a:p>
      </dsp:txBody>
      <dsp:txXfrm>
        <a:off x="1247901" y="2801278"/>
        <a:ext cx="2716009" cy="1724665"/>
      </dsp:txXfrm>
    </dsp:sp>
    <dsp:sp modelId="{D2805A92-E0F2-409A-8626-B466033176DE}">
      <dsp:nvSpPr>
        <dsp:cNvPr id="0" name=""/>
        <dsp:cNvSpPr/>
      </dsp:nvSpPr>
      <dsp:spPr>
        <a:xfrm>
          <a:off x="4265689" y="2514589"/>
          <a:ext cx="2716009" cy="1724665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1153E7DC-A186-47F8-A656-16706E0C88A2}">
      <dsp:nvSpPr>
        <dsp:cNvPr id="0" name=""/>
        <dsp:cNvSpPr/>
      </dsp:nvSpPr>
      <dsp:spPr>
        <a:xfrm>
          <a:off x="4567468" y="2801278"/>
          <a:ext cx="2716009" cy="1724665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300" kern="1200" dirty="0" smtClean="0"/>
            <a:t>Учитель-ученик, ребенок-логопед</a:t>
          </a:r>
          <a:endParaRPr lang="ru-RU" sz="2300" kern="1200" dirty="0"/>
        </a:p>
      </dsp:txBody>
      <dsp:txXfrm>
        <a:off x="4567468" y="2801278"/>
        <a:ext cx="2716009" cy="1724665"/>
      </dsp:txXfrm>
    </dsp:sp>
  </dsp:spTree>
</dsp:drawing>
</file>

<file path=ppt/diagrams/drawing1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8C8DE9D-71E9-4C79-BF1C-CF8D7C4A4480}">
      <dsp:nvSpPr>
        <dsp:cNvPr id="0" name=""/>
        <dsp:cNvSpPr/>
      </dsp:nvSpPr>
      <dsp:spPr>
        <a:xfrm>
          <a:off x="0" y="0"/>
          <a:ext cx="8229600" cy="1523529"/>
        </a:xfrm>
        <a:prstGeom prst="rect">
          <a:avLst/>
        </a:prstGeom>
        <a:solidFill>
          <a:schemeClr val="accent1">
            <a:shade val="8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33350" tIns="133350" rIns="133350" bIns="133350" numCol="1" spcCol="1270" anchor="ctr" anchorCtr="0">
          <a:noAutofit/>
        </a:bodyPr>
        <a:lstStyle/>
        <a:p>
          <a:pPr lvl="0" algn="ctr" defTabSz="1555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500" kern="1200" dirty="0" smtClean="0"/>
            <a:t>Характеристики речевого общения</a:t>
          </a:r>
          <a:endParaRPr lang="ru-RU" sz="3500" kern="1200" dirty="0"/>
        </a:p>
      </dsp:txBody>
      <dsp:txXfrm>
        <a:off x="0" y="0"/>
        <a:ext cx="8229600" cy="1523529"/>
      </dsp:txXfrm>
    </dsp:sp>
    <dsp:sp modelId="{4592FC57-76FB-4AF5-BA88-7AF102F832E4}">
      <dsp:nvSpPr>
        <dsp:cNvPr id="0" name=""/>
        <dsp:cNvSpPr/>
      </dsp:nvSpPr>
      <dsp:spPr>
        <a:xfrm>
          <a:off x="4018" y="1523529"/>
          <a:ext cx="2740521" cy="319941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5250" tIns="95250" rIns="95250" bIns="95250" numCol="1" spcCol="1270" anchor="ctr" anchorCtr="0">
          <a:noAutofit/>
        </a:bodyPr>
        <a:lstStyle/>
        <a:p>
          <a:pPr lvl="0" algn="ctr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500" kern="1200" dirty="0" smtClean="0"/>
            <a:t>Общий объем речевой продукции</a:t>
          </a:r>
          <a:endParaRPr lang="ru-RU" sz="2500" kern="1200" dirty="0"/>
        </a:p>
      </dsp:txBody>
      <dsp:txXfrm>
        <a:off x="4018" y="1523529"/>
        <a:ext cx="2740521" cy="3199410"/>
      </dsp:txXfrm>
    </dsp:sp>
    <dsp:sp modelId="{DFA2033E-2EDF-4572-A9D3-833782F839D8}">
      <dsp:nvSpPr>
        <dsp:cNvPr id="0" name=""/>
        <dsp:cNvSpPr/>
      </dsp:nvSpPr>
      <dsp:spPr>
        <a:xfrm>
          <a:off x="2744539" y="1523529"/>
          <a:ext cx="2740521" cy="319941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5250" tIns="95250" rIns="95250" bIns="95250" numCol="1" spcCol="1270" anchor="ctr" anchorCtr="0">
          <a:noAutofit/>
        </a:bodyPr>
        <a:lstStyle/>
        <a:p>
          <a:pPr lvl="0" algn="ctr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500" kern="1200" dirty="0" smtClean="0"/>
            <a:t>Степень использования различных лексических единиц </a:t>
          </a:r>
          <a:endParaRPr lang="ru-RU" sz="2500" kern="1200" dirty="0"/>
        </a:p>
      </dsp:txBody>
      <dsp:txXfrm>
        <a:off x="2744539" y="1523529"/>
        <a:ext cx="2740521" cy="3199410"/>
      </dsp:txXfrm>
    </dsp:sp>
    <dsp:sp modelId="{04B52299-5E59-4AB1-B7EE-81C2E9FBDA38}">
      <dsp:nvSpPr>
        <dsp:cNvPr id="0" name=""/>
        <dsp:cNvSpPr/>
      </dsp:nvSpPr>
      <dsp:spPr>
        <a:xfrm>
          <a:off x="5485060" y="1523529"/>
          <a:ext cx="2740521" cy="3199410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5250" tIns="95250" rIns="95250" bIns="95250" numCol="1" spcCol="1270" anchor="ctr" anchorCtr="0">
          <a:noAutofit/>
        </a:bodyPr>
        <a:lstStyle/>
        <a:p>
          <a:pPr lvl="0" algn="ctr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500" kern="1200" dirty="0" smtClean="0"/>
            <a:t>Синтаксическая организация речи</a:t>
          </a:r>
          <a:endParaRPr lang="ru-RU" sz="2500" kern="1200" dirty="0"/>
        </a:p>
      </dsp:txBody>
      <dsp:txXfrm>
        <a:off x="5485060" y="1523529"/>
        <a:ext cx="2740521" cy="3199410"/>
      </dsp:txXfrm>
    </dsp:sp>
    <dsp:sp modelId="{DE5B884E-4611-4045-83C5-91BF312D2921}">
      <dsp:nvSpPr>
        <dsp:cNvPr id="0" name=""/>
        <dsp:cNvSpPr/>
      </dsp:nvSpPr>
      <dsp:spPr>
        <a:xfrm>
          <a:off x="0" y="4722939"/>
          <a:ext cx="8229600" cy="355490"/>
        </a:xfrm>
        <a:prstGeom prst="rect">
          <a:avLst/>
        </a:prstGeom>
        <a:solidFill>
          <a:schemeClr val="accent1">
            <a:shade val="8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1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8E17582-995A-467B-9B2A-EA8CE35AF4E9}">
      <dsp:nvSpPr>
        <dsp:cNvPr id="0" name=""/>
        <dsp:cNvSpPr/>
      </dsp:nvSpPr>
      <dsp:spPr>
        <a:xfrm>
          <a:off x="0" y="64910"/>
          <a:ext cx="8229600" cy="134316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Средства, выражающие субъективные намерения говорящего</a:t>
          </a:r>
          <a:endParaRPr lang="ru-RU" sz="2800" kern="1200" dirty="0"/>
        </a:p>
      </dsp:txBody>
      <dsp:txXfrm>
        <a:off x="0" y="64910"/>
        <a:ext cx="8229600" cy="1343160"/>
      </dsp:txXfrm>
    </dsp:sp>
    <dsp:sp modelId="{280785AD-7ED5-44AF-A169-27C7D19822A2}">
      <dsp:nvSpPr>
        <dsp:cNvPr id="0" name=""/>
        <dsp:cNvSpPr/>
      </dsp:nvSpPr>
      <dsp:spPr>
        <a:xfrm>
          <a:off x="0" y="1408070"/>
          <a:ext cx="8229600" cy="46368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35560" rIns="199136" bIns="35560" numCol="1" spcCol="1270" anchor="t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ru-RU" sz="2200" kern="1200" dirty="0"/>
        </a:p>
      </dsp:txBody>
      <dsp:txXfrm>
        <a:off x="0" y="1408070"/>
        <a:ext cx="8229600" cy="463680"/>
      </dsp:txXfrm>
    </dsp:sp>
    <dsp:sp modelId="{D93014C2-09EF-4237-99F6-A41510DB677A}">
      <dsp:nvSpPr>
        <dsp:cNvPr id="0" name=""/>
        <dsp:cNvSpPr/>
      </dsp:nvSpPr>
      <dsp:spPr>
        <a:xfrm>
          <a:off x="0" y="1871751"/>
          <a:ext cx="8229600" cy="134316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Средства, необходимые для выражения объективных характеристик ситуации </a:t>
          </a:r>
          <a:endParaRPr lang="ru-RU" sz="2800" kern="1200" dirty="0"/>
        </a:p>
      </dsp:txBody>
      <dsp:txXfrm>
        <a:off x="0" y="1871751"/>
        <a:ext cx="8229600" cy="1343160"/>
      </dsp:txXfrm>
    </dsp:sp>
    <dsp:sp modelId="{6AF0C7D2-DF2D-46B8-BB89-22DF01805EDE}">
      <dsp:nvSpPr>
        <dsp:cNvPr id="0" name=""/>
        <dsp:cNvSpPr/>
      </dsp:nvSpPr>
      <dsp:spPr>
        <a:xfrm>
          <a:off x="0" y="3214910"/>
          <a:ext cx="8229600" cy="124614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61290" tIns="35560" rIns="199136" bIns="35560" numCol="1" spcCol="1270" anchor="t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r>
            <a:rPr lang="ru-RU" sz="2200" kern="1200" dirty="0" smtClean="0"/>
            <a:t>общая информация, сиюминутная информация, передача факта или чьи-то слов, информация о себе или о третьем лице</a:t>
          </a:r>
          <a:endParaRPr lang="ru-RU" sz="2200" kern="1200" dirty="0"/>
        </a:p>
      </dsp:txBody>
      <dsp:txXfrm>
        <a:off x="0" y="3214910"/>
        <a:ext cx="8229600" cy="1246140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F46A2BE-546F-4F05-80BE-59E838357459}">
      <dsp:nvSpPr>
        <dsp:cNvPr id="0" name=""/>
        <dsp:cNvSpPr/>
      </dsp:nvSpPr>
      <dsp:spPr>
        <a:xfrm>
          <a:off x="0" y="388928"/>
          <a:ext cx="6096000" cy="146893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l" defTabSz="1377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100" kern="1200" dirty="0" smtClean="0"/>
            <a:t>Состояние речевых средств</a:t>
          </a:r>
          <a:endParaRPr lang="ru-RU" sz="3100" kern="1200" dirty="0"/>
        </a:p>
      </dsp:txBody>
      <dsp:txXfrm>
        <a:off x="0" y="388928"/>
        <a:ext cx="6096000" cy="1468934"/>
      </dsp:txXfrm>
    </dsp:sp>
    <dsp:sp modelId="{E9BB2F55-C251-41E7-8F8D-93E1F4216284}">
      <dsp:nvSpPr>
        <dsp:cNvPr id="0" name=""/>
        <dsp:cNvSpPr/>
      </dsp:nvSpPr>
      <dsp:spPr>
        <a:xfrm>
          <a:off x="0" y="1518640"/>
          <a:ext cx="6096000" cy="51336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93548" tIns="39370" rIns="220472" bIns="39370" numCol="1" spcCol="1270" anchor="t" anchorCtr="0">
          <a:noAutofit/>
        </a:bodyPr>
        <a:lstStyle/>
        <a:p>
          <a:pPr marL="228600" lvl="1" indent="-228600" algn="l" defTabSz="10668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ru-RU" sz="2400" kern="1200"/>
        </a:p>
      </dsp:txBody>
      <dsp:txXfrm>
        <a:off x="0" y="1518640"/>
        <a:ext cx="6096000" cy="513360"/>
      </dsp:txXfrm>
    </dsp:sp>
    <dsp:sp modelId="{C95EFBD2-AC5E-442F-8AB9-43C400365E7D}">
      <dsp:nvSpPr>
        <dsp:cNvPr id="0" name=""/>
        <dsp:cNvSpPr/>
      </dsp:nvSpPr>
      <dsp:spPr>
        <a:xfrm>
          <a:off x="0" y="2032000"/>
          <a:ext cx="6096000" cy="146893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l" defTabSz="1377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100" kern="1200" dirty="0" smtClean="0"/>
            <a:t>Свойства речевого поведения</a:t>
          </a:r>
          <a:endParaRPr lang="ru-RU" sz="3100" kern="1200" dirty="0"/>
        </a:p>
      </dsp:txBody>
      <dsp:txXfrm>
        <a:off x="0" y="2032000"/>
        <a:ext cx="6096000" cy="1468934"/>
      </dsp:txXfrm>
    </dsp:sp>
    <dsp:sp modelId="{02FBDC76-EE60-4F52-BAC7-F0E8B0B9FF15}">
      <dsp:nvSpPr>
        <dsp:cNvPr id="0" name=""/>
        <dsp:cNvSpPr/>
      </dsp:nvSpPr>
      <dsp:spPr>
        <a:xfrm>
          <a:off x="0" y="3500935"/>
          <a:ext cx="6096000" cy="51336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93548" tIns="39370" rIns="220472" bIns="39370" numCol="1" spcCol="1270" anchor="t" anchorCtr="0">
          <a:noAutofit/>
        </a:bodyPr>
        <a:lstStyle/>
        <a:p>
          <a:pPr marL="228600" lvl="1" indent="-228600" algn="l" defTabSz="1066800">
            <a:lnSpc>
              <a:spcPct val="90000"/>
            </a:lnSpc>
            <a:spcBef>
              <a:spcPct val="0"/>
            </a:spcBef>
            <a:spcAft>
              <a:spcPct val="20000"/>
            </a:spcAft>
            <a:buChar char="••"/>
          </a:pPr>
          <a:endParaRPr lang="ru-RU" sz="2400" kern="1200"/>
        </a:p>
      </dsp:txBody>
      <dsp:txXfrm>
        <a:off x="0" y="3500935"/>
        <a:ext cx="6096000" cy="513360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8D785C00-E8FA-4A81-B798-612B64530961}">
      <dsp:nvSpPr>
        <dsp:cNvPr id="0" name=""/>
        <dsp:cNvSpPr/>
      </dsp:nvSpPr>
      <dsp:spPr>
        <a:xfrm>
          <a:off x="1512371" y="0"/>
          <a:ext cx="4525962" cy="4525962"/>
        </a:xfrm>
        <a:prstGeom prst="triangl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21DE0739-6CA2-4704-8BE5-27C64F512D67}">
      <dsp:nvSpPr>
        <dsp:cNvPr id="0" name=""/>
        <dsp:cNvSpPr/>
      </dsp:nvSpPr>
      <dsp:spPr>
        <a:xfrm>
          <a:off x="3775352" y="455027"/>
          <a:ext cx="2941875" cy="1071380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500" kern="1200" dirty="0" smtClean="0"/>
            <a:t>Фонетическое недоразвитие</a:t>
          </a:r>
          <a:endParaRPr lang="ru-RU" sz="1500" kern="1200" dirty="0"/>
        </a:p>
      </dsp:txBody>
      <dsp:txXfrm>
        <a:off x="3775352" y="455027"/>
        <a:ext cx="2941875" cy="1071380"/>
      </dsp:txXfrm>
    </dsp:sp>
    <dsp:sp modelId="{B3FA8A25-403F-474D-9E52-C54B2E02B978}">
      <dsp:nvSpPr>
        <dsp:cNvPr id="0" name=""/>
        <dsp:cNvSpPr/>
      </dsp:nvSpPr>
      <dsp:spPr>
        <a:xfrm>
          <a:off x="3775352" y="1660329"/>
          <a:ext cx="2941875" cy="1071380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500" kern="1200" dirty="0" smtClean="0"/>
            <a:t>Фонетико-фонематическое недоразвитие</a:t>
          </a:r>
          <a:endParaRPr lang="ru-RU" sz="1500" kern="1200" dirty="0"/>
        </a:p>
      </dsp:txBody>
      <dsp:txXfrm>
        <a:off x="3775352" y="1660329"/>
        <a:ext cx="2941875" cy="1071380"/>
      </dsp:txXfrm>
    </dsp:sp>
    <dsp:sp modelId="{00F0087B-5030-43B7-84AC-D11C793C5413}">
      <dsp:nvSpPr>
        <dsp:cNvPr id="0" name=""/>
        <dsp:cNvSpPr/>
      </dsp:nvSpPr>
      <dsp:spPr>
        <a:xfrm>
          <a:off x="3775352" y="2865632"/>
          <a:ext cx="2941875" cy="1071380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7150" tIns="57150" rIns="57150" bIns="571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500" kern="1200" smtClean="0"/>
            <a:t>Общее недоразвитие речи</a:t>
          </a:r>
          <a:endParaRPr lang="ru-RU" sz="1500" kern="1200" dirty="0"/>
        </a:p>
      </dsp:txBody>
      <dsp:txXfrm>
        <a:off x="3775352" y="2865632"/>
        <a:ext cx="2941875" cy="1071380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6ACC2D4-8306-49B8-82EB-4FB3F4F67148}">
      <dsp:nvSpPr>
        <dsp:cNvPr id="0" name=""/>
        <dsp:cNvSpPr/>
      </dsp:nvSpPr>
      <dsp:spPr>
        <a:xfrm>
          <a:off x="2743199" y="0"/>
          <a:ext cx="2743200" cy="1508653"/>
        </a:xfrm>
        <a:prstGeom prst="trapezoid">
          <a:avLst>
            <a:gd name="adj" fmla="val 90915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5560" tIns="35560" rIns="35560" bIns="3556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Регуляторные процессы</a:t>
          </a:r>
          <a:endParaRPr lang="ru-RU" sz="2800" kern="1200" dirty="0"/>
        </a:p>
      </dsp:txBody>
      <dsp:txXfrm>
        <a:off x="2743199" y="0"/>
        <a:ext cx="2743200" cy="1508653"/>
      </dsp:txXfrm>
    </dsp:sp>
    <dsp:sp modelId="{02532246-F539-42F1-9EA8-3D0A9BF87ACE}">
      <dsp:nvSpPr>
        <dsp:cNvPr id="0" name=""/>
        <dsp:cNvSpPr/>
      </dsp:nvSpPr>
      <dsp:spPr>
        <a:xfrm>
          <a:off x="1371599" y="1508653"/>
          <a:ext cx="5486400" cy="1508653"/>
        </a:xfrm>
        <a:prstGeom prst="trapezoid">
          <a:avLst>
            <a:gd name="adj" fmla="val 90915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5560" tIns="35560" rIns="35560" bIns="3556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Мотивация речевой деятельности</a:t>
          </a:r>
          <a:endParaRPr lang="ru-RU" sz="2800" kern="1200" dirty="0"/>
        </a:p>
      </dsp:txBody>
      <dsp:txXfrm>
        <a:off x="2331719" y="1508653"/>
        <a:ext cx="3566160" cy="1508653"/>
      </dsp:txXfrm>
    </dsp:sp>
    <dsp:sp modelId="{B2740E0D-CFA3-4FB6-A63C-04435BB6BCF1}">
      <dsp:nvSpPr>
        <dsp:cNvPr id="0" name=""/>
        <dsp:cNvSpPr/>
      </dsp:nvSpPr>
      <dsp:spPr>
        <a:xfrm>
          <a:off x="0" y="3017307"/>
          <a:ext cx="8229599" cy="1508653"/>
        </a:xfrm>
        <a:prstGeom prst="trapezoid">
          <a:avLst>
            <a:gd name="adj" fmla="val 90915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5560" tIns="35560" rIns="35560" bIns="3556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Аффективно-волевая сфера</a:t>
          </a:r>
          <a:endParaRPr lang="ru-RU" sz="2800" kern="1200" dirty="0"/>
        </a:p>
      </dsp:txBody>
      <dsp:txXfrm>
        <a:off x="1440179" y="3017307"/>
        <a:ext cx="5349240" cy="1508653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CB38F52-C73A-4438-B50A-B18487EEF692}">
      <dsp:nvSpPr>
        <dsp:cNvPr id="0" name=""/>
        <dsp:cNvSpPr/>
      </dsp:nvSpPr>
      <dsp:spPr>
        <a:xfrm>
          <a:off x="4015446" y="2403354"/>
          <a:ext cx="1924396" cy="520117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354445"/>
              </a:lnTo>
              <a:lnTo>
                <a:pt x="1924396" y="354445"/>
              </a:lnTo>
              <a:lnTo>
                <a:pt x="1924396" y="520117"/>
              </a:lnTo>
            </a:path>
          </a:pathLst>
        </a:custGeom>
        <a:noFill/>
        <a:ln w="55000" cap="flat" cmpd="thickThin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D7884DB-ADF0-411C-BF2D-DE4A3ED164A2}">
      <dsp:nvSpPr>
        <dsp:cNvPr id="0" name=""/>
        <dsp:cNvSpPr/>
      </dsp:nvSpPr>
      <dsp:spPr>
        <a:xfrm>
          <a:off x="2017592" y="2403354"/>
          <a:ext cx="1997853" cy="520117"/>
        </a:xfrm>
        <a:custGeom>
          <a:avLst/>
          <a:gdLst/>
          <a:ahLst/>
          <a:cxnLst/>
          <a:rect l="0" t="0" r="0" b="0"/>
          <a:pathLst>
            <a:path>
              <a:moveTo>
                <a:pt x="1997853" y="0"/>
              </a:moveTo>
              <a:lnTo>
                <a:pt x="1997853" y="354445"/>
              </a:lnTo>
              <a:lnTo>
                <a:pt x="0" y="354445"/>
              </a:lnTo>
              <a:lnTo>
                <a:pt x="0" y="520117"/>
              </a:lnTo>
            </a:path>
          </a:pathLst>
        </a:custGeom>
        <a:noFill/>
        <a:ln w="55000" cap="flat" cmpd="thickThin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B6F7EF1-80B0-4D8F-99BF-C1EB394508AC}">
      <dsp:nvSpPr>
        <dsp:cNvPr id="0" name=""/>
        <dsp:cNvSpPr/>
      </dsp:nvSpPr>
      <dsp:spPr>
        <a:xfrm>
          <a:off x="1769" y="863584"/>
          <a:ext cx="8027352" cy="1539769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1BF319BD-0FC9-43DC-8035-CFE7AEEDFB5A}">
      <dsp:nvSpPr>
        <dsp:cNvPr id="0" name=""/>
        <dsp:cNvSpPr/>
      </dsp:nvSpPr>
      <dsp:spPr>
        <a:xfrm>
          <a:off x="200477" y="1052356"/>
          <a:ext cx="8027352" cy="1539769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000" b="1" kern="1200" dirty="0" smtClean="0"/>
            <a:t>Актуально для логопедии</a:t>
          </a:r>
          <a:endParaRPr lang="ru-RU" sz="4000" b="1" kern="1200" dirty="0"/>
        </a:p>
      </dsp:txBody>
      <dsp:txXfrm>
        <a:off x="200477" y="1052356"/>
        <a:ext cx="8027352" cy="1539769"/>
      </dsp:txXfrm>
    </dsp:sp>
    <dsp:sp modelId="{5A8433F9-B41B-44BB-A84F-B7D8005AD4AB}">
      <dsp:nvSpPr>
        <dsp:cNvPr id="0" name=""/>
        <dsp:cNvSpPr/>
      </dsp:nvSpPr>
      <dsp:spPr>
        <a:xfrm>
          <a:off x="291903" y="2923471"/>
          <a:ext cx="3451376" cy="1745543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269ED7D3-DC37-484B-A203-BE1822B27A6C}">
      <dsp:nvSpPr>
        <dsp:cNvPr id="0" name=""/>
        <dsp:cNvSpPr/>
      </dsp:nvSpPr>
      <dsp:spPr>
        <a:xfrm>
          <a:off x="490611" y="3112244"/>
          <a:ext cx="3451376" cy="174554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300" kern="1200" dirty="0" smtClean="0"/>
            <a:t>Особая группа детей </a:t>
          </a:r>
          <a:endParaRPr lang="ru-RU" sz="2300" kern="1200" dirty="0"/>
        </a:p>
      </dsp:txBody>
      <dsp:txXfrm>
        <a:off x="490611" y="3112244"/>
        <a:ext cx="3451376" cy="1745543"/>
      </dsp:txXfrm>
    </dsp:sp>
    <dsp:sp modelId="{17AE9059-8B36-486E-BC5E-4CBFE6269F75}">
      <dsp:nvSpPr>
        <dsp:cNvPr id="0" name=""/>
        <dsp:cNvSpPr/>
      </dsp:nvSpPr>
      <dsp:spPr>
        <a:xfrm>
          <a:off x="4140696" y="2923471"/>
          <a:ext cx="3598291" cy="1745543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9E488A7-2046-42A0-919A-D1A1152A0F76}">
      <dsp:nvSpPr>
        <dsp:cNvPr id="0" name=""/>
        <dsp:cNvSpPr/>
      </dsp:nvSpPr>
      <dsp:spPr>
        <a:xfrm>
          <a:off x="4339404" y="3112244"/>
          <a:ext cx="3598291" cy="1745543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87630" tIns="87630" rIns="87630" bIns="87630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300" kern="1200" dirty="0" smtClean="0"/>
            <a:t>Соотношение коммуникативных и речевых способностей</a:t>
          </a:r>
          <a:endParaRPr lang="ru-RU" sz="2300" kern="1200" dirty="0"/>
        </a:p>
      </dsp:txBody>
      <dsp:txXfrm>
        <a:off x="4339404" y="3112244"/>
        <a:ext cx="3598291" cy="1745543"/>
      </dsp:txXfrm>
    </dsp:sp>
  </dsp:spTree>
</dsp:drawing>
</file>

<file path=ppt/diagrams/drawing6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FD14FB94-1040-48B8-AB38-8432DF76E4BD}">
      <dsp:nvSpPr>
        <dsp:cNvPr id="0" name=""/>
        <dsp:cNvSpPr/>
      </dsp:nvSpPr>
      <dsp:spPr>
        <a:xfrm>
          <a:off x="3667894" y="3006896"/>
          <a:ext cx="2603022" cy="61940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22103"/>
              </a:lnTo>
              <a:lnTo>
                <a:pt x="2603022" y="422103"/>
              </a:lnTo>
              <a:lnTo>
                <a:pt x="2603022" y="619400"/>
              </a:lnTo>
            </a:path>
          </a:pathLst>
        </a:custGeom>
        <a:noFill/>
        <a:ln w="55000" cap="flat" cmpd="thickThin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3CEDC42-0942-481D-AE44-E6ECB0E0991A}">
      <dsp:nvSpPr>
        <dsp:cNvPr id="0" name=""/>
        <dsp:cNvSpPr/>
      </dsp:nvSpPr>
      <dsp:spPr>
        <a:xfrm>
          <a:off x="3608778" y="3006896"/>
          <a:ext cx="91440" cy="611692"/>
        </a:xfrm>
        <a:custGeom>
          <a:avLst/>
          <a:gdLst/>
          <a:ahLst/>
          <a:cxnLst/>
          <a:rect l="0" t="0" r="0" b="0"/>
          <a:pathLst>
            <a:path>
              <a:moveTo>
                <a:pt x="59116" y="0"/>
              </a:moveTo>
              <a:lnTo>
                <a:pt x="59116" y="414395"/>
              </a:lnTo>
              <a:lnTo>
                <a:pt x="45720" y="414395"/>
              </a:lnTo>
              <a:lnTo>
                <a:pt x="45720" y="611692"/>
              </a:lnTo>
            </a:path>
          </a:pathLst>
        </a:custGeom>
        <a:noFill/>
        <a:ln w="55000" cap="flat" cmpd="thickThin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C1AF537-8C46-4839-A3DC-C3FEE27C6B55}">
      <dsp:nvSpPr>
        <dsp:cNvPr id="0" name=""/>
        <dsp:cNvSpPr/>
      </dsp:nvSpPr>
      <dsp:spPr>
        <a:xfrm>
          <a:off x="1064872" y="3006896"/>
          <a:ext cx="2603022" cy="619400"/>
        </a:xfrm>
        <a:custGeom>
          <a:avLst/>
          <a:gdLst/>
          <a:ahLst/>
          <a:cxnLst/>
          <a:rect l="0" t="0" r="0" b="0"/>
          <a:pathLst>
            <a:path>
              <a:moveTo>
                <a:pt x="2603022" y="0"/>
              </a:moveTo>
              <a:lnTo>
                <a:pt x="2603022" y="422103"/>
              </a:lnTo>
              <a:lnTo>
                <a:pt x="0" y="422103"/>
              </a:lnTo>
              <a:lnTo>
                <a:pt x="0" y="619400"/>
              </a:lnTo>
            </a:path>
          </a:pathLst>
        </a:custGeom>
        <a:noFill/>
        <a:ln w="55000" cap="flat" cmpd="thickThin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990091EB-52AD-4025-9679-8EC116C116F6}">
      <dsp:nvSpPr>
        <dsp:cNvPr id="0" name=""/>
        <dsp:cNvSpPr/>
      </dsp:nvSpPr>
      <dsp:spPr>
        <a:xfrm>
          <a:off x="142878" y="1654507"/>
          <a:ext cx="7050032" cy="135238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06191EAD-D355-48BF-9C38-A1D3C6B0FCE5}">
      <dsp:nvSpPr>
        <dsp:cNvPr id="0" name=""/>
        <dsp:cNvSpPr/>
      </dsp:nvSpPr>
      <dsp:spPr>
        <a:xfrm>
          <a:off x="379517" y="1879314"/>
          <a:ext cx="7050032" cy="13523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ctr" defTabSz="1422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200" kern="1200" dirty="0" smtClean="0"/>
            <a:t>Коммуникативные умения</a:t>
          </a:r>
          <a:endParaRPr lang="ru-RU" sz="3200" kern="1200" dirty="0"/>
        </a:p>
      </dsp:txBody>
      <dsp:txXfrm>
        <a:off x="379517" y="1879314"/>
        <a:ext cx="7050032" cy="1352388"/>
      </dsp:txXfrm>
    </dsp:sp>
    <dsp:sp modelId="{41544D90-9883-46F1-B8BA-1EDDD73D3F10}">
      <dsp:nvSpPr>
        <dsp:cNvPr id="0" name=""/>
        <dsp:cNvSpPr/>
      </dsp:nvSpPr>
      <dsp:spPr>
        <a:xfrm>
          <a:off x="0" y="3626297"/>
          <a:ext cx="2129745" cy="135238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F3D292D-92D6-481A-939D-93C918EE83C6}">
      <dsp:nvSpPr>
        <dsp:cNvPr id="0" name=""/>
        <dsp:cNvSpPr/>
      </dsp:nvSpPr>
      <dsp:spPr>
        <a:xfrm>
          <a:off x="236638" y="3851103"/>
          <a:ext cx="2129745" cy="13523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Информационно-коммуникативные</a:t>
          </a:r>
          <a:endParaRPr lang="ru-RU" sz="1600" kern="1200" dirty="0"/>
        </a:p>
      </dsp:txBody>
      <dsp:txXfrm>
        <a:off x="236638" y="3851103"/>
        <a:ext cx="2129745" cy="1352388"/>
      </dsp:txXfrm>
    </dsp:sp>
    <dsp:sp modelId="{8EFF0692-B967-4905-9358-7A33F6818F53}">
      <dsp:nvSpPr>
        <dsp:cNvPr id="0" name=""/>
        <dsp:cNvSpPr/>
      </dsp:nvSpPr>
      <dsp:spPr>
        <a:xfrm>
          <a:off x="2589626" y="3618588"/>
          <a:ext cx="2129745" cy="135238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930C4EB0-A620-4BAC-BB93-173DA6B18121}">
      <dsp:nvSpPr>
        <dsp:cNvPr id="0" name=""/>
        <dsp:cNvSpPr/>
      </dsp:nvSpPr>
      <dsp:spPr>
        <a:xfrm>
          <a:off x="2826264" y="3843395"/>
          <a:ext cx="2129745" cy="13523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Регуляционно-коммуникативные</a:t>
          </a:r>
          <a:endParaRPr lang="ru-RU" sz="1600" kern="1200" dirty="0"/>
        </a:p>
      </dsp:txBody>
      <dsp:txXfrm>
        <a:off x="2826264" y="3843395"/>
        <a:ext cx="2129745" cy="1352388"/>
      </dsp:txXfrm>
    </dsp:sp>
    <dsp:sp modelId="{3AF8835A-C350-438D-B298-629F8B7B8BD1}">
      <dsp:nvSpPr>
        <dsp:cNvPr id="0" name=""/>
        <dsp:cNvSpPr/>
      </dsp:nvSpPr>
      <dsp:spPr>
        <a:xfrm>
          <a:off x="5206044" y="3626297"/>
          <a:ext cx="2129745" cy="1352388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FBA8B1A-B5DB-4D3E-8B04-8892032651BC}">
      <dsp:nvSpPr>
        <dsp:cNvPr id="0" name=""/>
        <dsp:cNvSpPr/>
      </dsp:nvSpPr>
      <dsp:spPr>
        <a:xfrm>
          <a:off x="5442682" y="3851103"/>
          <a:ext cx="2129745" cy="1352388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Аффективно-коммуникативные</a:t>
          </a:r>
          <a:endParaRPr lang="ru-RU" sz="1600" kern="1200" dirty="0"/>
        </a:p>
      </dsp:txBody>
      <dsp:txXfrm>
        <a:off x="5442682" y="3851103"/>
        <a:ext cx="2129745" cy="1352388"/>
      </dsp:txXfrm>
    </dsp:sp>
  </dsp:spTree>
</dsp:drawing>
</file>

<file path=ppt/diagrams/drawing8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736A06A-3F06-45C7-B914-4BAED6A5823D}">
      <dsp:nvSpPr>
        <dsp:cNvPr id="0" name=""/>
        <dsp:cNvSpPr/>
      </dsp:nvSpPr>
      <dsp:spPr>
        <a:xfrm>
          <a:off x="3291839" y="552"/>
          <a:ext cx="4937760" cy="2154693"/>
        </a:xfrm>
        <a:prstGeom prst="rightArrow">
          <a:avLst>
            <a:gd name="adj1" fmla="val 75000"/>
            <a:gd name="adj2" fmla="val 50000"/>
          </a:avLst>
        </a:prstGeom>
        <a:solidFill>
          <a:schemeClr val="accent1">
            <a:alpha val="90000"/>
            <a:tint val="4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4605" tIns="14605" rIns="14605" bIns="14605" numCol="1" spcCol="1270" anchor="t" anchorCtr="0">
          <a:noAutofit/>
        </a:bodyPr>
        <a:lstStyle/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Фонетический материал</a:t>
          </a:r>
          <a:endParaRPr lang="ru-RU" sz="2300" kern="1200" dirty="0"/>
        </a:p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Лексико-грамматический материал</a:t>
          </a:r>
          <a:endParaRPr lang="ru-RU" sz="2300" kern="1200" dirty="0"/>
        </a:p>
      </dsp:txBody>
      <dsp:txXfrm>
        <a:off x="3291839" y="552"/>
        <a:ext cx="4937760" cy="2154693"/>
      </dsp:txXfrm>
    </dsp:sp>
    <dsp:sp modelId="{BDDCB864-D5FE-49D9-80D9-AC62BDFAC9AA}">
      <dsp:nvSpPr>
        <dsp:cNvPr id="0" name=""/>
        <dsp:cNvSpPr/>
      </dsp:nvSpPr>
      <dsp:spPr>
        <a:xfrm>
          <a:off x="0" y="552"/>
          <a:ext cx="3291840" cy="2154693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45720" rIns="9144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Коммуникативная ситуация</a:t>
          </a:r>
          <a:endParaRPr lang="ru-RU" sz="2400" kern="1200" dirty="0"/>
        </a:p>
      </dsp:txBody>
      <dsp:txXfrm>
        <a:off x="0" y="552"/>
        <a:ext cx="3291840" cy="2154693"/>
      </dsp:txXfrm>
    </dsp:sp>
    <dsp:sp modelId="{61C653D8-F9E5-408D-80A0-1B8600344430}">
      <dsp:nvSpPr>
        <dsp:cNvPr id="0" name=""/>
        <dsp:cNvSpPr/>
      </dsp:nvSpPr>
      <dsp:spPr>
        <a:xfrm>
          <a:off x="3291839" y="2370715"/>
          <a:ext cx="4937760" cy="2154693"/>
        </a:xfrm>
        <a:prstGeom prst="rightArrow">
          <a:avLst>
            <a:gd name="adj1" fmla="val 75000"/>
            <a:gd name="adj2" fmla="val 50000"/>
          </a:avLst>
        </a:prstGeom>
        <a:solidFill>
          <a:schemeClr val="accent1">
            <a:alpha val="90000"/>
            <a:tint val="40000"/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4605" tIns="14605" rIns="14605" bIns="14605" numCol="1" spcCol="1270" anchor="t" anchorCtr="0">
          <a:noAutofit/>
        </a:bodyPr>
        <a:lstStyle/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Сфера общения</a:t>
          </a:r>
          <a:endParaRPr lang="ru-RU" sz="2300" kern="1200" dirty="0"/>
        </a:p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Цели коррекционного обучения</a:t>
          </a:r>
          <a:endParaRPr lang="ru-RU" sz="2300" kern="1200" dirty="0"/>
        </a:p>
      </dsp:txBody>
      <dsp:txXfrm>
        <a:off x="3291839" y="2370715"/>
        <a:ext cx="4937760" cy="2154693"/>
      </dsp:txXfrm>
    </dsp:sp>
    <dsp:sp modelId="{9F1EDA22-9578-4B0A-89D0-2E6F24BBE6B0}">
      <dsp:nvSpPr>
        <dsp:cNvPr id="0" name=""/>
        <dsp:cNvSpPr/>
      </dsp:nvSpPr>
      <dsp:spPr>
        <a:xfrm>
          <a:off x="0" y="2370715"/>
          <a:ext cx="3291840" cy="2154693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45720" rIns="91440" bIns="4572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Коммуникативные потребности </a:t>
          </a:r>
          <a:endParaRPr lang="ru-RU" sz="2400" kern="1200" dirty="0"/>
        </a:p>
      </dsp:txBody>
      <dsp:txXfrm>
        <a:off x="0" y="2370715"/>
        <a:ext cx="3291840" cy="2154693"/>
      </dsp:txXfrm>
    </dsp:sp>
  </dsp:spTree>
</dsp:drawing>
</file>

<file path=ppt/diagrams/drawing9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A7840ECF-01E7-4F28-9B77-F7FF57DCCCD8}">
      <dsp:nvSpPr>
        <dsp:cNvPr id="0" name=""/>
        <dsp:cNvSpPr/>
      </dsp:nvSpPr>
      <dsp:spPr>
        <a:xfrm>
          <a:off x="3135938" y="-318229"/>
          <a:ext cx="2000260" cy="195768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700" kern="1200" dirty="0" smtClean="0"/>
            <a:t>синтаксис</a:t>
          </a:r>
          <a:endParaRPr lang="ru-RU" sz="1700" kern="1200" dirty="0"/>
        </a:p>
      </dsp:txBody>
      <dsp:txXfrm>
        <a:off x="3135938" y="-318229"/>
        <a:ext cx="2000260" cy="1957688"/>
      </dsp:txXfrm>
    </dsp:sp>
    <dsp:sp modelId="{4BB3D4E0-30D4-44EA-8D4E-31622A282017}">
      <dsp:nvSpPr>
        <dsp:cNvPr id="0" name=""/>
        <dsp:cNvSpPr/>
      </dsp:nvSpPr>
      <dsp:spPr>
        <a:xfrm rot="2160000">
          <a:off x="4952506" y="1043478"/>
          <a:ext cx="55718" cy="461106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400" kern="1200"/>
        </a:p>
      </dsp:txBody>
      <dsp:txXfrm rot="2160000">
        <a:off x="4952506" y="1043478"/>
        <a:ext cx="55718" cy="461106"/>
      </dsp:txXfrm>
    </dsp:sp>
    <dsp:sp modelId="{0187E3AB-1101-4577-AE37-B3C3A1568888}">
      <dsp:nvSpPr>
        <dsp:cNvPr id="0" name=""/>
        <dsp:cNvSpPr/>
      </dsp:nvSpPr>
      <dsp:spPr>
        <a:xfrm>
          <a:off x="4814890" y="957337"/>
          <a:ext cx="1964383" cy="1820148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700" kern="1200" dirty="0" smtClean="0"/>
            <a:t>морфология</a:t>
          </a:r>
          <a:endParaRPr lang="ru-RU" sz="1700" kern="1200" dirty="0"/>
        </a:p>
      </dsp:txBody>
      <dsp:txXfrm>
        <a:off x="4814890" y="957337"/>
        <a:ext cx="1964383" cy="1820148"/>
      </dsp:txXfrm>
    </dsp:sp>
    <dsp:sp modelId="{1ED5EB15-3EEE-4A99-8FE2-1A571E860970}">
      <dsp:nvSpPr>
        <dsp:cNvPr id="0" name=""/>
        <dsp:cNvSpPr/>
      </dsp:nvSpPr>
      <dsp:spPr>
        <a:xfrm rot="6480000">
          <a:off x="5465338" y="2562325"/>
          <a:ext cx="62081" cy="461106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400" kern="1200"/>
        </a:p>
      </dsp:txBody>
      <dsp:txXfrm rot="6480000">
        <a:off x="5465338" y="2562325"/>
        <a:ext cx="62081" cy="461106"/>
      </dsp:txXfrm>
    </dsp:sp>
    <dsp:sp modelId="{64A53D6A-8D87-4280-A1B8-0283AD032F86}">
      <dsp:nvSpPr>
        <dsp:cNvPr id="0" name=""/>
        <dsp:cNvSpPr/>
      </dsp:nvSpPr>
      <dsp:spPr>
        <a:xfrm>
          <a:off x="4182270" y="2795907"/>
          <a:ext cx="1960721" cy="2048283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700" kern="1200" dirty="0" smtClean="0"/>
            <a:t>прагматика</a:t>
          </a:r>
          <a:endParaRPr lang="ru-RU" sz="1700" kern="1200" dirty="0"/>
        </a:p>
      </dsp:txBody>
      <dsp:txXfrm>
        <a:off x="4182270" y="2795907"/>
        <a:ext cx="1960721" cy="2048283"/>
      </dsp:txXfrm>
    </dsp:sp>
    <dsp:sp modelId="{F6D42E31-7AA0-43BB-830F-45E40EEF8692}">
      <dsp:nvSpPr>
        <dsp:cNvPr id="0" name=""/>
        <dsp:cNvSpPr/>
      </dsp:nvSpPr>
      <dsp:spPr>
        <a:xfrm rot="10800000">
          <a:off x="4102977" y="3589495"/>
          <a:ext cx="56033" cy="461106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400" kern="1200"/>
        </a:p>
      </dsp:txBody>
      <dsp:txXfrm rot="10800000">
        <a:off x="4102977" y="3589495"/>
        <a:ext cx="56033" cy="461106"/>
      </dsp:txXfrm>
    </dsp:sp>
    <dsp:sp modelId="{E004EB09-C8E7-441A-9774-0F66D2AD3487}">
      <dsp:nvSpPr>
        <dsp:cNvPr id="0" name=""/>
        <dsp:cNvSpPr/>
      </dsp:nvSpPr>
      <dsp:spPr>
        <a:xfrm>
          <a:off x="2142466" y="2814330"/>
          <a:ext cx="1934079" cy="2011436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700" kern="1200" dirty="0" smtClean="0"/>
            <a:t>семантика</a:t>
          </a:r>
          <a:endParaRPr lang="ru-RU" sz="1700" kern="1200" dirty="0"/>
        </a:p>
      </dsp:txBody>
      <dsp:txXfrm>
        <a:off x="2142466" y="2814330"/>
        <a:ext cx="1934079" cy="2011436"/>
      </dsp:txXfrm>
    </dsp:sp>
    <dsp:sp modelId="{7E6CCC7A-DA6E-4086-9D57-128856DE2978}">
      <dsp:nvSpPr>
        <dsp:cNvPr id="0" name=""/>
        <dsp:cNvSpPr/>
      </dsp:nvSpPr>
      <dsp:spPr>
        <a:xfrm rot="15120000">
          <a:off x="2779714" y="2614233"/>
          <a:ext cx="25820" cy="461106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400" kern="1200"/>
        </a:p>
      </dsp:txBody>
      <dsp:txXfrm rot="15120000">
        <a:off x="2779714" y="2614233"/>
        <a:ext cx="25820" cy="461106"/>
      </dsp:txXfrm>
    </dsp:sp>
    <dsp:sp modelId="{D5352D00-F47A-418E-BAB0-4F85C339BA08}">
      <dsp:nvSpPr>
        <dsp:cNvPr id="0" name=""/>
        <dsp:cNvSpPr/>
      </dsp:nvSpPr>
      <dsp:spPr>
        <a:xfrm>
          <a:off x="1450326" y="867083"/>
          <a:ext cx="2049458" cy="2000656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55000" cap="flat" cmpd="thickThin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590" tIns="21590" rIns="21590" bIns="2159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700" kern="1200" dirty="0" smtClean="0"/>
            <a:t>фонология</a:t>
          </a:r>
          <a:endParaRPr lang="ru-RU" sz="1700" kern="1200" dirty="0"/>
        </a:p>
      </dsp:txBody>
      <dsp:txXfrm>
        <a:off x="1450326" y="867083"/>
        <a:ext cx="2049458" cy="2000656"/>
      </dsp:txXfrm>
    </dsp:sp>
    <dsp:sp modelId="{05795AD4-927F-48E1-8ADD-92EDE3CE76E1}">
      <dsp:nvSpPr>
        <dsp:cNvPr id="0" name=""/>
        <dsp:cNvSpPr/>
      </dsp:nvSpPr>
      <dsp:spPr>
        <a:xfrm rot="19440000">
          <a:off x="3302753" y="1026951"/>
          <a:ext cx="23535" cy="461106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400" kern="1200"/>
        </a:p>
      </dsp:txBody>
      <dsp:txXfrm rot="19440000">
        <a:off x="3302753" y="1026951"/>
        <a:ext cx="23535" cy="46110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10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1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12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13.xml><?xml version="1.0" encoding="utf-8"?>
<dgm:layoutDef xmlns:dgm="http://schemas.openxmlformats.org/drawingml/2006/diagram" xmlns:a="http://schemas.openxmlformats.org/drawingml/2006/main" uniqueId="urn:microsoft.com/office/officeart/2005/8/layout/hList3">
  <dgm:title val=""/>
  <dgm:desc val=""/>
  <dgm:catLst>
    <dgm:cat type="list" pri="1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5" srcId="0" destId="1" srcOrd="0" destOrd="0"/>
        <dgm:cxn modelId="6" srcId="1" destId="2" srcOrd="0" destOrd="0"/>
        <dgm:cxn modelId="7" srcId="1" destId="3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6" srcId="0" destId="1" srcOrd="0" destOrd="0"/>
        <dgm:cxn modelId="7" srcId="1" destId="2" srcOrd="0" destOrd="0"/>
        <dgm:cxn modelId="8" srcId="1" destId="3" srcOrd="1" destOrd="0"/>
        <dgm:cxn modelId="9" srcId="1" destId="4" srcOrd="2" destOrd="0"/>
        <dgm:cxn modelId="10" srcId="1" destId="5" srcOrd="3" destOrd="0"/>
      </dgm:cxnLst>
      <dgm:bg/>
      <dgm:whole/>
    </dgm:dataModel>
  </dgm:clrData>
  <dgm:layoutNode name="composite">
    <dgm:varLst>
      <dgm:chMax val="1"/>
      <dgm:dir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roof" refType="w"/>
      <dgm:constr type="h" for="ch" forName="roof" refType="h" fact="0.3"/>
      <dgm:constr type="primFontSz" for="ch" forName="roof" val="65"/>
      <dgm:constr type="w" for="ch" forName="pillars" refType="w"/>
      <dgm:constr type="h" for="ch" forName="pillars" refType="h" fact="0.63"/>
      <dgm:constr type="t" for="ch" forName="pillars" refType="h" fact="0.3"/>
      <dgm:constr type="primFontSz" for="des" forName="pillar1" val="65"/>
      <dgm:constr type="primFontSz" for="des" forName="pillarX" refType="primFontSz" refFor="des" refForName="pillar1" op="equ"/>
      <dgm:constr type="w" for="ch" forName="base" refType="w"/>
      <dgm:constr type="h" for="ch" forName="base" refType="h" fact="0.07"/>
      <dgm:constr type="t" for="ch" forName="base" refType="h" fact="0.93"/>
    </dgm:constrLst>
    <dgm:ruleLst/>
    <dgm:forEach name="Name0" axis="ch" ptType="node" cnt="1">
      <dgm:layoutNode name="roof" styleLbl="dkBgShp">
        <dgm:alg type="tx"/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pillars" styleLbl="node1">
        <dgm:choose name="Name1">
          <dgm:if name="Name2" func="var" arg="dir" op="equ" val="norm">
            <dgm:alg type="lin">
              <dgm:param type="linDir" val="fromL"/>
            </dgm:alg>
          </dgm:if>
          <dgm:else name="Name3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illar1" refType="w"/>
          <dgm:constr type="h" for="ch" forName="pillar1" refType="h"/>
          <dgm:constr type="w" for="ch" forName="pillarX" refType="w"/>
          <dgm:constr type="h" for="ch" forName="pillarX" refType="h"/>
        </dgm:constrLst>
        <dgm:ruleLst/>
        <dgm:layoutNode name="pillar1" styleLbl="node1">
          <dgm:varLst>
            <dgm:bulletEnabled val="1"/>
          </dgm:varLst>
          <dgm:alg type="tx"/>
          <dgm:shape xmlns:r="http://schemas.openxmlformats.org/officeDocument/2006/relationships" type="rect" r:blip="">
            <dgm:adjLst/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forEach name="Name4" axis="ch" ptType="node" st="2">
          <dgm:layoutNode name="pillarX" styleLbl="node1">
            <dgm:varLst>
              <dgm:bulletEnabled val="1"/>
            </dgm:varLst>
            <dgm:alg type="tx"/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forEach>
      </dgm:layoutNode>
      <dgm:layoutNode name="base" styleLbl="dkBgShp">
        <dgm:alg type="sp"/>
        <dgm:shape xmlns:r="http://schemas.openxmlformats.org/officeDocument/2006/relationships" type="rect" r:blip="">
          <dgm:adjLst/>
        </dgm:shape>
        <dgm:presOf/>
        <dgm:constrLst/>
        <dgm:ruleLst/>
      </dgm:layoutNode>
    </dgm:forEach>
  </dgm:layoutNode>
</dgm:layoutDef>
</file>

<file path=ppt/diagrams/layout1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1">
  <dgm:title val=""/>
  <dgm:desc val=""/>
  <dgm:catLst>
    <dgm:cat type="pyramid" pri="1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pyra">
          <dgm:param type="linDir" val="fromB"/>
          <dgm:param type="txDir" val="fromT"/>
          <dgm:param type="pyraAcctPos" val="aft"/>
          <dgm:param type="pyraAcctTxMar" val="step"/>
          <dgm:param type="pyraAcctBkgdNode" val="acctBkgd"/>
          <dgm:param type="pyraAcctTxNode" val="acctTx"/>
          <dgm:param type="pyraLvlNode" val="level"/>
        </dgm:alg>
      </dgm:if>
      <dgm:else name="Name3">
        <dgm:alg type="pyra">
          <dgm:param type="linDir" val="fromB"/>
          <dgm:param type="txDir" val="fromT"/>
          <dgm:param type="pyraAcctPos" val="bef"/>
          <dgm:param type="pyraAcctTxMar" val="step"/>
          <dgm:param type="pyraAcctBkgdNode" val="acctBkgd"/>
          <dgm:param type="pyraAcctTxNode" val="acctTx"/>
          <dgm:param type="pyraLvlNode" val="level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root des" ptType="all node" func="maxDepth" op="gte" val="2">
        <dgm:constrLst>
          <dgm:constr type="primFontSz" for="des" forName="levelTx" op="equ"/>
          <dgm:constr type="secFontSz" for="des" forName="acctTx" op="equ"/>
          <dgm:constr type="pyraAcctRatio" val="0.32"/>
        </dgm:constrLst>
      </dgm:if>
      <dgm:else name="Name6">
        <dgm:constrLst>
          <dgm:constr type="primFontSz" for="des" forName="levelTx" op="equ"/>
          <dgm:constr type="secFontSz" for="des" forName="acctTx" op="equ"/>
          <dgm:constr type="pyraAcctRatio"/>
        </dgm:constrLst>
      </dgm:else>
    </dgm:choose>
    <dgm:ruleLst/>
    <dgm:forEach name="Name7" axis="ch" ptType="node">
      <dgm:layoutNode name="Name8">
        <dgm:alg type="composite">
          <dgm:param type="horzAlign" val="none"/>
        </dgm:alg>
        <dgm:shape xmlns:r="http://schemas.openxmlformats.org/officeDocument/2006/relationships" r:blip="">
          <dgm:adjLst/>
        </dgm:shape>
        <dgm:presOf/>
        <dgm:choose name="Name9">
          <dgm:if name="Name10" axis="self" ptType="node" func="pos" op="equ" val="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/>
              <dgm:constr type="h" for="ch" forName="levelTx" refType="h" refFor="ch" refForName="level"/>
            </dgm:constrLst>
          </dgm:if>
          <dgm:else name="Name1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 fact="0.65"/>
              <dgm:constr type="h" for="ch" forName="levelTx" refType="h" refFor="ch" refForName="level"/>
            </dgm:constrLst>
          </dgm:else>
        </dgm:choose>
        <dgm:ruleLst/>
        <dgm:choose name="Name12">
          <dgm:if name="Name13" axis="ch" ptType="node" func="cnt" op="gte" val="1">
            <dgm:layoutNode name="acctBkgd" styleLbl="alignAcc1">
              <dgm:alg type="sp"/>
              <dgm:shape xmlns:r="http://schemas.openxmlformats.org/officeDocument/2006/relationships" type="nonIsoscelesTrapezoid" r:blip="">
                <dgm:adjLst/>
              </dgm:shape>
              <dgm:presOf axis="des" ptType="node"/>
              <dgm:constrLst/>
              <dgm:ruleLst/>
            </dgm:layoutNode>
            <dgm:layoutNode name="acctTx" styleLbl="alignAcc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type="nonIsoscelesTrapezoid" r:blip="" hideGeom="1">
                <dgm:adjLst/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3"/>
                <dgm:constr type="bMarg" refType="secFontSz" fact="0.3"/>
                <dgm:constr type="lMarg" refType="secFontSz" fact="0.3"/>
                <dgm:constr type="rMarg" refType="secFontSz" fact="0.3"/>
              </dgm:constrLst>
              <dgm:ruleLst>
                <dgm:rule type="secFontSz" val="5" fact="NaN" max="NaN"/>
              </dgm:ruleLst>
            </dgm:layoutNode>
          </dgm:if>
          <dgm:else name="Name14"/>
        </dgm:choose>
        <dgm:layoutNode name="level">
          <dgm:varLst>
            <dgm:chMax val="1"/>
            <dgm:bulletEnabled val="1"/>
          </dgm:varLst>
          <dgm:alg type="sp"/>
          <dgm:shape xmlns:r="http://schemas.openxmlformats.org/officeDocument/2006/relationships" type="trapezoid" r:blip="">
            <dgm:adjLst/>
          </dgm:shape>
          <dgm:presOf axis="self"/>
          <dgm:constrLst>
            <dgm:constr type="h" val="500"/>
            <dgm:constr type="w" val="1"/>
          </dgm:constrLst>
          <dgm:ruleLst/>
        </dgm:layoutNode>
        <dgm:layoutNode name="levelTx" styleLbl="revTx">
          <dgm:varLst>
            <dgm:chMax val="1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layoutNode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vList6">
  <dgm:title val=""/>
  <dgm:desc val=""/>
  <dgm:catLst>
    <dgm:cat type="process" pri="22000"/>
    <dgm:cat type="list" pri="17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/>
    </dgm:varLst>
    <dgm:alg type="lin">
      <dgm:param type="linDir" val="fromT"/>
    </dgm:alg>
    <dgm:shape xmlns:r="http://schemas.openxmlformats.org/officeDocument/2006/relationships" r:blip="">
      <dgm:adjLst/>
    </dgm:shape>
    <dgm:presOf/>
    <dgm:constrLst>
      <dgm:constr type="w" for="ch" forName="linNode" refType="w"/>
      <dgm:constr type="h" for="ch" forName="linNode" refType="h"/>
      <dgm:constr type="h" for="ch" forName="spacing" refType="h" refFor="ch" refForName="linNode" fact="0.1"/>
      <dgm:constr type="primFontSz" for="des" forName="parentShp" op="equ" val="65"/>
      <dgm:constr type="primFontSz" for="des" forName="childShp" op="equ" val="65"/>
    </dgm:constrLst>
    <dgm:ruleLst/>
    <dgm:forEach name="Name1" axis="ch" ptType="node">
      <dgm:layoutNode name="linNode">
        <dgm:choose name="Name2">
          <dgm:if name="Name3" func="var" arg="dir" op="equ" val="norm">
            <dgm:alg type="lin">
              <dgm:param type="linDir" val="fromL"/>
            </dgm:alg>
          </dgm:if>
          <dgm:else name="Name4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hoose name="Name5">
          <dgm:if name="Name6" func="var" arg="dir" op="equ" val="norm">
            <dgm:constrLst>
              <dgm:constr type="w" for="ch" forName="parentShp" refType="w" fact="0.4"/>
              <dgm:constr type="h" for="ch" forName="parentShp" refType="h"/>
              <dgm:constr type="w" for="ch" forName="childShp" refType="w" fact="0.6"/>
              <dgm:constr type="h" for="ch" forName="childShp" refType="h" refFor="ch" refForName="parentShp"/>
            </dgm:constrLst>
          </dgm:if>
          <dgm:else name="Name7">
            <dgm:constrLst>
              <dgm:constr type="w" for="ch" forName="parentShp" refType="w" fact="0.4"/>
              <dgm:constr type="h" for="ch" forName="parentShp" refType="h"/>
              <dgm:constr type="w" for="ch" forName="childShp" refType="w" fact="0.6"/>
              <dgm:constr type="h" for="ch" forName="childShp" refType="h" refFor="ch" refForName="parentShp"/>
            </dgm:constrLst>
          </dgm:else>
        </dgm:choose>
        <dgm:ruleLst/>
        <dgm:layoutNode name="parentShp" styleLbl="node1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childShp" styleLbl="bgAccFollowNode1">
          <dgm:varLst>
            <dgm:bulletEnabled val="1"/>
          </dgm:varLst>
          <dgm:alg type="tx">
            <dgm:param type="stBulletLvl" val="1"/>
          </dgm:alg>
          <dgm:choose name="Name8">
            <dgm:if name="Name9" func="var" arg="dir" op="equ" val="norm">
              <dgm:shape xmlns:r="http://schemas.openxmlformats.org/officeDocument/2006/relationships" type="rightArrow" r:blip="" zOrderOff="-2">
                <dgm:adjLst>
                  <dgm:adj idx="1" val="0.75"/>
                </dgm:adjLst>
              </dgm:shape>
            </dgm:if>
            <dgm:else name="Name10">
              <dgm:shape xmlns:r="http://schemas.openxmlformats.org/officeDocument/2006/relationships" rot="180" type="rightArrow" r:blip="" zOrderOff="-2">
                <dgm:adjLst>
                  <dgm:adj idx="1" val="0.75"/>
                </dgm:adjLst>
              </dgm:shape>
            </dgm:else>
          </dgm:choose>
          <dgm:presOf axis="des" ptType="node"/>
          <dgm:constrLst>
            <dgm:constr type="secFontSz" refType="primFontSz"/>
            <dgm:constr type="tMarg" refType="primFontSz" fact="0.05"/>
            <dgm:constr type="bMarg" refType="primFontSz" fact="0.05"/>
            <dgm:constr type="lMarg" refType="primFontSz" fact="0.05"/>
            <dgm:constr type="rMarg" refType="primFontSz" fact="0.05"/>
          </dgm:constrLst>
          <dgm:ruleLst>
            <dgm:rule type="primFontSz" val="5" fact="NaN" max="NaN"/>
          </dgm:ruleLst>
        </dgm:layoutNode>
      </dgm:layoutNode>
      <dgm:forEach name="Name11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5/8/layout/cycle2">
  <dgm:title val=""/>
  <dgm:desc val=""/>
  <dgm:catLst>
    <dgm:cat type="cycle" pri="1000"/>
    <dgm:cat type="convert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op="equ" fact="0.25"/>
      <dgm:constr type="sibSp" refType="w" refFor="ch" refPtType="node" fact="0.5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sibTransForEach" axis="followSib" ptType="sibTrans" hideLastTrans="0" cnt="1">
            <dgm:layoutNode name="sibTrans">
              <dgm:choose name="Name11">
                <dgm:if name="Name12" axis="par ch" ptType="doc node" func="cnt" op="lt" val="3">
                  <dgm:alg type="conn">
                    <dgm:param type="begPts" val="radial"/>
                    <dgm:param type="endPts" val="radial"/>
                  </dgm:alg>
                </dgm:if>
                <dgm:else name="Name13">
                  <dgm:alg type="conn">
                    <dgm:param type="begPts" val="auto"/>
                    <dgm:param type="endPts" val="auto"/>
                  </dgm:alg>
                </dgm:else>
              </dgm:choose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1.35"/>
                <dgm:constr type="connDist"/>
                <dgm:constr type="w" for="ch" refType="connDist" fact="0.45"/>
                <dgm:constr type="h" for="ch" refType="h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forEach>
        </dgm:if>
        <dgm:else name="Name14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0B1291-84C2-42C3-B82B-CA7C41528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90A142-E5BE-466F-9810-BADB6AB6B37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292-B485-4D14-9DCE-EF662688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3E1-8479-4A70-90FE-D4901633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551-63C8-4D51-B922-2944891B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F21-1921-449F-8676-795C3D6D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C325-7C8C-46E2-A45D-E9026336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76A7-4F3F-4B04-9272-ED7FAA0E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D0FE-593F-4581-AB6B-D4493CE6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FEA8-FB85-424C-B718-465A38A6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08DA-15CF-4158-BE5E-26DCB053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CCEA-D2F8-4D31-BB8A-B186B776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16C0-E203-4408-80FB-C958DDC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99E-DEE1-4BAB-88C7-827ACDA9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BD19-5352-46E3-9755-5C9EC17F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C549-B540-4016-B637-604BC731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AC1E-54C7-4573-98FC-85FF5237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0B49-7608-4F3C-A6F3-61787E28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5E21-486A-44D4-942B-C13D12F2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E04-80D6-4CEA-A0EF-406C8B1E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623-A774-416A-9432-73F4D6FD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A48-A0D6-4AE6-A826-9FAD2B4F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34B-A9D9-4F45-B369-B551B83A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D1E-24BE-4FCA-9888-458E539F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996-A046-419F-82A9-EB43CA9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81C-C05B-465F-8188-832F9867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F60508-99C9-4BC2-8B8A-7901EEFB418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FD5B0D-EF27-4EB3-AD43-CF6C643073B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microsoft.com/office/2007/relationships/diagramDrawing" Target="../diagrams/drawing8.xml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9.xml"/><Relationship Id="rId2" Type="http://schemas.openxmlformats.org/officeDocument/2006/relationships/diagramLayout" Target="../diagrams/layout9.xml"/><Relationship Id="rId3" Type="http://schemas.openxmlformats.org/officeDocument/2006/relationships/diagramQuickStyle" Target="../diagrams/quickStyle9.xml"/><Relationship Id="rId4" Type="http://schemas.openxmlformats.org/officeDocument/2006/relationships/diagramColors" Target="../diagrams/colors9.xml"/><Relationship Id="rId5" Type="http://schemas.microsoft.com/office/2007/relationships/diagramDrawing" Target="../diagrams/drawing9.xml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10.xml"/><Relationship Id="rId2" Type="http://schemas.openxmlformats.org/officeDocument/2006/relationships/diagramLayout" Target="../diagrams/layout10.xml"/><Relationship Id="rId3" Type="http://schemas.openxmlformats.org/officeDocument/2006/relationships/diagramQuickStyle" Target="../diagrams/quickStyle10.xml"/><Relationship Id="rId4" Type="http://schemas.openxmlformats.org/officeDocument/2006/relationships/diagramColors" Target="../diagrams/colors10.xml"/><Relationship Id="rId5" Type="http://schemas.microsoft.com/office/2007/relationships/diagramDrawing" Target="../diagrams/drawing10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11.xml"/><Relationship Id="rId2" Type="http://schemas.openxmlformats.org/officeDocument/2006/relationships/diagramLayout" Target="../diagrams/layout11.xml"/><Relationship Id="rId3" Type="http://schemas.openxmlformats.org/officeDocument/2006/relationships/diagramQuickStyle" Target="../diagrams/quickStyle11.xml"/><Relationship Id="rId4" Type="http://schemas.openxmlformats.org/officeDocument/2006/relationships/diagramColors" Target="../diagrams/colors11.xml"/><Relationship Id="rId5" Type="http://schemas.microsoft.com/office/2007/relationships/diagramDrawing" Target="../diagrams/drawing11.xml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diagramData" Target="../diagrams/data12.xml"/><Relationship Id="rId2" Type="http://schemas.openxmlformats.org/officeDocument/2006/relationships/diagramLayout" Target="../diagrams/layout12.xml"/><Relationship Id="rId3" Type="http://schemas.openxmlformats.org/officeDocument/2006/relationships/diagramQuickStyle" Target="../diagrams/quickStyle12.xml"/><Relationship Id="rId4" Type="http://schemas.openxmlformats.org/officeDocument/2006/relationships/diagramColors" Target="../diagrams/colors12.xml"/><Relationship Id="rId5" Type="http://schemas.microsoft.com/office/2007/relationships/diagramDrawing" Target="../diagrams/drawing12.xml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diagramData" Target="../diagrams/data13.xml"/><Relationship Id="rId2" Type="http://schemas.openxmlformats.org/officeDocument/2006/relationships/diagramLayout" Target="../diagrams/layout13.xml"/><Relationship Id="rId3" Type="http://schemas.openxmlformats.org/officeDocument/2006/relationships/diagramQuickStyle" Target="../diagrams/quickStyle13.xml"/><Relationship Id="rId4" Type="http://schemas.openxmlformats.org/officeDocument/2006/relationships/diagramColors" Target="../diagrams/colors13.xml"/><Relationship Id="rId5" Type="http://schemas.microsoft.com/office/2007/relationships/diagramDrawing" Target="../diagrams/drawing13.xml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diagramData" Target="../diagrams/data14.xml"/><Relationship Id="rId2" Type="http://schemas.openxmlformats.org/officeDocument/2006/relationships/diagramLayout" Target="../diagrams/layout14.xml"/><Relationship Id="rId3" Type="http://schemas.openxmlformats.org/officeDocument/2006/relationships/diagramQuickStyle" Target="../diagrams/quickStyle14.xml"/><Relationship Id="rId4" Type="http://schemas.openxmlformats.org/officeDocument/2006/relationships/diagramColors" Target="../diagrams/colors14.xml"/><Relationship Id="rId5" Type="http://schemas.microsoft.com/office/2007/relationships/diagramDrawing" Target="../diagrams/drawing14.xml"/><Relationship Id="rId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microsoft.com/office/2007/relationships/diagramDrawing" Target="../diagrams/drawing6.xm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9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Коммуникативно-речевые умения детей с нарушениями речи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Шереметьева Е.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мение делиться своими чувствами, настроениями с партнером по общению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являть сопереживание, заботу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ценивать эмоциональное поведение друг друг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Группа аффективно-коммуникативных умений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67560" indent="-257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бенок проявляет осознанный интерес к общению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бенок активен, самостоятелен, общается в полную меру своих речевых возможностей и активно использует их для решения коммуникативных задач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бенок способен оказывать помощь партнеру по общению и прислушиваться к совету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бенок критически относится к результатам общения, правильно оценивая вклад каждого участник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оказатели сформированности коммуникативных умений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1975201505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Уровни сформированности умений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азируется и реализует принцип комплексной и ситуативно-тематической организации речевого материал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32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Традиционная методика обучения детей с тяжелыми нарушениями речи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нетику (в рамках коррекции произношения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мматику (коррекция аграмматизмов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ексику (расширение пассивного и активного словаря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Традиционное логопедическое занятие включает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4123677555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ринцип функциональности в отборе языкового материал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1203188013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Формальный (традиционный) подход к формированию средств общен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43040"/>
            <a:ext cx="8229240" cy="44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АГМАТИК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Функциональный подход к формированию средств общен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Овал 3"/>
          <p:cNvSpPr/>
          <p:nvPr/>
        </p:nvSpPr>
        <p:spPr>
          <a:xfrm>
            <a:off x="285840" y="1428840"/>
            <a:ext cx="8429400" cy="5428800"/>
          </a:xfrm>
          <a:prstGeom prst="ellipse">
            <a:avLst/>
          </a:prstGeom>
          <a:noFill/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30" name="Овал 4"/>
          <p:cNvSpPr/>
          <p:nvPr/>
        </p:nvSpPr>
        <p:spPr>
          <a:xfrm>
            <a:off x="3143160" y="2214720"/>
            <a:ext cx="2928600" cy="1428480"/>
          </a:xfrm>
          <a:prstGeom prst="ellipse">
            <a:avLst/>
          </a:prstGeom>
          <a:noFill/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ИНТАК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5"/>
          <p:cNvSpPr/>
          <p:nvPr/>
        </p:nvSpPr>
        <p:spPr>
          <a:xfrm>
            <a:off x="714240" y="3286080"/>
            <a:ext cx="3071520" cy="1714320"/>
          </a:xfrm>
          <a:prstGeom prst="ellipse">
            <a:avLst/>
          </a:prstGeom>
          <a:noFill/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ОРФ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6"/>
          <p:cNvSpPr/>
          <p:nvPr/>
        </p:nvSpPr>
        <p:spPr>
          <a:xfrm>
            <a:off x="5286240" y="3286080"/>
            <a:ext cx="2999880" cy="1642680"/>
          </a:xfrm>
          <a:prstGeom prst="ellipse">
            <a:avLst/>
          </a:prstGeom>
          <a:noFill/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ЕМАН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3143160" y="4929120"/>
            <a:ext cx="3142800" cy="1557000"/>
          </a:xfrm>
          <a:prstGeom prst="ellipse">
            <a:avLst/>
          </a:prstGeom>
          <a:noFill/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ФО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" name="Diagram10"/>
          <p:cNvGraphicFramePr/>
          <p:nvPr>
            <p:extLst>
              <p:ext uri="{D42A27DB-BD31-4B8C-83A1-F6EECF244321}">
                <p14:modId xmlns:p14="http://schemas.microsoft.com/office/powerpoint/2010/main" val="4168722593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Функциональный подход предполагает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ициируя общение, ребенок должен выбрать реплику-стимул. Вторая реплика диалогического единства – реплика-реакция – произносится другим участником общения и должна сочетаться с репликой-стимулом по смыслу и речевой стилистике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бенок должен усвоить, что набор диалогических реплик различается в зависимости от того, какие собеседники общаются (возраст, социальный статус и т.п.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сновные аспекты стилистической маркировки диалог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28343701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Принципы классификации речевых нарушений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" name="Diagram11"/>
          <p:cNvGraphicFramePr/>
          <p:nvPr>
            <p:extLst>
              <p:ext uri="{D42A27DB-BD31-4B8C-83A1-F6EECF244321}">
                <p14:modId xmlns:p14="http://schemas.microsoft.com/office/powerpoint/2010/main" val="1339609976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сновные аспекты стилистической маркировки диалог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" name="Diagram12"/>
          <p:cNvGraphicFramePr/>
          <p:nvPr>
            <p:extLst>
              <p:ext uri="{D42A27DB-BD31-4B8C-83A1-F6EECF244321}">
                <p14:modId xmlns:p14="http://schemas.microsoft.com/office/powerpoint/2010/main" val="1493427078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наличии речевого недоразвития, следует как можно раньше начинать специальную работу по формированию диалогических единств с партнерами по группе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имметричном общении возможно и оправдано употребление речевых структур с большей степенью неполноты (стяжения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В методическом аспекте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чальная фаза обучения диалогу: специальный раздел – обучение речевому этикету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кольку речевой этикет. В отличие от свободно выстраиваемого диалога, характеризуется репродуцированием готовых, устойчивых формул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22924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67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т аспект коммуникативного развития детей очень важен уже в раннем дошкольном возрасте, т.к. позволяет сблизить два процесса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ирование речевых средств общения (фонетических, лексико-грамматических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-257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здание способов речевого общения в процессе речевой деятельности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7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действующих программах эти две важные линии развития детской речи недостаточно связаны между собой. Что в известной степени объясняет медленный перенос усвоенных речевых навыков в непосредственное общение вне логопедических занятий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ирование речевого поведения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собой коррекционной задачей логопедии становитс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" name="Diagram13"/>
          <p:cNvGraphicFramePr/>
          <p:nvPr>
            <p:extLst>
              <p:ext uri="{D42A27DB-BD31-4B8C-83A1-F6EECF244321}">
                <p14:modId xmlns:p14="http://schemas.microsoft.com/office/powerpoint/2010/main" val="2589654973"/>
              </p:ext>
            </p:extLst>
          </p:nvPr>
        </p:nvGraphicFramePr>
        <p:xfrm>
          <a:off x="457200" y="928800"/>
          <a:ext cx="8229240" cy="5078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подкатегории: смысл, мнение, желание, намерение, предложение, требование, совет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редства, необходимые для выражения объективных характеристик ситуации (подкатегории: общая информация, сиюминутная информация, передача факта или чьи-то слов, информация о себе или о третьем лице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" name="Diagram14"/>
          <p:cNvGraphicFramePr/>
          <p:nvPr>
            <p:extLst>
              <p:ext uri="{D42A27DB-BD31-4B8C-83A1-F6EECF244321}">
                <p14:modId xmlns:p14="http://schemas.microsoft.com/office/powerpoint/2010/main" val="1102241224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Категории лингвистических средств диалог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лагодарность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ы привлечения внимания собеседник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ветствия и т.д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Диалогические выражения смешанного тип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Существенные положения для построения педагогической классификации (Р.Е. Левина)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674388391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воначально появляются предложения, отражающие субъективные намер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мере овладения родным языком появляются высказывания, передающие объективную информацию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ормам обмена объективной информацией необходимо обучать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В онтогенезе детской речи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чебные пособия и тексты для детей с нарушениями речи преобладают способы передачи объективной информации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учитываются особенности коммуникативного процесса между говорящим и слушающим и во много поэтому у детей не формируются в течение длительного времени лингвистические средства для его осуществл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В существующих методиках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ибольше внимание уделяется формированию компонентов речевой системы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учитываются проблемы функционирования языка как феномена коммуникации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Традиционно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новозрастные нормы диалога с учетом лингвистических, психолингвистических и социальных характеристик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Методика развития речи детей с отклонениями в развитии должна учитывать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240" cy="58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изучения устной разговорной речи рекомендуется использовать динамико-контекстуальную методику Татьяны Слама-Казаку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ммуникация в реальных ситуациях и в развитии: попеременный обмен репликами, последовательное построение высказывания, модификации, обусловленные изменением ситуации или реакции партнера, т.е. осуществляется динамическое исследование языка через речевую деятельность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ецифическая грамматическая структура: неполнота, стяжение и др., обилие репродуцирования устойчивых готовых формул, богатый набор эмоционально-экспрессивных средств, сопровождение определенными жестами, мимикой (невербальные средства коммуникации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Существенные признаки диалог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нализ невербальных средств коммуникации, сопровождающих диалог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-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деление жестов двух типов: замещающие речь и сопровождающие ее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Актуально с диагностической и методической позиций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чевое общение является и деятельностью и взаимодействием (интеракцией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Важно для теории и практики обучения речи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гуляция коммуникативной деятельности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-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дивид способен планировать и порождать высказывания, адекватные данной системе языковых норм и данной ситуации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-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ен понимать смысл высказываний партнеров, продолжать их адекватным способом и оценивать высказывания и тексты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Задача коммуникативной компетенции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нания об основных признаках речевого общ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нания о типах коммуникативных действий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нания о типах секвенций (последовательностей) коммуникативных действий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нания о принципах связи и введения одних секвенций в другие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Система коммуникативной компетенции включает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513133605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Состояние речевых средств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бота близких людей о младенце, приписывание осмысленных функций его не направленным поведенческим актам и звуковым комплексам означает, что они учат ребенка совершать в определенных условиях определенные действия, направляемые на партнеров – это важная предпосылка для овладения типами коммуникативных действий в младенчестве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нтогенез коммуникативного поведен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раннем возрасте ребенок способен реализовывать целый ряд типов коммуникативных действий и соответствующих форм речевых высказываний. Начинается усвоение более сложных типов коммуникации – «рассказывание» или «совместное планирование»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нтогенез коммуникативного поведен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т 3 до 6 лет – переход к объединенным и кооперативным формам игры – развивается совместное планирование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нтогенез коммуникативного поведен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лжна учитывать возможности когнитивного развития посредством совершенствования различных аспектов речи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Модернизация программы по развитию речи в логопедическом детском саду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щий уровень умственного развития ребенка, овладение доступными возрасту знаниями об окружающем мире, сознательность поведения и др.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епень социальной и коммуникативной активности в детском саду и семье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ровень подготовки к школьному обучению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Критерии успешности воспитания и образования средствами родного язы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702534498"/>
              </p:ext>
            </p:extLst>
          </p:nvPr>
        </p:nvGraphicFramePr>
        <p:xfrm>
          <a:off x="457200" y="148104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Свойства речевого поведени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852047494"/>
              </p:ext>
            </p:extLst>
          </p:nvPr>
        </p:nvGraphicFramePr>
        <p:xfrm>
          <a:off x="457200" y="285840"/>
          <a:ext cx="8229240" cy="5721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2986020986"/>
              </p:ext>
            </p:extLst>
          </p:nvPr>
        </p:nvGraphicFramePr>
        <p:xfrm>
          <a:off x="1000080" y="0"/>
          <a:ext cx="757224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ступать в процесс общ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риентироваться в партнерах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риентироваться в ситуациях общ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относить средства вербального  и невербального общ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Группа информационно-коммуникативных умений: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гласовывать действ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гласовывать мн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гласовывать установки с потребностями своих партнеров по общению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нять индивидуальные способы при решении совместных задач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ценивать результат совместного общения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Группа регуляционно-коммуникативных умений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616</TotalTime>
  <Application>LibreOffice/7.4.7.2$Linux_X86_64 LibreOffice_project/40$Build-2</Application>
  <AppVersion>15.0000</AppVersion>
  <Words>1115</Words>
  <Paragraphs>1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1-29T15:24:34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44</vt:r8>
  </property>
</Properties>
</file>