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61D-C16E-4607-A528-96F06BA7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1FE-6D81-46C4-BAF9-2568A01B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7D7-53AF-454E-A0C8-43DCBAD6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989-A356-4162-A294-54F70517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728-DF45-4E9A-AFC6-C7C27294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940-B538-46F7-A70E-D956B0F2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142-E3B5-4006-89DD-A2C0606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1AB-13A6-47E2-941F-64642658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18A-C272-47A8-AABF-7D24EFA7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EF2-F8F6-449E-8D05-0B795C7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C70-CBD1-48BF-A72B-A87B3F0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975-6909-4C71-BEAF-CBFE62B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33C-0401-49BF-96EA-4225DD0FC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609120"/>
            <a:ext cx="5715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. Г. Распутин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«Уроки французског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{2922C915-D920-40D3-ABBA-FE81B1E57EC5}"/>
          <p:cNvPicPr/>
          <p:nvPr/>
        </p:nvPicPr>
        <p:blipFill>
          <a:blip r:embed="rId1"/>
          <a:stretch/>
        </p:blipFill>
        <p:spPr>
          <a:xfrm>
            <a:off x="380880" y="152280"/>
            <a:ext cx="265752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1000201523"/>
          <p:cNvPicPr/>
          <p:nvPr/>
        </p:nvPicPr>
        <p:blipFill>
          <a:blip r:embed="rId2"/>
          <a:stretch/>
        </p:blipFill>
        <p:spPr>
          <a:xfrm>
            <a:off x="4800600" y="2971800"/>
            <a:ext cx="2579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15512" t="12152" r="9196" b="13412"/>
          <a:stretch/>
        </p:blipFill>
        <p:spPr>
          <a:xfrm>
            <a:off x="1143000" y="100656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ы доброты В.Г.Распу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ное добро со стороны того, кто творит его, имеет меньшую память, чем со стороны того, кто его приним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 оно и добро, чтобы не искать прямой отдачи (я помог тебе, а ты изволь помогать мне), а быть бескорыстным и уверенным в своей тихой чудодейственной с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йдя от человека, добро возвращается к нему через много лет совсем с другой стороны, тем больше оно обошло людей и тем шире был круг е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asputin"/>
          <p:cNvPicPr/>
          <p:nvPr/>
        </p:nvPicPr>
        <p:blipFill>
          <a:blip r:embed="rId1"/>
          <a:stretch/>
        </p:blipFill>
        <p:spPr>
          <a:xfrm>
            <a:off x="152280" y="15228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тн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762120"/>
          <a:ext cx="8076960" cy="5979960"/>
        </p:xfrm>
        <a:graphic>
          <a:graphicData uri="http://schemas.openxmlformats.org/drawingml/2006/table">
            <a:tbl>
              <a:tblPr/>
              <a:tblGrid>
                <a:gridCol w="1917720"/>
                <a:gridCol w="749160"/>
                <a:gridCol w="990720"/>
                <a:gridCol w="1066680"/>
                <a:gridCol w="762120"/>
                <a:gridCol w="914400"/>
                <a:gridCol w="167616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оздании экспресс-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ешении экспресс-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през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участия в реал.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0», «3», «4», «5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эпизода в рассказе В.Г.Распутина «Уроки французского». Его роль в художественном произве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rus07-118"/>
          <p:cNvPicPr/>
          <p:nvPr/>
        </p:nvPicPr>
        <p:blipFill>
          <a:blip r:embed="rId1"/>
          <a:stretch/>
        </p:blipFill>
        <p:spPr>
          <a:xfrm>
            <a:off x="4962600" y="1600200"/>
            <a:ext cx="393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экспресс-заданий в процессе работы над эпизодом для дискуссионного обсуждения, взаимоконтроля и взаи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j02805300000[1]"/>
          <p:cNvPicPr/>
          <p:nvPr/>
        </p:nvPicPr>
        <p:blipFill>
          <a:blip r:embed="rId1"/>
          <a:stretch/>
        </p:blipFill>
        <p:spPr>
          <a:xfrm>
            <a:off x="3429000" y="4267080"/>
            <a:ext cx="18223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боты –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работы – у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 деятельности – групп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инирующие виды деятельности: практико-ориентированный, 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003"/>
          <p:cNvPicPr/>
          <p:nvPr/>
        </p:nvPicPr>
        <p:blipFill>
          <a:blip r:embed="rId1"/>
          <a:stretch/>
        </p:blipFill>
        <p:spPr>
          <a:xfrm>
            <a:off x="6172200" y="685800"/>
            <a:ext cx="27097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оры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оры: Гаргома А., Яскина С. (э.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и: Мохова А., Щербинина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оры: Швецов Д., Козылбаева С.(э.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и: Евтодьева Л., Уильданова 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76560" y="16002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упп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оры: Пермякова А., Аглямова А. (э.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и: Чикурова Я., Карманова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Cj02905230000[1]"/>
          <p:cNvPicPr/>
          <p:nvPr/>
        </p:nvPicPr>
        <p:blipFill>
          <a:blip r:embed="rId1"/>
          <a:stretch/>
        </p:blipFill>
        <p:spPr>
          <a:xfrm>
            <a:off x="5867280" y="4724280"/>
            <a:ext cx="167652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бор художественного материала в соответствии с объектом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Определение темы эпизода. Выбор оптимальных заданий, раскрывающих его содержательную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Определение главной мысли эпизода. Формулирование вопросов в соответствии с идеей всего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формление результат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бличная защи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ов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полнение оценочного листа, итоги, анализ результатов выполненного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тн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2120" y="762120"/>
          <a:ext cx="8076960" cy="5979960"/>
        </p:xfrm>
        <a:graphic>
          <a:graphicData uri="http://schemas.openxmlformats.org/drawingml/2006/table">
            <a:tbl>
              <a:tblPr/>
              <a:tblGrid>
                <a:gridCol w="1917720"/>
                <a:gridCol w="749160"/>
                <a:gridCol w="990720"/>
                <a:gridCol w="1066680"/>
                <a:gridCol w="762120"/>
                <a:gridCol w="914400"/>
                <a:gridCol w="167616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оздании экспресс-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ешении экспресс-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през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участия в реал.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0», «3», «4», «5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914400" y="655560"/>
            <a:ext cx="74674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rus07-116"/>
          <p:cNvPicPr/>
          <p:nvPr/>
        </p:nvPicPr>
        <p:blipFill>
          <a:blip r:embed="rId1"/>
          <a:stretch/>
        </p:blipFill>
        <p:spPr>
          <a:xfrm>
            <a:off x="2057400" y="457200"/>
            <a:ext cx="5181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4-11T16:05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