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186-B80C-4A1E-9379-843407E0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B4C-CE05-4353-B999-305A2401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B5F-9ED4-4BD6-81E9-9413F298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954-02F5-49F9-9828-CF7CBB83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9F8-F9CF-41BE-AD35-B126DEC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5D9-F8BB-485E-B1A8-050F71F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167-A54D-4D6F-B05F-C6BB8DD9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245-6A65-41B6-9DAA-EE555128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67F-F79C-4617-BFC5-F82633E4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F83-366D-4C71-8DDB-7599D79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4A6-2576-4138-B1D1-08C2FFBC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66E-BC7E-49EF-BC24-9E13E1C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DF9-862C-4B86-8EEB-80777988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Dcy;&amp;iecy;&amp;tcy;&amp;icy; &amp;icy;&amp;gcy;&amp;rcy;&amp;acy;&amp;yucy;&amp;tcy; &amp;vcy; &amp;scy;&amp;ncy;&amp;iecy;&amp;zhcy;&amp;kcy;&amp;icy; &amp;vcy;&amp;ocy;&amp;zcy;&amp;lcy;&amp;iecy; &amp;dcy;&amp;ocy;&amp;mcy;&amp;acy;, &amp;bcy;&amp;ocy;&amp;lcy;&amp;softcy;&amp;shcy;&amp;acy;&amp;yacy; &amp;scy;&amp;ncy;&amp;iecy;&amp;zhcy;&amp;ncy;&amp;acy;&amp;yacy; &amp;kcy;&amp;ocy;&amp;rcy;&amp;ocy;&amp;lcy;&amp;iecy;&amp;vcy;&amp;acy; &amp;scy;&amp;ycy;&amp;pcy;&amp;iecy;&amp;tcy; &amp;scy;&amp;ncy;&amp;iecy;&amp;gcy; &amp;ncy;&amp;acy; &amp;zcy;&amp;iecy;&amp;mcy;&amp;lcy;&amp;yucy;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удливый-причудливее-более причуд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лепитель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слепительнее-более ослеп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ярче-более яр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олеп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великолепнее-более великолеп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жествен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оржественнее-более торже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чудеснее-более чуде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кош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оскошнее-более роскош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ыш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ышнее-более пыш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шеб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волшебнее-более волшеб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ититель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восхитительнее-более восхит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ряд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ле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е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нь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н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ряд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огромн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огром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 ряд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ф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ома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омат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8280" y="324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8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2857680" cy="1409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362320" y="464832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0" dur="2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4" dur="2000" fill="hold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3040" y="2103480"/>
            <a:ext cx="839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ль - от имени нашего 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удитория - школьникам 2023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а - 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а - описание красоты улиц, просьба решать пробл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работа в груп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5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-3600"/>
            <a:ext cx="84582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Что научились делать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олучалось хорош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ша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 собой возьму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стал лучше!!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сть наш город будет еще прекрасне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бки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19280" y="164772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45720" y="1906560"/>
            <a:ext cx="3432960" cy="4483080"/>
          </a:xfrm>
          <a:prstGeom prst="rect">
            <a:avLst/>
          </a:prstGeom>
          <a:solidFill>
            <a:srgbClr val="fff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чудесн… поры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три месяца зимы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щ…, чищ.. день за днём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йзажи за окном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бильн… снега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спокойн… спят луга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сильн…ветер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румян… дети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ьш…, тоньш… календарь: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лижается январь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608760"/>
            <a:ext cx="81532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пять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ружась легко и неумело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нежинка села на стекло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ел ночью снег густой и белый -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 снега в комнате светло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уть порошит пушок летучий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солнце зимнее встает.</a:t>
            </a:r>
            <a:br>
              <a:rPr sz="2000"/>
            </a:b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Как каждый день, полней и лучше,</a:t>
            </a:r>
            <a:br>
              <a:rPr sz="2000"/>
            </a:b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Полней и лучше новый год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вард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                                      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ответстве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                                    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внимате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                                  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спокой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                                 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трудолюби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                              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прилежны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419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267080"/>
            <a:ext cx="2362320" cy="193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ей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4397400"/>
            <a:ext cx="2209680" cy="1312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Я буду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581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ичностный ро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-730080"/>
            <a:ext cx="8294760" cy="86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Снег белый, белее, более белый, самый белый, белейш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ороз сильный-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ильнее, более сильный, самый сильный, сильней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епени сравнения имен прилага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ит берёзка в пелеринк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венит на ветках бахром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легч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ежн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нежинки —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 холодней з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. Нов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9080"/>
          <a:ext cx="8534520" cy="6400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80"/>
                    <a:ext cx="8534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0"/>
            <a:ext cx="8991720" cy="61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act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терак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змеч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я эффекти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ding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ен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ink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з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"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+ 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поставьте "+"(плюс) на полях, если то, что вы читаете, является для вас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 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" - 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поставьте " -"(минус), на полях, если то, что вы читаете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тиворечи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у, что вы уже знали, или думали, что знаете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" V 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поставьте "v"(да) на полях, если то, что вы читаете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ветству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му, что вы знаете, или думали, что знаете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 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" ? 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поставьте "?" на полях, если то, что вы читаете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ня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же вы хотели бы получить более подробные сведения по данному вопро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28600"/>
            <a:ext cx="3276720" cy="1922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v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уже з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+» — н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-» — думал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?» — не поня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8120" y="1828800"/>
            <a:ext cx="27432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0"/>
            <a:ext cx="17528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восх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200400"/>
            <a:ext cx="167616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ав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971800"/>
            <a:ext cx="12952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2971800"/>
            <a:ext cx="12952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685800"/>
            <a:ext cx="12952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380880"/>
            <a:ext cx="19810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зуе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343400"/>
            <a:ext cx="12952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495680"/>
            <a:ext cx="12956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76520" y="3733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086240" y="137160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144792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7009920" y="36576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27672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10080" y="3276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95680" y="838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95680" y="2514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5715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5791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523880" y="5105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934320" y="52578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4876920"/>
            <a:ext cx="14479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льз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мес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4724280"/>
            <a:ext cx="1752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257800" y="502920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пени с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080" y="1400040"/>
            <a:ext cx="8763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а - самое волшебное время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иходом зимы Снежинск  еще загадочн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ег словно озарил улиц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спрятал проблемы современного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2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рыл дорожную пыль, и кажется, что все вокруг более чист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3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упое зимнее солнце ярче летне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о  отражается  в искристых сугроб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4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день ото дня мороз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5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он свежее, чем вч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Меньше уровень его загрязнения выхлопными газ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6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округ  светл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7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видим родной город более прекрасным день ото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ег, снежинка, Снежинск… Символ чистоты, творчества, волшеб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13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971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3352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876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5029200"/>
            <a:ext cx="2209680" cy="152280"/>
          </a:xfrm>
          <a:custGeom>
            <a:avLst/>
            <a:gdLst/>
            <a:ahLst/>
            <a:rect l="l" t="t" r="r" b="b"/>
            <a:pathLst>
              <a:path w="13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96"/>
                  <a:pt x="192" y="96"/>
                </a:cubicBezTo>
                <a:cubicBezTo>
                  <a:pt x="224" y="96"/>
                  <a:pt x="256" y="0"/>
                  <a:pt x="288" y="0"/>
                </a:cubicBezTo>
                <a:cubicBezTo>
                  <a:pt x="320" y="0"/>
                  <a:pt x="352" y="96"/>
                  <a:pt x="384" y="96"/>
                </a:cubicBezTo>
                <a:cubicBezTo>
                  <a:pt x="416" y="96"/>
                  <a:pt x="448" y="0"/>
                  <a:pt x="480" y="0"/>
                </a:cubicBezTo>
                <a:cubicBezTo>
                  <a:pt x="512" y="0"/>
                  <a:pt x="544" y="96"/>
                  <a:pt x="576" y="96"/>
                </a:cubicBezTo>
                <a:cubicBezTo>
                  <a:pt x="608" y="96"/>
                  <a:pt x="640" y="0"/>
                  <a:pt x="672" y="0"/>
                </a:cubicBezTo>
                <a:cubicBezTo>
                  <a:pt x="704" y="0"/>
                  <a:pt x="736" y="96"/>
                  <a:pt x="768" y="96"/>
                </a:cubicBezTo>
                <a:cubicBezTo>
                  <a:pt x="800" y="96"/>
                  <a:pt x="832" y="0"/>
                  <a:pt x="864" y="0"/>
                </a:cubicBezTo>
                <a:cubicBezTo>
                  <a:pt x="896" y="0"/>
                  <a:pt x="928" y="96"/>
                  <a:pt x="960" y="96"/>
                </a:cubicBezTo>
                <a:cubicBezTo>
                  <a:pt x="992" y="96"/>
                  <a:pt x="1016" y="0"/>
                  <a:pt x="1056" y="0"/>
                </a:cubicBezTo>
                <a:cubicBezTo>
                  <a:pt x="1096" y="0"/>
                  <a:pt x="1160" y="96"/>
                  <a:pt x="1200" y="96"/>
                </a:cubicBezTo>
                <a:cubicBezTo>
                  <a:pt x="1240" y="96"/>
                  <a:pt x="1264" y="0"/>
                  <a:pt x="1296" y="0"/>
                </a:cubicBezTo>
                <a:cubicBezTo>
                  <a:pt x="1328" y="0"/>
                  <a:pt x="1376" y="80"/>
                  <a:pt x="1392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42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&amp;Acy;&amp;ncy;&amp;icy;&amp;mcy;&amp;acy;&amp;tscy;&amp;icy;&amp;ocy;&amp;ncy;&amp;ncy;&amp;acy;&amp;yacy; &amp;kcy;&amp;acy;&amp;rcy;&amp;tcy;&amp;icy;&amp;ncy;&amp;kcy;&amp;acy; &amp;scy; &amp;gcy;&amp;ocy;&amp;rcy;&amp;yacy;&amp;shchcy;&amp;icy;&amp;mcy;&amp;icy; &amp;scy;&amp;vcy;&amp;iecy;&amp;chcy;&amp;acy;&amp;mcy;&amp;i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&amp;ncy;&amp;ocy;&amp;vcy;&amp;ycy;&amp;iecy; &amp;kcy;&amp;rcy;&amp;acy;&amp;scy;&amp;icy;&amp;vcy;&amp;ycy;&amp;iecy; &amp;Acy;&amp;ncy;&amp;icy;&amp;mcy;&amp;acy;&amp;shcy;&amp;kcy;&amp;icy;, &amp;acy;&amp;ncy;&amp;icy;&amp;mcy;&amp;acy;&amp;tscy;&amp;icy;&amp;ocy;&amp;ncy;&amp;ncy;&amp;ycy;&amp;iecy; &amp;kcy;&amp;acy;&amp;rcy;&amp;tcy;&amp;icy;&amp;ncy;&amp;kcy;&amp;icy; &amp;Acy;&amp;ncy;&amp;gcy;&amp;iecy;&amp;lcy;&amp;ycy;, &amp;fcy;&amp;iecy;&amp;icy;, &amp;acy;&amp;ncy;&amp;icy;&amp;mcy;&amp;icy;&amp;rcy;&amp;ocy;&amp;vcy;&amp;acy;&amp;ncy;&amp;ncy;&amp;ycy;&amp;iecy; &amp;kcy;&amp;acy;&amp;rcy;&amp;tcy;&amp;icy;&amp;ncy;&amp;kcy;&amp;icy; &amp;Acy;&amp;ncy;&amp;gcy;&amp;iecy;&amp;lcy;&amp;ycy;, &amp;fcy;&amp;iecy;&amp;icy;"/>
          <p:cNvPicPr/>
          <p:nvPr/>
        </p:nvPicPr>
        <p:blipFill>
          <a:blip r:embed="rId1"/>
          <a:stretch/>
        </p:blipFill>
        <p:spPr>
          <a:xfrm>
            <a:off x="1595520" y="3124080"/>
            <a:ext cx="2212920" cy="294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&amp;ncy;&amp;ocy;&amp;vcy;&amp;ycy;&amp;iecy; &amp;kcy;&amp;rcy;&amp;acy;&amp;scy;&amp;icy;&amp;vcy;&amp;ycy;&amp;iecy; &amp;Acy;&amp;ncy;&amp;icy;&amp;mcy;&amp;acy;&amp;shcy;&amp;kcy;&amp;icy;, &amp;acy;&amp;ncy;&amp;icy;&amp;mcy;&amp;acy;&amp;tscy;&amp;icy;&amp;ocy;&amp;ncy;&amp;ncy;&amp;ycy;&amp;iecy; &amp;kcy;&amp;acy;&amp;rcy;&amp;tcy;&amp;icy;&amp;ncy;&amp;kcy;&amp;icy; &amp;Acy;&amp;ncy;&amp;gcy;&amp;iecy;&amp;lcy;&amp;ycy;, &amp;fcy;&amp;iecy;&amp;icy;, &amp;acy;&amp;ncy;&amp;icy;&amp;mcy;&amp;icy;&amp;rcy;&amp;ocy;&amp;vcy;&amp;acy;&amp;ncy;&amp;ncy;&amp;ycy;&amp;iecy; &amp;kcy;&amp;acy;&amp;rcy;&amp;tcy;&amp;icy;&amp;ncy;&amp;kcy;&amp;icy; &amp;Acy;&amp;ncy;&amp;gcy;&amp;iecy;&amp;lcy;&amp;ycy;, &amp;fcy;&amp;iecy;&amp;icy;"/>
          <p:cNvPicPr/>
          <p:nvPr/>
        </p:nvPicPr>
        <p:blipFill>
          <a:blip r:embed="rId2"/>
          <a:stretch/>
        </p:blipFill>
        <p:spPr>
          <a:xfrm>
            <a:off x="4495680" y="1676520"/>
            <a:ext cx="247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135</cp:lastModifiedBy>
  <dcterms:modified xsi:type="dcterms:W3CDTF">2014-01-25T16:08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