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E37-B6B6-4BE0-A26E-468505DF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E16-7AC5-4216-98D5-A61E045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789-8B43-43D7-9CF3-A05AAF2B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F8-5014-4BC6-8C41-B12EB5E1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39C-2A77-4EB4-9D30-DAAFD45D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70C6-B7DA-4579-BA52-5EE1E10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CF5-35AD-4281-A3A7-7FF541E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F41A-BAB5-4C38-82AB-197D787B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DDC9-D0CF-4FB0-A796-2EC7842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EFA7-EB40-4EC2-BB19-1E25D8BE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D9F-E1D4-4942-B59F-F1C3997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164-0431-4D69-9149-4E5692F9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E55-1C02-454A-9E4A-9817BAE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91C-9BF0-42AC-85DF-3CDD74C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4BF3-9E48-48A8-B549-9DC3A2C8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511-BAFF-4BA6-90A2-E6B4F883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6A53-7723-4934-BE4D-2E3EC6A6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1F4-9EB3-48D9-A470-8720F62D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100-DA75-4D5E-AB1B-7CCE40B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8DA-2A8E-41AD-9CBD-3D02C39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120-3F7B-46BE-8847-65F7E6E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BDB-D745-449D-8410-16AAF92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FE9-FB95-4FC2-A3BF-2137953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406-2951-469F-B7F4-AE53E1E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5259-F0AA-469E-A421-0E2A3B8D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EB5-6F58-4B4D-9741-7F0AA755E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Технология французских творческих мастерских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на уроках русского языка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и  литературы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00120" y="260280"/>
            <a:ext cx="74916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0066ff"/>
                </a:solidFill>
                <a:latin typeface="Times New Roman"/>
              </a:rPr>
              <a:t>Закончите фраз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</a:rPr>
              <a:t>На мастерской я понял(а), что…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</a:rPr>
              <a:t>Я задумался(лась)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Times New Roman"/>
              </a:rPr>
              <a:t>о…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1" i="1" lang="ru-RU" sz="3600" spc="-1" strike="noStrike">
                <a:solidFill>
                  <a:srgbClr val="333300"/>
                </a:solidFill>
                <a:latin typeface="Times New Roman"/>
              </a:rPr>
              <a:t>Мастерская называется «Крылья», потому что…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00120" y="260280"/>
            <a:ext cx="74916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« А любовь к людям –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это ведь и есть те крылья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на которых человек поднимается выше всего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Максим Горьки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http://avatarworld.ru/avatarki/kontakt/avatarki-woman-angel/avatars/13_tender_angel_girl.jpg"/>
          <p:cNvPicPr/>
          <p:nvPr/>
        </p:nvPicPr>
        <p:blipFill>
          <a:blip r:embed="rId1"/>
          <a:stretch/>
        </p:blipFill>
        <p:spPr>
          <a:xfrm>
            <a:off x="2428920" y="2143080"/>
            <a:ext cx="3000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Выполните одно из заданий по выбор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Составьте и запишите 3-5 проблемных вопросов по рассказу «Вывод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Сконструируйте литературные аргументы по выбранным вами проблемам, взяв за основу прочитанные рассказы Горьког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Напишите сочинение в формате ЕГЭ, опираясь на рассказ «Вывод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00120" y="260280"/>
            <a:ext cx="74916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Алгоритм построения мастерско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Индукц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Самоинструкц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Деконструкция и реконструкц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Афиширова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Разрыв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Социализац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Рефлекс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01840" y="1989720"/>
            <a:ext cx="684216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Типы мастерских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мастерская построения знаний,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мастерская творческого письма,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мастерская построения отношений,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мастерская ценностных ориентаций,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мастерская по самопознанию,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проектная мастерская 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и др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90800" y="549000"/>
            <a:ext cx="5610240" cy="31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             </a:t>
            </a:r>
            <a:r>
              <a:rPr b="1" i="1" lang="en-US" sz="3600" spc="-1" strike="noStrike" u="sng">
                <a:solidFill>
                  <a:srgbClr val="3399ff"/>
                </a:solidFill>
                <a:uFillTx/>
                <a:latin typeface="Times New Roman"/>
              </a:rPr>
              <a:t>Технология </a:t>
            </a:r>
            <a:br>
              <a:rPr sz="3600"/>
            </a:br>
            <a:r>
              <a:rPr b="1" i="1" lang="en-US" sz="3600" spc="-1" strike="noStrike" u="sng">
                <a:solidFill>
                  <a:srgbClr val="3399ff"/>
                </a:solidFill>
                <a:uFillTx/>
                <a:latin typeface="Times New Roman"/>
              </a:rPr>
              <a:t> творческих мастерских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«Крылья»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по ранним рассказам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М. Горького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14200" y="520560"/>
            <a:ext cx="984888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«Я в мир пришёл, чтобы не соглашаться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Picture 6" descr="http://presentmir.cx0.ru/7maxgorkii.jpg"/>
          <p:cNvPicPr/>
          <p:nvPr/>
        </p:nvPicPr>
        <p:blipFill>
          <a:blip r:embed="rId1"/>
          <a:stretch/>
        </p:blipFill>
        <p:spPr>
          <a:xfrm>
            <a:off x="2000160" y="1857240"/>
            <a:ext cx="6010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00120" y="260280"/>
            <a:ext cx="74916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557360" y="1000080"/>
            <a:ext cx="6966000" cy="4838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571840" y="1012680"/>
            <a:ext cx="51544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00120" y="260280"/>
            <a:ext cx="749160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«Свинцовые мерзост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                               </a:t>
            </a: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дикой русской жизни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повесть «Детство»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Object 3" descr=""/>
          <p:cNvPicPr/>
          <p:nvPr/>
        </p:nvPicPr>
        <p:blipFill>
          <a:blip r:embed="rId1"/>
          <a:stretch/>
        </p:blipFill>
        <p:spPr>
          <a:xfrm>
            <a:off x="10385280" y="3513240"/>
            <a:ext cx="34704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929120" y="2643120"/>
            <a:ext cx="2838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28480" y="285480"/>
            <a:ext cx="7491240" cy="63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476360" y="404640"/>
            <a:ext cx="7456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СОЦИОКОНСТРУКЦИЯ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Times New Roman"/>
              </a:rPr>
              <a:t>(работа в группах по рассказу «Страсти-мордасти»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Рассказ производит на читателя …впечатление, потому что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Поразило (что?), потому что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Больше всего запомнилось (что?), потому что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Автор от читателя ждёт (чего?); это проявляется (как? в  чём?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Моё отношение к рассказчику (какое), потому что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Какие проблемы затронуты автором в рассказе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В чём актуальность рассказа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В чём, по-вашему, смысл названия рассказа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13920" y="1856880"/>
            <a:ext cx="792972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3300"/>
                </a:solidFill>
                <a:latin typeface="Times New Roman"/>
              </a:rPr>
              <a:t>И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жалкая лошадь, медленно шагая, всё мотает своей шершавой головой, точно хочет сказать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357280" y="571680"/>
            <a:ext cx="55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РАССКАЗ  «ВЫВОД» (1895 год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643040" y="328608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«Вот как подло быть скотом!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Во всякой мерзости люди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заставляют принять участие…»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0:29:37Z</dcterms:created>
  <dc:creator>жилин олег юрьевич</dc:creator>
  <dc:description/>
  <dc:language>en-US</dc:language>
  <cp:lastModifiedBy>Гильгенберг</cp:lastModifiedBy>
  <dcterms:modified xsi:type="dcterms:W3CDTF">2014-04-14T04:34:46Z</dcterms:modified>
  <cp:revision>20</cp:revision>
  <dc:subject/>
  <dc:title>Жанр басни в литературе.</dc:title>
</cp:coreProperties>
</file>