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260013" cy="73802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F59B-EAC2-437D-93F7-D5D2953E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923436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80" y="4266360"/>
            <a:ext cx="923436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F8FB-E91F-4784-81B7-210ED37F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4592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080" y="426636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45920" y="426636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1D2-05F8-49BD-8465-9A856B0F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6360" y="172224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58640" y="172224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080" y="426636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6360" y="426636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58640" y="426636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62A-DF0F-4265-B273-98195596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080" y="1722240"/>
            <a:ext cx="923436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166-BEBC-4D4A-87E9-1D6DB805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923436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242-9905-4631-8177-59A3D446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450612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45920" y="1722240"/>
            <a:ext cx="450612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8AD-B2AB-4981-955B-B9450D46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9C9-CDF7-40CE-A803-16316461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080" y="295200"/>
            <a:ext cx="9234360" cy="57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2D5C-EA59-4CF1-82D8-EEC5A7CB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5920" y="1722240"/>
            <a:ext cx="450612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080" y="426636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4B46-C11B-4514-B205-D23EDC13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450612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592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45920" y="426636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F56E-C533-48E9-9325-A5DE0C76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592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080" y="4266360"/>
            <a:ext cx="923436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C131-57F9-44D8-9CBE-A3618295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722240"/>
            <a:ext cx="923436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0168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1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6721560"/>
            <a:ext cx="239400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721560"/>
            <a:ext cx="32511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53360" y="6721560"/>
            <a:ext cx="239544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BE922-9DDB-4DD7-B1DB-34EF7304043C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8000" y="449280"/>
            <a:ext cx="8753400" cy="93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правление образования администрации города Снежинска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городская Спартакиада школьников общеобразовательных учреждений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«Любимому городу - наши рекорды!»</a:t>
            </a:r>
            <a:br>
              <a:rPr sz="1700"/>
            </a:br>
            <a:br>
              <a:rPr sz="12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ТАБЛИЦА РОЗЫГРЫША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ервенства по волейболу среди девушек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39720" y="4181040"/>
            <a:ext cx="718344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78000" y="1601640"/>
          <a:ext cx="9591480" cy="5453280"/>
        </p:xfrm>
        <a:graphic>
          <a:graphicData uri="http://schemas.openxmlformats.org/drawingml/2006/table">
            <a:tbl>
              <a:tblPr/>
              <a:tblGrid>
                <a:gridCol w="504720"/>
                <a:gridCol w="1944720"/>
                <a:gridCol w="934920"/>
                <a:gridCol w="863640"/>
                <a:gridCol w="865080"/>
                <a:gridCol w="863640"/>
                <a:gridCol w="855720"/>
                <a:gridCol w="944640"/>
                <a:gridCol w="936360"/>
                <a:gridCol w="878040"/>
              </a:tblGrid>
              <a:tr h="600840"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анда  МОУ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ннннТ у р ы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17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1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1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5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1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6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1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мназия 127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1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482760" y="7056360"/>
            <a:ext cx="937260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Главный судья Спартакиады: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               Т.Т. Гессель     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6360" y="233280"/>
            <a:ext cx="1511280" cy="108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802720" y="233280"/>
            <a:ext cx="1458720" cy="100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970360" y="2825640"/>
            <a:ext cx="647640" cy="638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835440" y="3546360"/>
            <a:ext cx="647640" cy="638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699080" y="4265640"/>
            <a:ext cx="647640" cy="638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562720" y="4915080"/>
            <a:ext cx="647640" cy="637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6426360" y="5634000"/>
            <a:ext cx="649080" cy="639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7291440" y="6354720"/>
            <a:ext cx="647640" cy="6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9680" y="233280"/>
            <a:ext cx="8721720" cy="115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правление образования администрации города Снежинска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городская Спартакиада школьников общеобразовательных учреждений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«Любимому городу - наши рекорды!»</a:t>
            </a:r>
            <a:br>
              <a:rPr sz="1700"/>
            </a:br>
            <a:br>
              <a:rPr sz="12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ТАБЛИЦА РОЗЫГРЫША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ервенства по волейболу среди юнош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39720" y="4181040"/>
            <a:ext cx="718344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" y="1601640"/>
          <a:ext cx="9577080" cy="5380200"/>
        </p:xfrm>
        <a:graphic>
          <a:graphicData uri="http://schemas.openxmlformats.org/drawingml/2006/table">
            <a:tbl>
              <a:tblPr/>
              <a:tblGrid>
                <a:gridCol w="510840"/>
                <a:gridCol w="1938600"/>
                <a:gridCol w="861840"/>
                <a:gridCol w="844560"/>
                <a:gridCol w="957240"/>
                <a:gridCol w="863640"/>
                <a:gridCol w="863640"/>
                <a:gridCol w="936720"/>
                <a:gridCol w="936360"/>
                <a:gridCol w="863640"/>
              </a:tblGrid>
              <a:tr h="600840"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анда  МОУ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 у р ы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17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1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5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6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мназия 127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482760" y="7056360"/>
            <a:ext cx="937260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Главный судья Спартакиады: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              Т.Т. Гессель    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6360" y="378000"/>
            <a:ext cx="1511280" cy="1079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802720" y="233280"/>
            <a:ext cx="1458720" cy="115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562720" y="4842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291440" y="6281640"/>
            <a:ext cx="647640" cy="638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426360" y="5562720"/>
            <a:ext cx="647640" cy="637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4699080" y="4122720"/>
            <a:ext cx="647640" cy="638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3762360" y="3473280"/>
            <a:ext cx="720720" cy="63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2898720" y="2754360"/>
            <a:ext cx="719280" cy="63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6:33:25Z</dcterms:created>
  <dc:creator>Гессель</dc:creator>
  <dc:description/>
  <dc:language>en-US</dc:language>
  <cp:lastModifiedBy>Гессель</cp:lastModifiedBy>
  <dcterms:modified xsi:type="dcterms:W3CDTF">2010-03-18T04:32:19Z</dcterms:modified>
  <cp:revision>63</cp:revision>
  <dc:subject/>
  <dc:title>Управление образования администрации города Снежинска VI городская Спартакиада школьников «Любимому городу наши рекорды»  ТАБЛИЦА РОЗЫГРЫША первенства по баскетболу среди девушек</dc:title>
</cp:coreProperties>
</file>