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260013" cy="73802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FB7-1357-4F1E-A3D3-66116A36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759-F0EB-4CFC-BAD5-46DBDBD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60F-6FEE-4E40-961B-75091A5C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36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36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009-A749-4C54-A39F-4D4EA643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601-5829-44D2-B18D-4F75883F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C97-791B-493D-90BA-FA627C56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B274-EE20-48B0-B133-0E68A25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0BD-B47E-439C-B278-79C13F4D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95200"/>
            <a:ext cx="923436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820-29A5-46A3-8D23-EAE43BA3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267-CA42-4813-BC44-EFD68A00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22C-E6A4-4B28-80E9-C0D1957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4B6-D9A0-492B-A7D0-6625D0C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721560"/>
            <a:ext cx="32511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3360" y="6721560"/>
            <a:ext cx="239544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3F533-96C2-4463-B4C6-3FF3B5D7A98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" y="449280"/>
            <a:ext cx="8753400" cy="93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юбимому городу наши рекорды»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2009 – 2010 учебный год </a:t>
            </a:r>
            <a:br>
              <a:rPr sz="12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баскетболу среди девушек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8000" y="1817640"/>
          <a:ext cx="9591480" cy="5164200"/>
        </p:xfrm>
        <a:graphic>
          <a:graphicData uri="http://schemas.openxmlformats.org/drawingml/2006/table">
            <a:tbl>
              <a:tblPr/>
              <a:tblGrid>
                <a:gridCol w="504720"/>
                <a:gridCol w="1923840"/>
                <a:gridCol w="955800"/>
                <a:gridCol w="863640"/>
                <a:gridCol w="865080"/>
                <a:gridCol w="863640"/>
                <a:gridCol w="855720"/>
                <a:gridCol w="944640"/>
                <a:gridCol w="936360"/>
                <a:gridCol w="8780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9 : 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2 : 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17:10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0 :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3 :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5 :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3 :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1 : 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1 :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33 : 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62 : 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52 : 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3 : 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35 :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4 : 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102: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2 : 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0 :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9 :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66 : 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9 :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4 : 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2 : 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9 :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50 : 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1 : 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84 : 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8 :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39 : 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66 :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2760" y="7056360"/>
            <a:ext cx="9372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Т. Фурман                                Главный секретарь: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Т.В. Балхи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360" y="233280"/>
            <a:ext cx="151128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898720" y="2754360"/>
            <a:ext cx="719280" cy="64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35440" y="3473280"/>
            <a:ext cx="718920" cy="64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26000" y="4194000"/>
            <a:ext cx="719280" cy="64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562720" y="4915080"/>
            <a:ext cx="679320" cy="61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426360" y="5634000"/>
            <a:ext cx="649080" cy="5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218360" y="62816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8731080" y="233280"/>
            <a:ext cx="153036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9680" y="233280"/>
            <a:ext cx="8721720" cy="115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«Любимому городу наши рекорды»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009 – 2010 учебный год</a:t>
            </a:r>
            <a:br>
              <a:rPr sz="12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баскетболу среди юнош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" y="1673280"/>
          <a:ext cx="9577080" cy="5364000"/>
        </p:xfrm>
        <a:graphic>
          <a:graphicData uri="http://schemas.openxmlformats.org/drawingml/2006/table">
            <a:tbl>
              <a:tblPr/>
              <a:tblGrid>
                <a:gridCol w="510840"/>
                <a:gridCol w="1938600"/>
                <a:gridCol w="861840"/>
                <a:gridCol w="844560"/>
                <a:gridCol w="957240"/>
                <a:gridCol w="863640"/>
                <a:gridCol w="863640"/>
                <a:gridCol w="936720"/>
                <a:gridCol w="936360"/>
                <a:gridCol w="8636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5 : 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3 : 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53 : 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29 : 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0 :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6 :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51 :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4 : 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60 :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3 : 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2 : 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9 : 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4 :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2 : 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8 : 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2 : 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3 :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0 : 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70 : 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52 :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47 : 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2 :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62 : 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35 : 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34 :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83 :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61 : 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47 : 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4 :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59 : 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82760" y="7056360"/>
            <a:ext cx="9372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: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         Т. Фурман                                 Главный секретарь: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Т.В. Балхин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6360" y="23328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62720" y="491508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26360" y="5634000"/>
            <a:ext cx="71892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62720" y="635472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54360" y="4194000"/>
            <a:ext cx="792360" cy="69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762360" y="3473280"/>
            <a:ext cx="719280" cy="64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898720" y="2825640"/>
            <a:ext cx="71928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8731080" y="233280"/>
            <a:ext cx="1530360" cy="108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33:25Z</dcterms:created>
  <dc:creator>Гессель</dc:creator>
  <dc:description/>
  <dc:language>en-US</dc:language>
  <cp:lastModifiedBy>gessel</cp:lastModifiedBy>
  <dcterms:modified xsi:type="dcterms:W3CDTF">2010-12-03T04:28:19Z</dcterms:modified>
  <cp:revision>51</cp:revision>
  <dc:subject/>
  <dc:title>Управление образования администрации города Снежинска VI городская Спартакиада школьников «Любимому городу наши рекорды»  ТАБЛИЦА РОЗЫГРЫША первенства по баскетболу среди девушек</dc:title>
</cp:coreProperties>
</file>