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260013" cy="73802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36D3-711C-4D1D-BE39-7901FD925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923436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080" y="4266360"/>
            <a:ext cx="923436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8783-D94D-43D5-878C-670D89E7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08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4592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B30F-DD9F-4B3D-8284-E1DED7E31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6360" y="172224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58640" y="172224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080" y="426636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6360" y="426636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58640" y="4266360"/>
            <a:ext cx="297324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5C12-CCF5-4737-A444-71B67C54F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080" y="1722240"/>
            <a:ext cx="923436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5A25-E675-4635-86FE-AA9C3C8C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923436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FDE0-4689-4CDE-A2DE-CE7D3016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44A4-5064-429C-8141-BC23E2444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6A3F-6332-4C95-BD00-8C319623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080" y="295200"/>
            <a:ext cx="9234360" cy="57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2DFA-32D9-496F-8FA4-5FC332FA1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08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D0BB-376B-4295-981C-B9B9951D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45920" y="426636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3493-84D5-40D9-AE10-714FDBA0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08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5920" y="1722240"/>
            <a:ext cx="450612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080" y="4266360"/>
            <a:ext cx="9234360" cy="2323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850"/>
              </a:spcBef>
              <a:buNone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707C-5E13-4B98-A542-3F0412D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080" y="295200"/>
            <a:ext cx="9234360" cy="1230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4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080" y="1722240"/>
            <a:ext cx="9234360" cy="4870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61800" indent="-3618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85880" indent="-30168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2" marL="1208160" indent="-24120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1692360" indent="-241560">
              <a:spcBef>
                <a:spcPts val="850"/>
              </a:spcBef>
              <a:buClr>
                <a:srgbClr val="000000"/>
              </a:buClr>
              <a:buFont typeface="Arial"/>
              <a:buChar char="–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4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5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6" marL="2174760" indent="-241200">
              <a:spcBef>
                <a:spcPts val="850"/>
              </a:spcBef>
              <a:buClr>
                <a:srgbClr val="000000"/>
              </a:buClr>
              <a:buFont typeface="Arial"/>
              <a:buChar char="»"/>
              <a:tabLst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440" y="6721560"/>
            <a:ext cx="239400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04960" y="6721560"/>
            <a:ext cx="32511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53360" y="6721560"/>
            <a:ext cx="239544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90721-7F62-446E-BB7C-A54739AB5DBC}" type="slidenum">
              <a:rPr b="0" lang="en-US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38000" y="449280"/>
            <a:ext cx="8753400" cy="936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вление образования администрации города Снежинс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городская Спартакиада школьников общеобразовательных учреждени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Любимому городу - наши рекорды!»</a:t>
            </a:r>
            <a:br>
              <a:rPr sz="18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АБЛИЦА РОЗЫГРЫШ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ервенства по волейболу среди девушек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39720" y="4181040"/>
            <a:ext cx="7183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78000" y="1601640"/>
          <a:ext cx="9509040" cy="5397480"/>
        </p:xfrm>
        <a:graphic>
          <a:graphicData uri="http://schemas.openxmlformats.org/drawingml/2006/table">
            <a:tbl>
              <a:tblPr/>
              <a:tblGrid>
                <a:gridCol w="504720"/>
                <a:gridCol w="1944720"/>
                <a:gridCol w="934920"/>
                <a:gridCol w="863640"/>
                <a:gridCol w="865080"/>
                <a:gridCol w="863640"/>
                <a:gridCol w="855720"/>
                <a:gridCol w="861840"/>
                <a:gridCol w="936720"/>
                <a:gridCol w="878040"/>
              </a:tblGrid>
              <a:tr h="600840"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а  МОУ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у р 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1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5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___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6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зия 127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"/>
          <p:cNvSpPr/>
          <p:nvPr/>
        </p:nvSpPr>
        <p:spPr>
          <a:xfrm>
            <a:off x="482760" y="7056360"/>
            <a:ext cx="9372600" cy="5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лавный судья Спартакиады: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                 Т.Т. Гессель              Главный секретарь:                 В.М. Шаров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0720" y="233280"/>
            <a:ext cx="1366920" cy="978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802720" y="233280"/>
            <a:ext cx="1297080" cy="897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970360" y="27543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835440" y="3473280"/>
            <a:ext cx="647640" cy="649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4699080" y="4194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6"/>
          <a:stretch/>
        </p:blipFill>
        <p:spPr>
          <a:xfrm>
            <a:off x="5562720" y="4915080"/>
            <a:ext cx="647640" cy="637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7"/>
          <a:stretch/>
        </p:blipFill>
        <p:spPr>
          <a:xfrm>
            <a:off x="6426360" y="5634000"/>
            <a:ext cx="649080" cy="639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8"/>
          <a:stretch/>
        </p:blipFill>
        <p:spPr>
          <a:xfrm>
            <a:off x="7291440" y="6354720"/>
            <a:ext cx="6476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9680" y="233280"/>
            <a:ext cx="8721720" cy="11527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br>
              <a:rPr sz="17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правление образования администрации города Снежинск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городская Спартакиада школьников общеобразовательных учреждений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«Любимому городу - наши рекорды!»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ТАБЛИЦА РОЗЫГРЫША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ервенства по волейболу среди юношей </a:t>
            </a:r>
            <a:br>
              <a:rPr sz="12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39720" y="4181040"/>
            <a:ext cx="7183440" cy="188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" y="1601640"/>
          <a:ext cx="9577080" cy="5380200"/>
        </p:xfrm>
        <a:graphic>
          <a:graphicData uri="http://schemas.openxmlformats.org/drawingml/2006/table">
            <a:tbl>
              <a:tblPr/>
              <a:tblGrid>
                <a:gridCol w="510840"/>
                <a:gridCol w="1938600"/>
                <a:gridCol w="861840"/>
                <a:gridCol w="865080"/>
                <a:gridCol w="936720"/>
                <a:gridCol w="863640"/>
                <a:gridCol w="863640"/>
                <a:gridCol w="936720"/>
                <a:gridCol w="936360"/>
                <a:gridCol w="863640"/>
              </a:tblGrid>
              <a:tr h="600840"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/п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анда  МОУ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 у р ы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чк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17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1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5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26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мназия 127</a:t>
                      </a:r>
                      <a:r>
                        <a:rPr b="1" lang="en-US" sz="3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1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кола № 1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0 :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</a:rPr>
                        <a:t>2 :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6840" rIns="96840" tIns="48240" bIns="482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66960"/>
                          <a:tab algn="l" pos="1933560"/>
                          <a:tab algn="l" pos="2900520"/>
                          <a:tab algn="l" pos="3867120"/>
                          <a:tab algn="l" pos="4834080"/>
                          <a:tab algn="l" pos="5800680"/>
                          <a:tab algn="l" pos="6767640"/>
                          <a:tab algn="l" pos="7734240"/>
                          <a:tab algn="l" pos="8701200"/>
                          <a:tab algn="l" pos="9667800"/>
                          <a:tab algn="l" pos="10634760"/>
                        </a:tabLst>
                      </a:pPr>
                      <a:r>
                        <a:rPr b="1" lang="en-US" sz="4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840" marR="968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82760" y="7056360"/>
            <a:ext cx="9372600" cy="3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лавный судья Спартакиады:          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Т.Т. Гессель            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Главный секретарь:                В.М. Шар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0720" y="233280"/>
            <a:ext cx="1366920" cy="978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802720" y="233280"/>
            <a:ext cx="1297080" cy="897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562720" y="4842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7291440" y="628164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6426360" y="5562720"/>
            <a:ext cx="647640" cy="637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4699080" y="4122720"/>
            <a:ext cx="647640" cy="6382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3762360" y="3473280"/>
            <a:ext cx="720720" cy="6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8"/>
          <a:stretch/>
        </p:blipFill>
        <p:spPr>
          <a:xfrm>
            <a:off x="2898720" y="2754360"/>
            <a:ext cx="719280" cy="638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6:33:25Z</dcterms:created>
  <dc:creator>Гессель</dc:creator>
  <dc:description/>
  <dc:language>en-US</dc:language>
  <cp:lastModifiedBy>gessel</cp:lastModifiedBy>
  <dcterms:modified xsi:type="dcterms:W3CDTF">2011-03-17T03:50:41Z</dcterms:modified>
  <cp:revision>81</cp:revision>
  <dc:subject/>
  <dc:title>Управление образования администрации города Снежинска VI городская Спартакиада школьников «Любимому городу наши рекорды»  ТАБЛИЦА РОЗЫГРЫША первенства по баскетболу среди девушек</dc:title>
</cp:coreProperties>
</file>