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260013" cy="73802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9B4-47E7-4718-BDAB-82815BEC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34E-E7C2-4833-B506-1AD19A03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DA5-97FD-4337-9C59-81C8841C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36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36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227-9BB4-441C-97A6-5EBA23DD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60-0FA9-444B-8E6A-50D5B152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2BE-AFDD-42BD-AA4C-D7647421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B97-6EDF-4FE9-B953-6B34B35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EE2-E4F6-43FD-B681-6F59E8CF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95200"/>
            <a:ext cx="923436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23C-884D-40FC-9ECF-0CB8BBF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E96-4A20-4ECF-A7AB-6D3C71C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80E-A488-44C3-9BE1-0D7C2E4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52D-5C21-4D0F-9647-EACDA26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721560"/>
            <a:ext cx="32511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3360" y="6721560"/>
            <a:ext cx="239544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F40B9-A3A1-4126-A9FB-7B4B1BA6B9B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" y="449280"/>
            <a:ext cx="8753400" cy="93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8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девушек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8000" y="1601640"/>
          <a:ext cx="9509040" cy="5443560"/>
        </p:xfrm>
        <a:graphic>
          <a:graphicData uri="http://schemas.openxmlformats.org/drawingml/2006/table">
            <a:tbl>
              <a:tblPr/>
              <a:tblGrid>
                <a:gridCol w="504720"/>
                <a:gridCol w="1944720"/>
                <a:gridCol w="934920"/>
                <a:gridCol w="863640"/>
                <a:gridCol w="865080"/>
                <a:gridCol w="863640"/>
                <a:gridCol w="855720"/>
                <a:gridCol w="861840"/>
                <a:gridCol w="936720"/>
                <a:gridCol w="8780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2760" y="7056360"/>
            <a:ext cx="93726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          Т.Т. Гессель              Главный секретарь:                 В.М. Шар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0720" y="233280"/>
            <a:ext cx="136692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297080" cy="897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98720" y="2754360"/>
            <a:ext cx="863640" cy="718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762360" y="347328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26000" y="419400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491080" y="4915080"/>
            <a:ext cx="863640" cy="71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354720" y="563400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218360" y="6354720"/>
            <a:ext cx="86364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9680" y="233280"/>
            <a:ext cx="8721720" cy="115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17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юношей </a:t>
            </a:r>
            <a:br>
              <a:rPr sz="12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" y="1601640"/>
          <a:ext cx="9577080" cy="5380200"/>
        </p:xfrm>
        <a:graphic>
          <a:graphicData uri="http://schemas.openxmlformats.org/drawingml/2006/table">
            <a:tbl>
              <a:tblPr/>
              <a:tblGrid>
                <a:gridCol w="510840"/>
                <a:gridCol w="1938600"/>
                <a:gridCol w="861840"/>
                <a:gridCol w="865080"/>
                <a:gridCol w="936720"/>
                <a:gridCol w="863640"/>
                <a:gridCol w="863640"/>
                <a:gridCol w="936720"/>
                <a:gridCol w="936360"/>
                <a:gridCol w="8636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82760" y="7056360"/>
            <a:ext cx="9372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Т.Т. Гессель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екретарь:                В.М. Ша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33280"/>
            <a:ext cx="1366920" cy="97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297080" cy="89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898720" y="2754360"/>
            <a:ext cx="86364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691080" y="3402000"/>
            <a:ext cx="863280" cy="71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626000" y="4049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491080" y="477036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354720" y="5489640"/>
            <a:ext cx="863640" cy="71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7218360" y="6210360"/>
            <a:ext cx="863640" cy="718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33:25Z</dcterms:created>
  <dc:creator>Гессель</dc:creator>
  <dc:description/>
  <dc:language>en-US</dc:language>
  <cp:lastModifiedBy>gessel</cp:lastModifiedBy>
  <dcterms:modified xsi:type="dcterms:W3CDTF">2011-10-28T11:01:18Z</dcterms:modified>
  <cp:revision>82</cp:revision>
  <dc:subject/>
  <dc:title>Управление образования администрации города Снежинска VI городская Спартакиада школьников «Любимому городу наши рекорды»  ТАБЛИЦА РОЗЫГРЫША первенства по баскетболу среди девушек</dc:title>
</cp:coreProperties>
</file>