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0562B-75B3-478D-9B60-A19E3AFF8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859A1-47B3-4DC6-BCF7-B670D19BB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61B8C-7929-45E7-8ABC-FE1F28194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195C-8B26-426F-8CB5-749F63F8B8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981EC7-6E1D-41F1-8965-9558141E0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6478F-FBA4-4D3D-9B86-B3F1AA784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ADB35F-302B-4FB4-9FE4-1AEA61E37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9C151-4FA9-4FCC-9B91-1D03881530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16561-A89A-4888-BB38-E138896EE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6F74A-072B-4EF6-B290-E22E45D74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6FE60-D773-448B-8226-D35F5EC74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3CCCC-6DEA-4297-B6D7-5D10D0648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E37776-F458-404B-9E9F-2FC243473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2D527-1EDB-46A5-8746-73C2D905D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5023-000A-4465-8951-89573B667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2CCDA-D680-41A7-AA25-CB3FE12673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4BB9-555A-40A4-AFE2-B66B732BF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F49D9A-C02A-4581-823A-FFCDCC8C93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37A6F3-8300-45D4-BAD5-CC30DFA72B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C56E20-B067-41C9-82EB-4C4AE4F9AF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60962-6DE2-41FF-A0A0-0123200F0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D1B6E-6579-4798-A207-71D83F1CE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94F8A-82DC-4C72-B564-4534C1A15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05A358-F2D5-455B-B990-C0AFCE401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2C14A-66A2-4954-B151-778AAEB42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7B1211-11C0-492F-B86D-A5EEABB9F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C27834-9D00-45E2-8B5F-38D520303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7C8A51-D1B5-4588-AF4D-C7EC435B7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8B5B4-E63E-4755-93E5-15BFFE296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C6EB2D-65FF-4D34-8DB6-5795D1D233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6D83A-57CA-4378-AED0-2EB6F01C5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165B-2558-446A-BFAE-22424E431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68C60-8369-4734-833E-3C409C8E6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5FB1-1B6E-409A-9299-F26883668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D7EB0-C925-4F16-871E-CE9713C7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C6D7D-91B3-4782-8229-F5CA55959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2CDD42-CD7B-4944-87F0-100B9888542A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E7846-310E-452F-9899-0B80D8C4D368}" type="slidenum">
              <a:rPr b="0" lang="ru-RU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8.04.201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AB62F-783C-4410-97C3-7E7CAB7BB76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obrnadzor.gov.ru/common/upload/Tipovye_narusheniya_v_2017_godu.doc" TargetMode="External"/><Relationship Id="rId2" Type="http://schemas.openxmlformats.org/officeDocument/2006/relationships/hyperlink" Target="http://www.obrnadzor.gov.ru/common/upload/Tipovye_narusheniya_v_2017_godu.doc" TargetMode="External"/><Relationship Id="rId3" Type="http://schemas.openxmlformats.org/officeDocument/2006/relationships/hyperlink" Target="http://www.obrnadzor.gov.ru/common/upload/Tipovye_narusheniya_v_2017_godu.doc" TargetMode="External"/><Relationship Id="rId4" Type="http://schemas.openxmlformats.org/officeDocument/2006/relationships/hyperlink" Target="http://www.obrnadzor.gov.ru/common/upload/Tipovye_narusheniya_v_2017_godu.doc" TargetMode="External"/><Relationship Id="rId5" Type="http://schemas.openxmlformats.org/officeDocument/2006/relationships/hyperlink" Target="http://www.obrnadzor.gov.ru/common/upload/Tipovye_narusheniya_v_2017_godu.doc" TargetMode="External"/><Relationship Id="rId6" Type="http://schemas.openxmlformats.org/officeDocument/2006/relationships/hyperlink" Target="http://www.obrnadzor.gov.ru/common/upload/Tipovye_narusheniya_v_2017_godu.doc" TargetMode="External"/><Relationship Id="rId7" Type="http://schemas.openxmlformats.org/officeDocument/2006/relationships/hyperlink" Target="http://www.obrnadzor.gov.ru/common/upload/Tipovye_narusheniya_v_2017_godu.doc" TargetMode="External"/><Relationship Id="rId8" Type="http://schemas.openxmlformats.org/officeDocument/2006/relationships/hyperlink" Target="http://www.obrnadzor.gov.ru/common/upload/Tipovye_narusheniya_v_2017_godu.doc" TargetMode="External"/><Relationship Id="rId9" Type="http://schemas.openxmlformats.org/officeDocument/2006/relationships/hyperlink" Target="http://www.obrnadzor.gov.ru/common/upload/Tipovye_narusheniya_v_2017_godu.doc" TargetMode="External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755280" y="1628640"/>
            <a:ext cx="777564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Book Antiqua"/>
              </a:rPr>
              <a:t>Особенности инновационной деятельности образовательной организации при реализации основной образовательной программы среднего общего образования и основных программ профессионального обуч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Box 3"/>
          <p:cNvSpPr/>
          <p:nvPr/>
        </p:nvSpPr>
        <p:spPr>
          <a:xfrm>
            <a:off x="1338120" y="101520"/>
            <a:ext cx="74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Book Antiqua"/>
              </a:rPr>
              <a:t>Государственное бюджетное учрежд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Book Antiqua"/>
              </a:rPr>
              <a:t>дополнительного профессионального образ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Book Antiqua"/>
              </a:rPr>
              <a:t>«Челябинский институт переподготовки и повышения квалифик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Book Antiqua"/>
              </a:rPr>
              <a:t>работников образов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1031" descr="чиппкро  знак"/>
          <p:cNvPicPr/>
          <p:nvPr/>
        </p:nvPicPr>
        <p:blipFill>
          <a:blip r:embed="rId1"/>
          <a:srcRect l="50157" t="0" r="0" b="0"/>
          <a:stretch/>
        </p:blipFill>
        <p:spPr>
          <a:xfrm>
            <a:off x="0" y="38160"/>
            <a:ext cx="971640" cy="842760"/>
          </a:xfrm>
          <a:prstGeom prst="rect">
            <a:avLst/>
          </a:prstGeom>
          <a:ln w="0">
            <a:noFill/>
          </a:ln>
        </p:spPr>
      </p:pic>
      <p:sp>
        <p:nvSpPr>
          <p:cNvPr id="126" name="Объект 6"/>
          <p:cNvSpPr/>
          <p:nvPr/>
        </p:nvSpPr>
        <p:spPr>
          <a:xfrm>
            <a:off x="1646280" y="5013360"/>
            <a:ext cx="747216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Солодкова Марина Ивановна</a:t>
            </a:r>
            <a:r>
              <a:rPr b="1" lang="ru-RU" sz="2000" spc="-1" strike="noStrike">
                <a:solidFill>
                  <a:srgbClr val="222268"/>
                </a:solidFill>
                <a:latin typeface="Cambr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первый проректор ГБУ ДПО ЧИППКРО, заместитель председателя Учебно-методического объединения в системе общего образования в Челябинской области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Отличник просвещения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55280" y="1628640"/>
            <a:ext cx="7775640" cy="273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66"/>
                </a:solidFill>
                <a:latin typeface="Book Antiqua"/>
              </a:rPr>
              <a:t>Особенности инновационной деятельности образовательной организации при реализации основной образовательной программы среднего общего образования и основных программ профессионального обучения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1338120" y="101520"/>
            <a:ext cx="7481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Book Antiqua"/>
              </a:rPr>
              <a:t>Государственное бюджетное учрежд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Book Antiqua"/>
              </a:rPr>
              <a:t>дополнительного профессионального образовани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Book Antiqua"/>
              </a:rPr>
              <a:t>«Челябинский институт переподготовки и повышения квалифика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66"/>
                </a:solidFill>
                <a:latin typeface="Book Antiqua"/>
              </a:rPr>
              <a:t>работников образов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1031" descr="чиппкро  знак"/>
          <p:cNvPicPr/>
          <p:nvPr/>
        </p:nvPicPr>
        <p:blipFill>
          <a:blip r:embed="rId1"/>
          <a:srcRect l="50157" t="0" r="0" b="0"/>
          <a:stretch/>
        </p:blipFill>
        <p:spPr>
          <a:xfrm>
            <a:off x="0" y="38160"/>
            <a:ext cx="971640" cy="842760"/>
          </a:xfrm>
          <a:prstGeom prst="rect">
            <a:avLst/>
          </a:prstGeom>
          <a:ln w="0">
            <a:noFill/>
          </a:ln>
        </p:spPr>
      </p:pic>
      <p:sp>
        <p:nvSpPr>
          <p:cNvPr id="154" name="Объект 6"/>
          <p:cNvSpPr/>
          <p:nvPr/>
        </p:nvSpPr>
        <p:spPr>
          <a:xfrm>
            <a:off x="1646280" y="5229360"/>
            <a:ext cx="7472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Солодкова Марина Ивановна</a:t>
            </a:r>
            <a:r>
              <a:rPr b="1" lang="ru-RU" sz="2000" spc="-1" strike="noStrike">
                <a:solidFill>
                  <a:srgbClr val="222268"/>
                </a:solidFill>
                <a:latin typeface="Cambria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первый проректор ГБУ ДПО ЧИППКРО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3366"/>
                </a:solidFill>
                <a:latin typeface="Book Antiqua"/>
              </a:rPr>
              <a:t>Отличник просвещения Р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95280" y="37152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Book Antiqua"/>
              </a:rPr>
              <a:t>Особенности инновационной деятельности образовательной организации при реализации основной образовательной программы среднего общего образования </a:t>
            </a:r>
            <a:br>
              <a:rPr sz="2200"/>
            </a:br>
            <a:r>
              <a:rPr b="1" lang="ru-RU" sz="2200" spc="-1" strike="noStrike">
                <a:solidFill>
                  <a:srgbClr val="003366"/>
                </a:solidFill>
                <a:latin typeface="Book Antiqua"/>
              </a:rPr>
              <a:t>и основных программ профессионального обуч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150840" y="1577880"/>
            <a:ext cx="8804160" cy="514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Book Antiqua"/>
              </a:rPr>
              <a:t>Инновации ФГОС среднего общего образов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Book Antiqua"/>
              </a:rPr>
              <a:t>изучение предметов на базовом и углублённом уровне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Book Antiqua"/>
              </a:rPr>
              <a:t>предполагается введение отличных от классно-урочной системы форм организации образовательного процесса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Book Antiqua"/>
              </a:rPr>
              <a:t>максимально актуализируются вопросы рационального распределения и использования кадровых, учебно-методических, финансовых и материально-технических ресурсов для обеспечения надлежащего качества образова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Book Antiqua"/>
              </a:rPr>
              <a:t>имеется возможность интеграции двух основных программ – среднего общего образования и профессионального обуч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rcRect l="0" t="12378" r="0" b="0"/>
          <a:stretch/>
        </p:blipFill>
        <p:spPr>
          <a:xfrm>
            <a:off x="0" y="0"/>
            <a:ext cx="468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46040" y="32544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Book Antiqua"/>
              </a:rPr>
              <a:t>Особенности инновационной деятельности образовательной организации при реализации основной образовательной программы среднего общего образования и основных программ профессионального обуч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233280" y="1700280"/>
            <a:ext cx="880272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Book Antiqua"/>
              </a:rPr>
              <a:t>Федеральный государственный образовательный стандарт среднего общего образования (далее – стандарт) допускает реализацию основных программ профессионального обучения на указанном уровне образования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Book Antiqua"/>
              </a:rPr>
              <a:t>«… образовательная организация обеспечивает реализацию учебных планов одного или нескольких профилей обучения при наличии необходимых условий профессионального обучения для выполнения определенного вида трудовой деятельности (профессии) в сфере технического и обслуживающего труда»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66"/>
                </a:solidFill>
                <a:latin typeface="Book Antiqua"/>
              </a:rPr>
              <a:t>К профилям обучения отнесены: естественнонаучный, гуманитарный, социально-экономический, технологический, универсальный профили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2" name="Picture 2" descr=""/>
          <p:cNvPicPr/>
          <p:nvPr/>
        </p:nvPicPr>
        <p:blipFill>
          <a:blip r:embed="rId1"/>
          <a:srcRect l="0" t="12378" r="0" b="0"/>
          <a:stretch/>
        </p:blipFill>
        <p:spPr>
          <a:xfrm>
            <a:off x="0" y="0"/>
            <a:ext cx="468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95280" y="31752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Book Antiqua"/>
              </a:rPr>
              <a:t>Особенности инновационной деятельности образовательной организации при реализации основной образовательной программы среднего общего образования и основных программ профессионального обуч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08000" y="1109520"/>
            <a:ext cx="8928000" cy="554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3366"/>
                </a:solidFill>
                <a:latin typeface="Book Antiqua"/>
                <a:ea typeface="Calibri"/>
              </a:rPr>
              <a:t>Необходимые условия профессионального о</a:t>
            </a:r>
            <a:r>
              <a:rPr b="0" lang="ru-RU" sz="2100" spc="-1" strike="noStrike">
                <a:solidFill>
                  <a:srgbClr val="003366"/>
                </a:solidFill>
                <a:latin typeface="Book Antiqua"/>
                <a:ea typeface="Calibri"/>
              </a:rPr>
              <a:t>бучения для выполнения определенного вида трудовой деятельности (профессии) в сфере технического и обслуживающего труда при интеграции программ: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100000"/>
              </a:lnSpc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Book Antiqua"/>
                <a:ea typeface="Calibri"/>
              </a:rPr>
              <a:t>наличие у общеобразовательной организации лицензии на право ведения образовательной деятельности по реализации основных образовательных программ профессионального обучения, так как лицензирование образовательной деятельности осуществляется, в том числе по профессиям, специальностям, направлениям подготовки (для профессионального образования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100000"/>
              </a:lnSpc>
              <a:buClr>
                <a:srgbClr val="003366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3366"/>
                </a:solidFill>
                <a:latin typeface="Book Antiqua"/>
                <a:ea typeface="Calibri"/>
              </a:rPr>
              <a:t>сформированность в общеобразовательной организации локальной нормативной базы, которая регламентирует реализацию основных образовательных программ профессионального обучения (перечень профессий рабочих, должностей служащих, по которым осуществляется профессиональное обучение, утвержден приказом Минобрнауки России от 02.07.2013 № 513)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2" descr=""/>
          <p:cNvPicPr/>
          <p:nvPr/>
        </p:nvPicPr>
        <p:blipFill>
          <a:blip r:embed="rId1"/>
          <a:srcRect l="0" t="12378" r="0" b="0"/>
          <a:stretch/>
        </p:blipFill>
        <p:spPr>
          <a:xfrm>
            <a:off x="0" y="0"/>
            <a:ext cx="468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95280" y="26496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Book Antiqua"/>
              </a:rPr>
              <a:t>Особенности инновационной деятельности образовательной организации при реализации основной образовательной программы среднего общего образования и основных программ профессионального обуч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0" y="1293480"/>
            <a:ext cx="9144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66"/>
                </a:solidFill>
                <a:latin typeface="Book Antiqua"/>
              </a:rPr>
              <a:t>Примерный перечень локальных актов, в которые должны быть внесены изменения, и (или) которые необходимо разработать дополнительн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95000"/>
              </a:lnSpc>
              <a:buClr>
                <a:srgbClr val="0033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Основная образовательная программа среднего общего образования, интегрированная с основной образовательной программой профессионального обучения (все составляющие программы должны учитывать одновременную реализацию двух основных программ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95000"/>
              </a:lnSpc>
              <a:buClr>
                <a:srgbClr val="0033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Положение о текущем  контроле успеваемости и промежуточной аттестации обучающихся (в т.ч. с учётом квалификационного экзамена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95000"/>
              </a:lnSpc>
              <a:buClr>
                <a:srgbClr val="0033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Календарный учебный график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95000"/>
              </a:lnSpc>
              <a:buClr>
                <a:srgbClr val="0033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Порядок индивидуального учёта результатов освоения обучающимися образовательных программ и поощрений обучающихся, а также хранение в архивах информации об этих результатах и поощрениях на бумажных и (или) электронных носителях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95000"/>
              </a:lnSpc>
              <a:buClr>
                <a:srgbClr val="0033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Порядок и основания перевода, отчисления и восстановления обучаю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95000"/>
              </a:lnSpc>
              <a:buClr>
                <a:srgbClr val="003366"/>
              </a:buClr>
              <a:buFont typeface="Book Antiqu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…</a:t>
            </a: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7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7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1"/>
          <a:srcRect l="0" t="12378" r="0" b="0"/>
          <a:stretch/>
        </p:blipFill>
        <p:spPr>
          <a:xfrm>
            <a:off x="0" y="0"/>
            <a:ext cx="468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95280" y="29196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Book Antiqua"/>
              </a:rPr>
              <a:t>Особенности инновационной деятельности образовательной организации при реализации основной образовательной программы среднего общего образования и основных программ профессионального обуч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108000" y="1339560"/>
            <a:ext cx="8928000" cy="55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66"/>
                </a:solidFill>
                <a:latin typeface="Book Antiqua"/>
              </a:rPr>
              <a:t>Итоговая аттестация в форме квалификационного экзамена проводится общеобразовательной организацией для определения соответствия полученных учащимися, прошедшими профессиональное обучение, знаний, умений и навыков, и установления на этой основе квалификационных разрядов, классов, категорий по соответствующим профессиям рабочих, должностям служащих.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66"/>
                </a:solidFill>
                <a:latin typeface="Book Antiqua"/>
              </a:rPr>
              <a:t>Квалификационный экзамен независимо от вида профессионального обучения включает в себя практическую квалификационную работу и проверку теоретических знаний в пределах квалификационных требований, указанных в квалификационных справочниках, и (или) профессиональных стандартах. К проведению квалификационного экзамена привлекаются представители работодателей, их объединений (не привлечение работодателей, их объединений к квалификационному экзамену может рассматриваться Рособнадзором как нарушение. 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3366"/>
                </a:solidFill>
                <a:latin typeface="Book Antiqua"/>
              </a:rPr>
              <a:t>(см. Репин А. О нарушениях, выявляемых Рособрнадзором // Ревизии и проверки финансово-хозяйственной деятельности государственных (муниципальных) учреждений. – 2018. –№ 5. – С. 17 - 29. 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1"/>
              </a:rPr>
              <a:t>www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2"/>
              </a:rPr>
              <a:t>.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3"/>
              </a:rPr>
              <a:t>obrnadzor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4"/>
              </a:rPr>
              <a:t>.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5"/>
              </a:rPr>
              <a:t>gov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6"/>
              </a:rPr>
              <a:t>.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7"/>
              </a:rPr>
              <a:t>ru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8"/>
              </a:rPr>
              <a:t>/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  <a:hlinkClick r:id="rId9"/>
              </a:rPr>
              <a:t>common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/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upload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/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Tipovye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_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narusheniya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_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v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_2017_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godu</a:t>
            </a:r>
            <a:r>
              <a:rPr b="0" lang="ru-RU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.</a:t>
            </a:r>
            <a:r>
              <a:rPr b="0" lang="en-US" sz="1900" spc="-1" strike="noStrike" u="sng">
                <a:solidFill>
                  <a:srgbClr val="0000ff"/>
                </a:solidFill>
                <a:uFillTx/>
                <a:latin typeface="Times New Roman"/>
                <a:ea typeface="Calibri"/>
              </a:rPr>
              <a:t>doc</a:t>
            </a:r>
            <a:r>
              <a:rPr b="0" lang="ru-RU" sz="1900" spc="-1" strike="noStrike">
                <a:solidFill>
                  <a:srgbClr val="003366"/>
                </a:solidFill>
                <a:latin typeface="Book Antiqua"/>
              </a:rPr>
              <a:t>)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2" descr=""/>
          <p:cNvPicPr/>
          <p:nvPr/>
        </p:nvPicPr>
        <p:blipFill>
          <a:blip r:embed="rId10"/>
          <a:srcRect l="0" t="12378" r="0" b="0"/>
          <a:stretch/>
        </p:blipFill>
        <p:spPr>
          <a:xfrm>
            <a:off x="0" y="0"/>
            <a:ext cx="468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95280" y="43164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Book Antiqua"/>
              </a:rPr>
              <a:t>Особенности инновационной деятельности образовательной организации при реализации основной образовательной программы среднего общего образования и основных программ профессионального обуч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08000" y="1483920"/>
            <a:ext cx="8928000" cy="516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При отборе профессией (должностей служащих) для реализации основной образовательной программы профессионального обучения в общеобразовательной организаци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7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107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следует отбирать такие профессии (должности служащих), для которых не установлены требования о наличии уровня образования, который не реализуется в общеобразовательных организациях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7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107000"/>
              </a:lnSpc>
              <a:spcBef>
                <a:spcPts val="499"/>
              </a:spcBef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необходимо учитывать требования трудового законодательства, а именно, наличие ограничений и запретов на труд для лиц в возрасте до восемнадцати лет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4" name="Picture 2" descr=""/>
          <p:cNvPicPr/>
          <p:nvPr/>
        </p:nvPicPr>
        <p:blipFill>
          <a:blip r:embed="rId1"/>
          <a:srcRect l="0" t="12378" r="0" b="0"/>
          <a:stretch/>
        </p:blipFill>
        <p:spPr>
          <a:xfrm>
            <a:off x="0" y="0"/>
            <a:ext cx="468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95280" y="29988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Book Antiqua"/>
              </a:rPr>
              <a:t>Особенности инновационной деятельности образовательной организации при реализации основной образовательной программы среднего общего образования и основных программ профессионального обуч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108000" y="1413000"/>
            <a:ext cx="8928000" cy="507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При формировании учебных планов на уровне среднего общего образования необходимо ориентироваться на определенную сферу профессиональной деятельности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естественнонаучный профиль – медицина, биотехнологии и др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технологический профиль – производственная, инженерная и информационная сферы деятельности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гуманитарный профиль – педагогика, психология, общественные отношения и др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социально-экономический профиль – профессии, связанные с социальной сферой, финансами и экономикой, с обработкой информации, с такими сферами деятельности, как управление, предпринимательство, работа с финансами и др.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250920" algn="just">
              <a:lnSpc>
                <a:spcPct val="95000"/>
              </a:lnSpc>
              <a:buClr>
                <a:srgbClr val="0033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66"/>
                </a:solidFill>
                <a:latin typeface="Book Antiqua"/>
              </a:rPr>
              <a:t>универсальный профиль – ориентирован, в первую очередь, на обучающихся, чей выбор «не вписывается» в рамки заданных выше профилей. При реализации профессионального обучения в рамках данного профиля обучающимся предоставляется возможность осуществить профессиональные пробы по одной или нескольким профессиям по выбору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1"/>
          <a:srcRect l="0" t="12378" r="0" b="0"/>
          <a:stretch/>
        </p:blipFill>
        <p:spPr>
          <a:xfrm>
            <a:off x="0" y="0"/>
            <a:ext cx="468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5280" y="326880"/>
            <a:ext cx="85694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66"/>
                </a:solidFill>
                <a:latin typeface="Book Antiqua"/>
              </a:rPr>
              <a:t>Особенности инновационной деятельности образовательной организации при реализации основной образовательной программы среднего общего образования и основных программ профессионального обучения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233280" y="1484280"/>
            <a:ext cx="8786880" cy="50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7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3366"/>
                </a:solidFill>
                <a:latin typeface="Book Antiqua"/>
              </a:rPr>
              <a:t>Проблематика инновационной деятельности школ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7000"/>
              </a:lnSpc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3366"/>
                </a:solidFill>
                <a:latin typeface="Book Antiqua"/>
              </a:rPr>
              <a:t>на 2019-2021 годы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7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7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Book Antiqua"/>
              </a:rPr>
              <a:t>Интеграция основной образовательной программы среднего общего образования и основной программы профессионального обуче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7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Book Antiqua"/>
              </a:rPr>
              <a:t>Сетевое взаимодействие при реализации основной образовательной программы среднего общего образования и основной программы профессионального обучения, в том числе в рамках реализации положений государственной программы «Национальная технологическая инициатива»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rcRect l="0" t="12378" r="0" b="0"/>
          <a:stretch/>
        </p:blipFill>
        <p:spPr>
          <a:xfrm>
            <a:off x="0" y="0"/>
            <a:ext cx="468360" cy="10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6T04:00:58Z</dcterms:created>
  <dc:creator>Solodkova_mi</dc:creator>
  <dc:description/>
  <dc:language>en-US</dc:language>
  <cp:lastModifiedBy>Коптелов</cp:lastModifiedBy>
  <dcterms:modified xsi:type="dcterms:W3CDTF">2018-11-09T07:50:59Z</dcterms:modified>
  <cp:revision>55</cp:revision>
  <dc:subject/>
  <dc:title>Основные направления деятельности стажерских и базовых площадок Челябинской области в рамках реализации мероприятий ФЦРПО по развитию общего и дошкольного образования</dc:title>
</cp:coreProperties>
</file>